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7BC0-C506-4518-992B-E1EA43B8E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334D-6D5E-49D8-83AD-92ADF798A661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not only creators of automatically controlled systems; these systems also exist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ar antenna (input is a low-power rotation of a knob, and output is a rotation which needs a large amount of powe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control (input: position on thermostat, output is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system transient s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C77C-0BCB-4F5C-BE94-16CDCBAF0B92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is a very heart of control. Three examples are given for feedback systems in the book. Students are encouraged to read Section 1.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C65-C5E4-4436-8EDC-FD038DB3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688-9774-46F3-AE84-70E8F9CA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5E5C4-0D07-46C7-91C4-3004F47F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D16B1-0372-4370-B534-550C38C2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B4B5C-417A-4285-A288-34130030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B4309-7D3D-48E9-83C6-A6BDA9B1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330F9-C83D-49AA-A305-4D131C4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13E2D-BACB-4169-8DDF-D3D007CD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86A2E-173C-4CB7-8033-C8C7EAE2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154C9-131C-4EC9-BAEB-A12AC859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81626-CAEB-4CAB-9C39-EE30993F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D801C-E499-44E6-AF0B-718A3764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A05-19FE-4F52-A4BC-355FF01E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B72DC-07EF-40F6-9DA7-6B4FC377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17514-D543-479C-9CBA-0272EC56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52230-676A-49F0-AD3B-1D2873CA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ECFD0-FB80-4C4B-A7E9-8239AF86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5DAB9-1589-4DBA-8387-272ACB77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9BE5A-47C5-4204-AC61-88934E68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3CD2F-D852-414D-8C23-BBB07AC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91550-1975-4DDB-91E7-D0656D1C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A27D5-50D4-480D-86FE-15248C4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8F4C4-FD60-464A-AD57-06CB2226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B10-936D-4D2A-B4C0-53DD31AF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FC927-40DE-44C8-9099-8AF9B299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3CA05-6BF9-4162-B376-D4D53E4E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12092-DEAA-44A0-B94E-8CAFDB4D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DE45A-9A76-4313-8406-5426A6CE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D62ED-5838-4C72-BADB-74A3A83E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7C628-45B0-490D-9A10-F5753A6A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DBCBF-6355-48C8-95B2-8E966316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763D2-BC96-4DCD-9324-A31971A0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BADDE-BE3A-4394-A60C-6430EE6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84DA9-C4DB-46EB-AD15-973EAC2F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2C83-61E1-483F-A03F-B421DA28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2239B-F159-431B-BB9A-BD331FC3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38E80-FA8E-4660-BB6F-2EEC9B42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25F2F-9774-449E-BF52-5B350D62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372D0-9CF1-4BB9-AB7A-55EAFF85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ABCB7-642A-41FC-9809-6DC521CD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A693A-5375-44D0-8217-514E722B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0BD99-72D9-49E4-AEC9-A1A5134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D2F5D-0D53-4354-96EF-6D1D3E69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6E640-625F-49A9-BF8F-E5E1CB81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00357-9180-4DB2-B8F6-1C9925FA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B435-5B6C-426B-997A-56F2B1D5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932D0-EF01-45EF-A36D-D083067A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B5F27-3BD4-45B9-B7C5-3336CA5D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8E8A8-2623-4EB9-9C3C-D6F365AF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462D8-D4B3-4781-A2C2-09EF00B6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3C5AA-1C66-4037-91F3-0F9EA7CE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2210-0A65-435D-A311-64029973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0D47-6299-46FB-ACDB-0129B963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9BA6-97C9-4670-8F92-4C1D3FAB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0FAE-A571-4D3F-B4E9-950795E3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C57A-F6B8-405F-AC2E-9ECC925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33E-7886-4C16-A3A0-B93AE7E2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AD9D-975B-48EF-8987-A86EEED2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B538-C0A9-43FE-A187-A1FBF33F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4569-41F6-40B2-820F-14D8FA73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DCB1-3372-4891-9494-3CC7E8D1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B8F9-FB6D-40DA-967A-9EDAFCB0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163F-D045-4CF0-817D-6A351D98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E9C4-FA79-4409-B085-59D1170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0326-2C5B-4BEF-A603-ED92B24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0CE8-8E97-4BCA-8243-4A66B4A5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64F3-6BD7-4061-AAA8-7B925958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488-B7F4-4F85-A7FD-21E81C2C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A730-F4C3-40C5-8A16-20C9AA61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7233-FF12-489D-B284-ACE8081B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C4E5-05DE-41F9-A040-8FEFE999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675A-35DA-4CC1-BD69-98C4193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476C-EC39-4D9B-BE89-2C33110C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2CDB-1FC4-45C7-BC6F-ECEEC2D1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0AAF-881B-4156-8646-82177C55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2DC5-0659-428E-A000-8B4AF5F1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EB5C4-D43B-480A-A24A-3F793B98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F48C-7B2C-471F-9362-34C50439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6E2-8B65-4882-A59D-F119D463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C7EE-7BF6-4A14-A1B2-B04C09F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33C0-CE8C-46A0-B4BC-1D5503CD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60EE-D0F7-42BE-AB5E-5E6CDD82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F66C-B7A3-44E3-85A4-28035D3A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F75B-86A1-4BB8-97CB-AEF22C2C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CAEA6-CC75-4279-8DAE-5A77CB37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AFB4-4F7D-4BB8-A607-13591135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BB5E-7939-4610-AC9D-F37387A2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E18B9-06C4-410C-A72C-1F418D2C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6A778-2F24-4A44-A3BA-43CAF510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285-0C5D-4553-8EA8-97DBE8CB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A311C-E207-413E-B9FD-439D2952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E445-A681-48E7-A244-09054038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06D9-40F0-4BBD-82B8-C4F9C15D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DBE9-7CDB-4FC3-AB94-C5C80D8A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861D7-7BF3-4ED3-A263-E8D3EF1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6C1D9-7F3E-41CA-9E27-B478DBD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6731C-F67C-4737-A407-1BA1284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AD0A-716E-476F-8CCC-F9640CE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B23B8-6D85-4F43-94C2-FE0E0116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D392-B1A9-42C2-A128-8E9DF6B4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0B1-0B44-4EE9-8DEB-08175A2E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0D025-EA34-45E8-96AF-808D4DC5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7FD0F-A08C-47A0-8AA2-49C7CD56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D796-2C04-4EA7-89D1-34C18C93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748F5-5E19-4D94-AD1B-BF27AE5E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DA17A-2A65-44E7-B9AE-E9092B0E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090AC-AE80-4F60-95AF-67484162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63FAC-724C-4636-A16D-A2505F98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13574-68E2-4239-BB12-7BC47606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36230-8CA0-47C6-A901-1591804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56AD0-E532-48EF-92C8-88CF2FF5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940-6DF4-4A76-975D-9BDE95E3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6351-32AC-4567-985C-AC24E394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D418-123A-4E5B-90EC-859A1640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14B5-EF92-40C2-81F5-476BF909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C84C1-1562-4143-8BC1-D5512341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2AA19-AB72-4C44-8D97-B4CB5FF9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63E41-F589-4985-9F10-14DACD13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3996-5D86-4D72-9C06-5B388AF1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E5A70-02AD-4E41-B770-66CE93C5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6FA60-D9A2-4E1F-B2CA-DAD00188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EB1DA-524B-4BE8-B834-9CF46FEF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5D7-7899-4842-A82F-3FCFE115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3CAA5-0899-451C-A051-8874CBE6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6A2F4-A07E-4C0A-9907-2A3FD494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2F5E3-DBBD-4740-BB67-19FAFBD2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7F5F-3FDF-4041-9A0B-BDF86B77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4C92E-C455-44CC-A178-89208BB5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A135B-31AF-4812-AC28-DB0B6AB6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DC7CD-D397-4D3D-A76D-534CACE4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207AA-B764-41EA-AD39-D53576E7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69C1D-A718-4B36-BB80-17A04473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C71B9-1C31-4687-B405-4EFC8F19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3BE-4B97-4827-AE63-DC334DC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2D8DE-53FE-4A42-A901-A9EE8948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8867F-1FF7-4C6C-BC5A-0B16CF87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DE1D2-B38A-4B97-B9B2-CBE9A922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DBC1E-C54C-44F4-808C-12AF871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95345-B69B-4C99-BCE8-14231994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BC6DB-0093-4659-891B-B6A2887C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8338C-A120-4B1D-952C-5B9784AA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2A5C3-DB2B-494B-83F5-1E440F72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CABFE-C5B6-493F-85E4-1BCE0F7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ACB1F-4D32-4F6C-B59A-564D9FC6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4EF1-B77C-43B2-AEB7-3F79CCB0B0CA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5735520" y="0"/>
            <a:ext cx="43668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6700-7058-4BB9-ABC3-B024CA0DB200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792C-2CDE-42E0-949F-C5B29CD7FEF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C2B-59FF-4293-91C9-D26C8EB81497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4"/>
          <a:stretch/>
        </p:blipFill>
        <p:spPr>
          <a:xfrm>
            <a:off x="2757600" y="5943600"/>
            <a:ext cx="59508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3526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CD8-1532-4939-9235-1A31FB79E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E941-45DE-4CED-85AE-9F8B000FEB8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5BC6-C705-45C1-AA32-3100992422D8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C4A1-3ADE-47AC-8D58-45334962180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DA29-C9C2-4C27-9B78-FE830FD5A766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059-FEB4-4533-AA2A-A6ADAE33B47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7493-9B1D-43B0-B57D-9CF2A693D583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827F-38C5-478F-A265-B5C78E9C7EA1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C:/Guo_2002/UCF_course/Guo_control/ATRV1_Fast.mpg" TargetMode="External"/><Relationship Id="rId2" Type="http://schemas.microsoft.com/office/2007/relationships/media" Target="file:///C:/Guo_2002/UCF_course/Guo_control/ATRV1_Fast.mpg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Introduction to Control</a:t>
            </a:r>
            <a:r>
              <a:rPr b="0" lang="ar-SA" sz="4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264c"/>
                </a:solidFill>
                <a:latin typeface="Times New Roman"/>
              </a:rPr>
              <a:t> Engineering 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Footer Placeholder 1"/>
          <p:cNvSpPr/>
          <p:nvPr/>
        </p:nvSpPr>
        <p:spPr>
          <a:xfrm>
            <a:off x="33526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osed-loop control with sensor feedb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8" name="Line 1028"/>
          <p:cNvSpPr/>
          <p:nvPr/>
        </p:nvSpPr>
        <p:spPr>
          <a:xfrm>
            <a:off x="609480" y="3657600"/>
            <a:ext cx="129564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9" name="Oval 1029"/>
          <p:cNvSpPr/>
          <p:nvPr/>
        </p:nvSpPr>
        <p:spPr>
          <a:xfrm>
            <a:off x="1905120" y="3505320"/>
            <a:ext cx="304560" cy="30456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0" name="Line 1031"/>
          <p:cNvSpPr/>
          <p:nvPr/>
        </p:nvSpPr>
        <p:spPr>
          <a:xfrm>
            <a:off x="2209680" y="3657600"/>
            <a:ext cx="53352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1" name="Text Box 1033"/>
          <p:cNvSpPr/>
          <p:nvPr/>
        </p:nvSpPr>
        <p:spPr>
          <a:xfrm>
            <a:off x="2755080" y="3429000"/>
            <a:ext cx="1436400" cy="459720"/>
          </a:xfrm>
          <a:prstGeom prst="rect">
            <a:avLst/>
          </a:prstGeom>
          <a:noFill/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2" name="Line 1034"/>
          <p:cNvSpPr/>
          <p:nvPr/>
        </p:nvSpPr>
        <p:spPr>
          <a:xfrm>
            <a:off x="4191120" y="3657600"/>
            <a:ext cx="83808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3" name="Text Box 1035"/>
          <p:cNvSpPr/>
          <p:nvPr/>
        </p:nvSpPr>
        <p:spPr>
          <a:xfrm>
            <a:off x="5045400" y="3419640"/>
            <a:ext cx="808560" cy="459720"/>
          </a:xfrm>
          <a:prstGeom prst="rect">
            <a:avLst/>
          </a:prstGeom>
          <a:noFill/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lan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4" name="Line 1037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5" name="Line 1038"/>
          <p:cNvSpPr/>
          <p:nvPr/>
        </p:nvSpPr>
        <p:spPr>
          <a:xfrm>
            <a:off x="6705720" y="3657600"/>
            <a:ext cx="0" cy="1219320"/>
          </a:xfrm>
          <a:prstGeom prst="line">
            <a:avLst/>
          </a:prstGeom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6" name="Line 1039"/>
          <p:cNvSpPr/>
          <p:nvPr/>
        </p:nvSpPr>
        <p:spPr>
          <a:xfrm flipH="1">
            <a:off x="5866920" y="4876920"/>
            <a:ext cx="83844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7" name="Text Box 1040"/>
          <p:cNvSpPr/>
          <p:nvPr/>
        </p:nvSpPr>
        <p:spPr>
          <a:xfrm>
            <a:off x="2661120" y="4460760"/>
            <a:ext cx="3166200" cy="825480"/>
          </a:xfrm>
          <a:prstGeom prst="rect">
            <a:avLst/>
          </a:prstGeom>
          <a:noFill/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easurement and sign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ransmission syste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8" name="Line 1042"/>
          <p:cNvSpPr/>
          <p:nvPr/>
        </p:nvSpPr>
        <p:spPr>
          <a:xfrm flipH="1">
            <a:off x="2057040" y="4876920"/>
            <a:ext cx="609480" cy="0"/>
          </a:xfrm>
          <a:prstGeom prst="line">
            <a:avLst/>
          </a:prstGeom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9" name="Line 1043"/>
          <p:cNvSpPr/>
          <p:nvPr/>
        </p:nvSpPr>
        <p:spPr>
          <a:xfrm flipV="1">
            <a:off x="2057400" y="3809880"/>
            <a:ext cx="0" cy="106704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0" name="Text Box 1044"/>
          <p:cNvSpPr/>
          <p:nvPr/>
        </p:nvSpPr>
        <p:spPr>
          <a:xfrm>
            <a:off x="670320" y="31654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r(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1" name="Text Box 1045"/>
          <p:cNvSpPr/>
          <p:nvPr/>
        </p:nvSpPr>
        <p:spPr>
          <a:xfrm>
            <a:off x="1661760" y="3165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2" name="Text Box 1049"/>
          <p:cNvSpPr/>
          <p:nvPr/>
        </p:nvSpPr>
        <p:spPr>
          <a:xfrm>
            <a:off x="21193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3" name="Text Box 1050"/>
          <p:cNvSpPr/>
          <p:nvPr/>
        </p:nvSpPr>
        <p:spPr>
          <a:xfrm>
            <a:off x="4175640" y="3165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4" name="Text Box 1051"/>
          <p:cNvSpPr/>
          <p:nvPr/>
        </p:nvSpPr>
        <p:spPr>
          <a:xfrm>
            <a:off x="6766200" y="30891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5" name="Text Box 1053"/>
          <p:cNvSpPr/>
          <p:nvPr/>
        </p:nvSpPr>
        <p:spPr>
          <a:xfrm>
            <a:off x="2118960" y="32385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64c"/>
                </a:solidFill>
                <a:latin typeface="Times New Roman"/>
              </a:rPr>
              <a:t>e(t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ponse of a position control system showing effect of high and low controller gain on the output respon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286680" cy="4114800"/>
          </a:xfrm>
          <a:prstGeom prst="rect">
            <a:avLst/>
          </a:prstGeom>
          <a:ln w="0">
            <a:noFill/>
          </a:ln>
        </p:spPr>
      </p:pic>
      <p:sp>
        <p:nvSpPr>
          <p:cNvPr id="569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at is the Control System Engineer trying to achiev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irst, understand the broader picture of th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pplication to best apply a suitable control system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 good control system is a system that wil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generate a response quickly and without oscillation (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good transient respons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have low error once settled (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good steady-state respons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nd will not oscillate wildly or damage that system (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stability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y Control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4343400" y="1905120"/>
            <a:ext cx="3276720" cy="4497840"/>
            <a:chOff x="4343400" y="1905120"/>
            <a:chExt cx="3276720" cy="4497840"/>
          </a:xfrm>
        </p:grpSpPr>
        <p:pic>
          <p:nvPicPr>
            <p:cNvPr id="514" name="Picture 4" descr=""/>
            <p:cNvPicPr/>
            <p:nvPr/>
          </p:nvPicPr>
          <p:blipFill>
            <a:blip r:embed="rId1"/>
            <a:stretch/>
          </p:blipFill>
          <p:spPr>
            <a:xfrm>
              <a:off x="4343400" y="1905120"/>
              <a:ext cx="326376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5"/>
            <p:cNvSpPr/>
            <p:nvPr/>
          </p:nvSpPr>
          <p:spPr>
            <a:xfrm>
              <a:off x="4343400" y="609588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Arial"/>
                </a:rPr>
                <a:t>Photo © Hank Morgan/Rainbow/PNI.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516" name="Text Box 9"/>
          <p:cNvSpPr/>
          <p:nvPr/>
        </p:nvSpPr>
        <p:spPr>
          <a:xfrm>
            <a:off x="458280" y="1905120"/>
            <a:ext cx="369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ver was build to wor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 contaminated area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7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&#9;pict5.jpg                                                      000251EA&#10;Lynne's HD                     B01DD00D:"/>
          <p:cNvPicPr/>
          <p:nvPr/>
        </p:nvPicPr>
        <p:blipFill>
          <a:blip r:embed="rId1"/>
          <a:stretch/>
        </p:blipFill>
        <p:spPr>
          <a:xfrm>
            <a:off x="1066680" y="19051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D:\faculty_apply_ORNL\facultyapplications\CentralFlorida\Dozing.gif"/>
          <p:cNvPicPr/>
          <p:nvPr/>
        </p:nvPicPr>
        <p:blipFill>
          <a:blip r:embed="rId2"/>
          <a:stretch/>
        </p:blipFill>
        <p:spPr>
          <a:xfrm>
            <a:off x="5105520" y="1905120"/>
            <a:ext cx="2819160" cy="2114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D:\faculty_apply_ORNL\facultyapplications\CentralFlorida\site_clearance.jpg"/>
          <p:cNvPicPr/>
          <p:nvPr/>
        </p:nvPicPr>
        <p:blipFill>
          <a:blip r:embed="rId3"/>
          <a:stretch/>
        </p:blipFill>
        <p:spPr>
          <a:xfrm>
            <a:off x="5029200" y="4495680"/>
            <a:ext cx="3200400" cy="18162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8"/>
          <p:cNvSpPr/>
          <p:nvPr/>
        </p:nvSpPr>
        <p:spPr>
          <a:xfrm>
            <a:off x="685800" y="4876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obots used in surface mining,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lanetary explor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22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0720" y="2819520"/>
            <a:ext cx="3581280" cy="244152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bile robots lead-follow exampl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5181480" y="4419720"/>
            <a:ext cx="3200400" cy="1790640"/>
          </a:xfrm>
          <a:prstGeom prst="rect">
            <a:avLst/>
          </a:prstGeom>
          <a:ln w="0">
            <a:noFill/>
          </a:ln>
        </p:spPr>
      </p:pic>
      <p:sp>
        <p:nvSpPr>
          <p:cNvPr id="526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y Control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dern society have sophisticated control systems which are crucial to their successful operation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easons to build control system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Power amplifica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emote contro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nvenience of input for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mpensation for disturbance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29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at is a Control System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685800" y="2665440"/>
            <a:ext cx="7772400" cy="218916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990720" y="49528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mplified description of a control syste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3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ynamic Respon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5" name="Picture 1028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36050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1030"/>
          <p:cNvSpPr/>
          <p:nvPr/>
        </p:nvSpPr>
        <p:spPr>
          <a:xfrm>
            <a:off x="3657600" y="4495680"/>
            <a:ext cx="1981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7" name="Text Box 1031"/>
          <p:cNvSpPr/>
          <p:nvPr/>
        </p:nvSpPr>
        <p:spPr>
          <a:xfrm rot="16207200">
            <a:off x="611280" y="44172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8" name="Rectangle 1032"/>
          <p:cNvSpPr/>
          <p:nvPr/>
        </p:nvSpPr>
        <p:spPr>
          <a:xfrm>
            <a:off x="990720" y="3276720"/>
            <a:ext cx="228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9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381880" cy="52434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lock diagrams of control systems: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pen-loop system;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osed-loop sys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2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eedbac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eedback is a key tool that can be used to modify the behavior of a syste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s behavior altering effect of feedback is a key mechanism that control engineers exploit deliberately to achieve the objective of acting on a system to ensure that the desired performance specifications are achieved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5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7:07:37Z</dcterms:created>
  <dc:creator>Yi Guo</dc:creator>
  <dc:description/>
  <dc:language>en-US</dc:language>
  <cp:lastModifiedBy>Zeyad Al-Obaidi</cp:lastModifiedBy>
  <dcterms:modified xsi:type="dcterms:W3CDTF">2019-10-21T06:55:40Z</dcterms:modified>
  <cp:revision>54</cp:revision>
  <dc:subject/>
  <dc:title>Introduction to Control</dc:title>
</cp:coreProperties>
</file>