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13.png" ContentType="image/png"/>
  <Override PartName="/ppt/media/image10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dt" idx="3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ftr" idx="3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 type="sldNum" idx="3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A80B6-1E54-4951-BF2E-A33137E17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FD468-DEF0-4000-A9C6-6408621D69E1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are not only creators of automatically controlled systems; these systems also exist in nature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ar antenna (input is a low-power rotation of a knob, and output is a rotation which needs a large amount of power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bo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ure control (input: position on thermostat, output is he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wer system transient stabi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68076-AA32-4905-953D-E63274ACFAA7}" type="slidenum">
              <a:rPr b="0" lang="en-US" sz="1200" spc="-1" strike="noStrike">
                <a:solidFill>
                  <a:srgbClr val="00264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eedback is a very heart of control. Three examples are given for feedback systems in the book. Students are encouraged to read Section 1.2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0B46-EAAF-4B69-BBB8-60563270D5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D578-4D55-4DFB-827E-A6B9B237F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A984EB-5D4F-4E17-A506-AF042587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F1708F-C07E-41D6-A271-5B9F94B0F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3E43E-74F4-4D6F-AE9E-93FA76C0C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CE2443-FA06-40CA-BB64-B4A15BD64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1A0C3B-9FCD-4082-B816-EEE72763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D98576-9D18-423E-A6D8-9C0F9F662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AFF600-340A-4452-BFBB-9ADCE6699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6F577-B3E3-4C7A-BDEC-1BE8BE758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CF152C-182B-4CE0-9BD9-0273988E6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6CA4BE-E906-407B-A2E6-5D0CDD75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3D869-0C45-4AA6-A449-E91B1E5EF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E66F5D-170E-4EA2-9CAE-CF1AEEC6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A30B6F-DC1F-4D98-A4E0-5055F4D21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D678D-3A81-48C0-9559-915DF3E91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731162-ECAA-4ED4-B392-4B055B751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9980BC-2E25-462D-B1E1-230587116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82A1A7B-436E-4472-B792-BF774455E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26E3C-9F17-4F67-9D8D-A33817F7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45CD04-57C9-4493-93D8-3C2B31F6B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85F87C-B600-4DE3-B694-4E79939AC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EA9D14-05ED-4EAD-AB15-5657F627D3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CCEC9-1780-40ED-8ECD-0288D79B0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D7867-9050-4F52-AAE9-B9EF3CE50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E4B0AF9-92C7-4BAD-A111-9C28DFEA8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83F61C-E5C5-4507-8DA4-D0C2357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AB6F79-7EC7-4863-8279-2E7F75BEF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906015-541A-4116-B8A3-35383EC84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41E8B-E8FD-4997-B5E5-3F4002A8D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056C48D-CDE3-4BB8-8189-40CA34121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B1DBE9-5F3F-4A24-88B9-59A592941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99ABAC-3AA8-42A2-A899-DA6D6D350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3EE03D-5582-499D-A129-12FD29118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F074-2D88-4F41-B707-21A8BE22C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E0A3C8-A545-4D3F-8740-2D038309A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5F2B01-21D9-4C9C-A46F-6C38BF31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1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5029AD-7B2F-430B-AC5F-239208149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6B109C-2FE7-4DE3-81AD-CF57FC1F5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9A6893-53CB-411C-8DBB-DE9744EB2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E8380B-6128-4C4C-A7E6-6BF096E42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F69DC3-3827-4632-8123-329C264D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34CFEE-D002-4F7A-8A78-480EB1D5D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091BC4-8653-4597-860E-290FA59FB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DC2BA-27B1-4C1D-AEE0-C07FB826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00F3F-3BAE-4A2E-B3A2-EF3C5CEF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ED3DAE-0990-4ED7-9B07-8DBDE5458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409556-FE96-4945-A445-17BCD6163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229FC4-8DD2-4345-8AE4-77F475F39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CC1A89-2DCB-4969-8676-CAFE9933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D7B7A4-7F08-4485-AAAE-327CF9B52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2C1D8-1854-438A-AE37-5D5A05BE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E9805-B516-4221-B0B5-A989B1CE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7B308-85AB-4075-8919-A5F88F4A6B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4E631-D1E1-43E6-82C0-031D918E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09171-9428-4DA5-A936-3AEF0BFF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FAE-E823-4EA2-84F7-42BA3593E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50468-DB6B-45C7-A174-F9C8FBC96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D7968-2C82-4CCD-A3DF-D808C556A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82FD-5B5B-40AB-92A8-81728A3EB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31D71-6BB7-406B-AEDA-F01ABBF54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F9C1E-43F5-4841-B2E0-B3BC13375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2FFE-61EC-49E4-A0E5-E533C31C4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9BCDA5-50F9-4BF5-A11C-B5BB5830D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EB90F-F0C2-447B-B41F-D5D3E217D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BEC2B-4BEC-43D5-AC65-72A74A6AD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73061-56BA-49C9-991C-0E52A5BB6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341E-BBB4-44C0-95FA-163DD3BC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449D00-9109-4628-A68A-0217D7D7F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BDD336-9396-4DCA-BB4B-8735023D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7A858F-30E1-4A52-B57D-E2E4BFAA5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487F99-316E-4FE6-9E9E-364E92CCE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7C789-8B16-40D1-B018-A2988B052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A2EA8C-D940-4BE5-BF74-CE2840C4A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C5BDF-B460-4375-B8A6-60626968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2C95FA-AD9B-4F15-8189-1E29E2E4D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CDFE16-7518-4CE0-A224-07C93B17A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25B086-D98A-4C62-8133-18841BFEC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1E2C6-0151-4D90-927E-941ED4515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3C5E77-771A-460A-92D0-9D256CA0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F5330-9175-4955-8BBD-5A8F0E2EA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FD34C3-5C89-4101-8E5F-D8DB232D0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48B66B-4770-4DFB-90EC-FFF8FAC10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0F8616-AD86-4308-B751-532E8B84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5E964A-9F47-42E5-9DDE-66B0805FE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F22F7-85F4-413D-B825-2E5D92BC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D422-BBEB-4250-A798-B44823B98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F5084-E1DA-4E5A-A725-7A75A6A0C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CA5918-5140-4681-8228-DCC5695CD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5E33-BB98-4A47-9854-5A239A560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44758D-B981-4F5F-851E-0DBF3F606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60A66-9EF0-49F7-88DE-3713DDDCF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324F2E-05B6-47D3-9EBD-EDC53E7A8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22C3E6-C2E4-4431-BDBD-318A50CE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AA1402-1AF1-4EB8-B31E-9A3BE4347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48F267-5F36-4173-9FDF-02CFDFCB1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EE0738-CB4C-4204-907E-49EE7B130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B505D-B1F2-4874-8F88-9114754C8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6362BA-CCAE-4CBF-AF46-B4F75C6050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31E049-91A7-4787-A770-25F28A150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E91D5-937D-437F-BB30-B8F80BE6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A5D906-E863-4A2F-9FD0-CFD9BB7EE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EFE7A-8F48-4BEB-96C0-88F87042C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3D29C0-0DF4-4BA3-95F3-030298DE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970077-78AE-495C-84F6-85DDB91E4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F8485-2D25-44CB-AB4F-E76D5174A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1BBD85-9F04-4A2E-B65C-9A076B4EF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2DD080-1DA2-43F1-B74D-5E641BBE7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A69BE7-0E73-4353-B633-7E5D0B97A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4343E-1774-425A-AB79-7A8D90AA1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05BD5-A77A-45C4-9FE0-CDCD5B949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EB762-6D94-4C1B-BB9F-E2875DE0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0F401-DC2C-4308-B4BD-34D120C5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26B986-D468-4041-98D6-E1DDFEC6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B837647-98DB-43FF-8B5D-BCC646AF9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A2114D-7887-49C0-93B5-0A35A0D62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7BF3-081C-4634-BC81-A17AA157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15615A-13FB-4E7A-AA57-103D3871E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F4884-A092-4BB7-8B17-4AC85E6B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4E0BCF-0E58-4FB7-B632-CAA813D24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C8BBA0-9A66-4A02-B219-E99EA0F14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85119CE-B259-4EDD-BF20-230532C21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496E-EB2B-4B54-9A41-F0420D1B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598606-AB05-4925-9080-BFAE8A957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411A5-9FB9-47F2-8C86-DFD4484C0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237C99-6658-47F5-BB90-1CD6C8DC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948DF0-ACBF-4F16-8D00-B7C309C34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20C5-CFDF-4C83-AA31-0D437C535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0363D-E562-45F3-AF48-E8D50ECC9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AE101-749D-4BFF-8C75-2BE79408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7D38AB-90DA-44B2-BC12-3622E9D3C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963DD5-A97C-4136-8F29-93C56644D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26B18-2E9C-4B0C-A57A-348C98968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8CC5-2913-4B18-8E72-E032A7CD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2215E9-2F6B-42A1-A5C3-32AE46E65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B73779-DC64-4DB9-B1A6-1449B89B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7DA482-865C-4DED-83A0-F3A8FED5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DFCCC-4EB8-44DF-BE34-1DE65F635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685800" y="4093920"/>
            <a:ext cx="77724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30D2DD-5A7E-400F-B068-E809A89E3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68480" y="4093920"/>
            <a:ext cx="379260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A315E4-71CC-4C89-B189-4E9686736C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685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31380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5941440" y="4093920"/>
            <a:ext cx="250236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4B91F-1068-4218-AB63-0FAC92D0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2E702-95BB-42A2-87D7-0F6FE9AF2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AEC68-7EB2-44EF-8E7E-B05D75D4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08516E-7CE1-4EDA-9984-54E5EA887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512720"/>
            <a:ext cx="8458200" cy="8748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7067520" y="6553080"/>
            <a:ext cx="2076480" cy="7956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760" bIns="32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67920-1438-4A92-A9C4-CE1BDC23561D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"/>
          <p:cNvPicPr/>
          <p:nvPr/>
        </p:nvPicPr>
        <p:blipFill>
          <a:blip r:embed="rId4"/>
          <a:stretch/>
        </p:blipFill>
        <p:spPr>
          <a:xfrm>
            <a:off x="5735520" y="0"/>
            <a:ext cx="436680" cy="447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9278B-E239-4BCD-B646-844C3F24DD02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 type="ftr" idx="32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 type="sldNum" idx="33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B42D-2346-46CC-97DF-C308C6420198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264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94926-01F1-47BC-9C19-8A96427097B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484200" y="1549440"/>
            <a:ext cx="8158320" cy="1689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5" name="AutoShape 3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6" name="AutoShape 4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7" name="AutoShape 5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9" name="AutoShape 7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4095720" y="5734080"/>
            <a:ext cx="949320" cy="1760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1" name="Picture 14" descr=""/>
          <p:cNvPicPr/>
          <p:nvPr/>
        </p:nvPicPr>
        <p:blipFill>
          <a:blip r:embed="rId4"/>
          <a:stretch/>
        </p:blipFill>
        <p:spPr>
          <a:xfrm>
            <a:off x="2757600" y="5943600"/>
            <a:ext cx="59508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 type="ftr" idx="5"/>
          </p:nvPr>
        </p:nvSpPr>
        <p:spPr>
          <a:xfrm>
            <a:off x="33526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3A526-6E4D-4544-9F29-6BD11085EB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ftr" idx="8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F363D-CC30-46AA-8762-954F444FDA5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46441-4267-4B0A-A7F9-A0A7E997285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AE137-4263-4C1F-9E31-47B7C059E62F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892B6-0DAF-4B80-9AC4-392B91AC6105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20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21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6E0E2-803E-4D15-A19C-06E60222D049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3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4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FBD9A-F6CD-4060-A125-21631D4B164B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fcfb"/>
            </a:gs>
            <a:gs pos="100000">
              <a:srgbClr val="d7ece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26"/>
          </p:nvPr>
        </p:nvSpPr>
        <p:spPr>
          <a:xfrm>
            <a:off x="6095520" y="0"/>
            <a:ext cx="2971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27"/>
          </p:nvPr>
        </p:nvSpPr>
        <p:spPr>
          <a:xfrm>
            <a:off x="8216640" y="6248160"/>
            <a:ext cx="533160" cy="609480"/>
          </a:xfrm>
          <a:prstGeom prst="rect">
            <a:avLst/>
          </a:prstGeom>
          <a:blipFill rotWithShape="0">
            <a:blip r:embed="rId3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AA0AD-5139-4A5F-9601-0D48FCA645F4}" type="slidenum">
              <a:rPr b="0" lang="en-US" sz="1400" spc="-1" strike="noStrike">
                <a:solidFill>
                  <a:srgbClr val="ffffe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video" Target="file:///C:/Guo_2002/UCF_course/Guo_control/ATRV1_Fast.mpg" TargetMode="External"/><Relationship Id="rId2" Type="http://schemas.microsoft.com/office/2007/relationships/media" Target="file:///C:/Guo_2002/UCF_course/Guo_control/ATRV1_Fast.mpg" TargetMode="External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264c"/>
                </a:solidFill>
                <a:latin typeface="Times New Roman"/>
              </a:rPr>
              <a:t>Introduction to Control</a:t>
            </a:r>
            <a:r>
              <a:rPr b="0" lang="ar-SA" sz="4400" spc="-1" strike="noStrike">
                <a:solidFill>
                  <a:srgbClr val="00264c"/>
                </a:solidFill>
                <a:latin typeface="Times New Roman"/>
              </a:rPr>
              <a:t> </a:t>
            </a:r>
            <a:r>
              <a:rPr b="0" lang="en-GB" sz="4400" spc="-1" strike="noStrike">
                <a:solidFill>
                  <a:srgbClr val="00264c"/>
                </a:solidFill>
                <a:latin typeface="Times New Roman"/>
              </a:rPr>
              <a:t> Engineering I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11" name="Footer Placeholder 1"/>
          <p:cNvSpPr/>
          <p:nvPr/>
        </p:nvSpPr>
        <p:spPr>
          <a:xfrm>
            <a:off x="3352680" y="60199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-loop control with sensor feedback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8" name="Line 1028"/>
          <p:cNvSpPr/>
          <p:nvPr/>
        </p:nvSpPr>
        <p:spPr>
          <a:xfrm>
            <a:off x="609480" y="3657600"/>
            <a:ext cx="12956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9" name="Oval 1029"/>
          <p:cNvSpPr/>
          <p:nvPr/>
        </p:nvSpPr>
        <p:spPr>
          <a:xfrm>
            <a:off x="1905120" y="3505320"/>
            <a:ext cx="304560" cy="304560"/>
          </a:xfrm>
          <a:prstGeom prst="ellipse">
            <a:avLst/>
          </a:prstGeom>
          <a:solidFill>
            <a:srgbClr val="78c0b2"/>
          </a:solidFill>
          <a:ln w="93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0" name="Line 1031"/>
          <p:cNvSpPr/>
          <p:nvPr/>
        </p:nvSpPr>
        <p:spPr>
          <a:xfrm>
            <a:off x="2209680" y="3657600"/>
            <a:ext cx="53352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1" name="Text Box 1033"/>
          <p:cNvSpPr/>
          <p:nvPr/>
        </p:nvSpPr>
        <p:spPr>
          <a:xfrm>
            <a:off x="2755080" y="3429000"/>
            <a:ext cx="1436400" cy="45972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Controller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2" name="Line 1034"/>
          <p:cNvSpPr/>
          <p:nvPr/>
        </p:nvSpPr>
        <p:spPr>
          <a:xfrm>
            <a:off x="4191120" y="3657600"/>
            <a:ext cx="83808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3" name="Text Box 1035"/>
          <p:cNvSpPr/>
          <p:nvPr/>
        </p:nvSpPr>
        <p:spPr>
          <a:xfrm>
            <a:off x="5045400" y="3419640"/>
            <a:ext cx="808560" cy="45972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lant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4" name="Line 1037"/>
          <p:cNvSpPr/>
          <p:nvPr/>
        </p:nvSpPr>
        <p:spPr>
          <a:xfrm>
            <a:off x="5867280" y="3657600"/>
            <a:ext cx="15242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5" name="Line 1038"/>
          <p:cNvSpPr/>
          <p:nvPr/>
        </p:nvSpPr>
        <p:spPr>
          <a:xfrm>
            <a:off x="6705720" y="3657600"/>
            <a:ext cx="0" cy="121932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6" name="Line 1039"/>
          <p:cNvSpPr/>
          <p:nvPr/>
        </p:nvSpPr>
        <p:spPr>
          <a:xfrm flipH="1">
            <a:off x="5866920" y="4876920"/>
            <a:ext cx="838440" cy="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7" name="Text Box 1040"/>
          <p:cNvSpPr/>
          <p:nvPr/>
        </p:nvSpPr>
        <p:spPr>
          <a:xfrm>
            <a:off x="2661120" y="4460760"/>
            <a:ext cx="3166200" cy="825480"/>
          </a:xfrm>
          <a:prstGeom prst="rect">
            <a:avLst/>
          </a:prstGeom>
          <a:noFill/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Measurement and signal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transmission system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8" name="Line 1042"/>
          <p:cNvSpPr/>
          <p:nvPr/>
        </p:nvSpPr>
        <p:spPr>
          <a:xfrm flipH="1">
            <a:off x="2057040" y="4876920"/>
            <a:ext cx="609480" cy="0"/>
          </a:xfrm>
          <a:prstGeom prst="line">
            <a:avLst/>
          </a:prstGeom>
          <a:ln w="25560">
            <a:solidFill>
              <a:srgbClr val="0026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59" name="Line 1043"/>
          <p:cNvSpPr/>
          <p:nvPr/>
        </p:nvSpPr>
        <p:spPr>
          <a:xfrm flipV="1">
            <a:off x="2057400" y="3809880"/>
            <a:ext cx="0" cy="1067040"/>
          </a:xfrm>
          <a:prstGeom prst="line">
            <a:avLst/>
          </a:prstGeom>
          <a:ln w="25560">
            <a:solidFill>
              <a:srgbClr val="0026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0" name="Text Box 1044"/>
          <p:cNvSpPr/>
          <p:nvPr/>
        </p:nvSpPr>
        <p:spPr>
          <a:xfrm>
            <a:off x="670320" y="3165480"/>
            <a:ext cx="5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r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1" name="Text Box 1045"/>
          <p:cNvSpPr/>
          <p:nvPr/>
        </p:nvSpPr>
        <p:spPr>
          <a:xfrm>
            <a:off x="1661760" y="31654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2" name="Text Box 1049"/>
          <p:cNvSpPr/>
          <p:nvPr/>
        </p:nvSpPr>
        <p:spPr>
          <a:xfrm>
            <a:off x="2119320" y="3699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_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3" name="Text Box 1050"/>
          <p:cNvSpPr/>
          <p:nvPr/>
        </p:nvSpPr>
        <p:spPr>
          <a:xfrm>
            <a:off x="4175640" y="3165480"/>
            <a:ext cx="62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u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4" name="Text Box 1051"/>
          <p:cNvSpPr/>
          <p:nvPr/>
        </p:nvSpPr>
        <p:spPr>
          <a:xfrm>
            <a:off x="6766200" y="3089160"/>
            <a:ext cx="60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y(t)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5" name="Text Box 1053"/>
          <p:cNvSpPr/>
          <p:nvPr/>
        </p:nvSpPr>
        <p:spPr>
          <a:xfrm>
            <a:off x="2118960" y="323856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264c"/>
                </a:solidFill>
                <a:latin typeface="Times New Roman"/>
              </a:rPr>
              <a:t>e(t)</a:t>
            </a:r>
            <a:endParaRPr b="0" lang="en-US" sz="1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66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Response of a position control system showing effect of high and low controller gain on the output respon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68" name="Picture 4" descr=""/>
          <p:cNvPicPr/>
          <p:nvPr/>
        </p:nvPicPr>
        <p:blipFill>
          <a:blip r:embed="rId1"/>
          <a:stretch/>
        </p:blipFill>
        <p:spPr>
          <a:xfrm>
            <a:off x="1371600" y="2057400"/>
            <a:ext cx="6286680" cy="4114800"/>
          </a:xfrm>
          <a:prstGeom prst="rect">
            <a:avLst/>
          </a:prstGeom>
          <a:ln w="0">
            <a:noFill/>
          </a:ln>
        </p:spPr>
      </p:pic>
      <p:sp>
        <p:nvSpPr>
          <p:cNvPr id="56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Times New Roman"/>
              </a:rPr>
              <a:t>What is the Control System Engineer trying to achieve?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First, understand the broader picture of th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pplication to best apply a suitable control system.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A good control system is a system that wil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generate a response quickly and without oscillation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good transient respon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have low error once settled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good steady-state response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,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and will not oscillate wildly or damage that system (</a:t>
            </a:r>
            <a:r>
              <a:rPr b="0" i="1" lang="en-US" sz="2400" spc="-1" strike="noStrike">
                <a:solidFill>
                  <a:srgbClr val="00264c"/>
                </a:solidFill>
                <a:latin typeface="Times New Roman"/>
              </a:rPr>
              <a:t>stability</a:t>
            </a: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7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y Control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grpSp>
        <p:nvGrpSpPr>
          <p:cNvPr id="513" name="Group 6"/>
          <p:cNvGrpSpPr/>
          <p:nvPr/>
        </p:nvGrpSpPr>
        <p:grpSpPr>
          <a:xfrm>
            <a:off x="4343400" y="1905120"/>
            <a:ext cx="3276720" cy="4497840"/>
            <a:chOff x="4343400" y="1905120"/>
            <a:chExt cx="3276720" cy="4497840"/>
          </a:xfrm>
        </p:grpSpPr>
        <p:pic>
          <p:nvPicPr>
            <p:cNvPr id="514" name="Picture 4" descr=""/>
            <p:cNvPicPr/>
            <p:nvPr/>
          </p:nvPicPr>
          <p:blipFill>
            <a:blip r:embed="rId1"/>
            <a:stretch/>
          </p:blipFill>
          <p:spPr>
            <a:xfrm>
              <a:off x="4343400" y="1905120"/>
              <a:ext cx="3263760" cy="419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Text Box 5"/>
            <p:cNvSpPr/>
            <p:nvPr/>
          </p:nvSpPr>
          <p:spPr>
            <a:xfrm>
              <a:off x="4343400" y="6095880"/>
              <a:ext cx="327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264c"/>
                  </a:solidFill>
                  <a:latin typeface="Arial"/>
                </a:rPr>
                <a:t>Photo © Hank Morgan/Rainbow/PNI.</a:t>
              </a:r>
              <a:endParaRPr b="0" lang="en-US" sz="1400" spc="-1" strike="noStrike">
                <a:solidFill>
                  <a:srgbClr val="00264c"/>
                </a:solidFill>
                <a:latin typeface="Times New Roman"/>
              </a:endParaRPr>
            </a:p>
          </p:txBody>
        </p:sp>
      </p:grpSp>
      <p:sp>
        <p:nvSpPr>
          <p:cNvPr id="516" name="Text Box 9"/>
          <p:cNvSpPr/>
          <p:nvPr/>
        </p:nvSpPr>
        <p:spPr>
          <a:xfrm>
            <a:off x="458280" y="1905120"/>
            <a:ext cx="3696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over was build to work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in contaminated areas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17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4" descr="&#9;pict5.jpg                                                      000251EA&#10;Lynne's HD                     B01DD00D:"/>
          <p:cNvPicPr/>
          <p:nvPr/>
        </p:nvPicPr>
        <p:blipFill>
          <a:blip r:embed="rId1"/>
          <a:stretch/>
        </p:blipFill>
        <p:spPr>
          <a:xfrm>
            <a:off x="1066680" y="1905120"/>
            <a:ext cx="3200400" cy="2133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5" descr="D:\faculty_apply_ORNL\facultyapplications\CentralFlorida\Dozing.gif"/>
          <p:cNvPicPr/>
          <p:nvPr/>
        </p:nvPicPr>
        <p:blipFill>
          <a:blip r:embed="rId2"/>
          <a:stretch/>
        </p:blipFill>
        <p:spPr>
          <a:xfrm>
            <a:off x="5105520" y="1905120"/>
            <a:ext cx="2819160" cy="211428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6" descr="D:\faculty_apply_ORNL\facultyapplications\CentralFlorida\site_clearance.jpg"/>
          <p:cNvPicPr/>
          <p:nvPr/>
        </p:nvPicPr>
        <p:blipFill>
          <a:blip r:embed="rId3"/>
          <a:stretch/>
        </p:blipFill>
        <p:spPr>
          <a:xfrm>
            <a:off x="5029200" y="4495680"/>
            <a:ext cx="3200400" cy="1816200"/>
          </a:xfrm>
          <a:prstGeom prst="rect">
            <a:avLst/>
          </a:prstGeom>
          <a:ln w="0">
            <a:noFill/>
          </a:ln>
        </p:spPr>
      </p:pic>
      <p:sp>
        <p:nvSpPr>
          <p:cNvPr id="521" name="Text Box 8"/>
          <p:cNvSpPr/>
          <p:nvPr/>
        </p:nvSpPr>
        <p:spPr>
          <a:xfrm>
            <a:off x="685800" y="487692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Robots used in surface mining,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Times New Roman"/>
              </a:rPr>
              <a:t>planetary exploration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>
            <a:hlinkClick r:id="" action="ppaction://media"/>
          </p:cNvPr>
          <p:cNvPicPr/>
          <p:nvPr>
            <a:vide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990720" y="2819520"/>
            <a:ext cx="3581280" cy="2441520"/>
          </a:xfrm>
          <a:prstGeom prst="rect">
            <a:avLst/>
          </a:prstGeom>
          <a:ln w="0">
            <a:noFill/>
          </a:ln>
        </p:spPr>
      </p:pic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Mobile robots lead-follow example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525" name="Picture 7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3200400" cy="1790640"/>
          </a:xfrm>
          <a:prstGeom prst="rect">
            <a:avLst/>
          </a:prstGeom>
          <a:ln w="0">
            <a:noFill/>
          </a:ln>
        </p:spPr>
      </p:pic>
      <p:sp>
        <p:nvSpPr>
          <p:cNvPr id="526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y Control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Modern society have sophisticated control systems which are crucial to their successful operation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Reasons to build control systems: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Power amplification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Remote control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nvenience of input form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64c"/>
                </a:solidFill>
                <a:latin typeface="Times New Roman"/>
              </a:rPr>
              <a:t>Compensation for disturbance  </a:t>
            </a:r>
            <a:endParaRPr b="0" lang="en-US" sz="28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2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What is a Control System?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1" name="Picture 4" descr=""/>
          <p:cNvPicPr/>
          <p:nvPr/>
        </p:nvPicPr>
        <p:blipFill>
          <a:blip r:embed="rId1"/>
          <a:stretch/>
        </p:blipFill>
        <p:spPr>
          <a:xfrm>
            <a:off x="685800" y="2665440"/>
            <a:ext cx="7772400" cy="2189160"/>
          </a:xfrm>
          <a:prstGeom prst="rect">
            <a:avLst/>
          </a:prstGeom>
          <a:ln w="0">
            <a:noFill/>
          </a:ln>
        </p:spPr>
      </p:pic>
      <p:sp>
        <p:nvSpPr>
          <p:cNvPr id="532" name="Rectangle 5"/>
          <p:cNvSpPr/>
          <p:nvPr/>
        </p:nvSpPr>
        <p:spPr>
          <a:xfrm>
            <a:off x="990720" y="4952880"/>
            <a:ext cx="7543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mplified description of a control system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3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Dynamic Respons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535" name="Picture 1028" descr=""/>
          <p:cNvPicPr/>
          <p:nvPr/>
        </p:nvPicPr>
        <p:blipFill>
          <a:blip r:embed="rId1"/>
          <a:stretch/>
        </p:blipFill>
        <p:spPr>
          <a:xfrm>
            <a:off x="609480" y="2286000"/>
            <a:ext cx="7772400" cy="3605040"/>
          </a:xfrm>
          <a:prstGeom prst="rect">
            <a:avLst/>
          </a:prstGeom>
          <a:ln w="0">
            <a:noFill/>
          </a:ln>
        </p:spPr>
      </p:pic>
      <p:sp>
        <p:nvSpPr>
          <p:cNvPr id="536" name="Rectangle 1030"/>
          <p:cNvSpPr/>
          <p:nvPr/>
        </p:nvSpPr>
        <p:spPr>
          <a:xfrm>
            <a:off x="3657600" y="4495680"/>
            <a:ext cx="19810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7" name="Text Box 1031"/>
          <p:cNvSpPr/>
          <p:nvPr/>
        </p:nvSpPr>
        <p:spPr>
          <a:xfrm rot="16207200">
            <a:off x="611280" y="441720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64c"/>
                </a:solidFill>
                <a:latin typeface="Times New Roman"/>
              </a:rPr>
              <a:t>Response</a:t>
            </a:r>
            <a:endParaRPr b="0" lang="en-US" sz="20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8" name="Rectangle 1032"/>
          <p:cNvSpPr/>
          <p:nvPr/>
        </p:nvSpPr>
        <p:spPr>
          <a:xfrm>
            <a:off x="990720" y="3276720"/>
            <a:ext cx="22860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39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4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8381880" cy="5243400"/>
          </a:xfrm>
          <a:prstGeom prst="rect">
            <a:avLst/>
          </a:prstGeom>
          <a:ln w="0">
            <a:noFill/>
          </a:ln>
        </p:spPr>
      </p:pic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lock diagrams of control systems: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a.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pen-loop system; </a:t>
            </a:r>
            <a:r>
              <a:rPr b="1" lang="en-US" sz="2400" spc="-1" strike="noStrike">
                <a:solidFill>
                  <a:srgbClr val="333333"/>
                </a:solidFill>
                <a:latin typeface="Arial"/>
              </a:rPr>
              <a:t>b. </a:t>
            </a: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osed-loop system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2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Feedback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eedback is a key tool that can be used to modify the behavior of a system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s behavior altering effect of feedback is a key mechanism that control engineers exploit deliberately to achieve the objective of acting on a system to ensure that the desired performance specifications are achieved.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545" name="Footer Placeholder 1"/>
          <p:cNvSpPr/>
          <p:nvPr/>
        </p:nvSpPr>
        <p:spPr>
          <a:xfrm>
            <a:off x="6095880" y="0"/>
            <a:ext cx="2971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264c"/>
                </a:solidFill>
                <a:latin typeface="Times New Roman"/>
              </a:rPr>
              <a:t>Control Engineering I</a:t>
            </a:r>
            <a:endParaRPr b="0" lang="en-US" sz="1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23T17:07:37Z</dcterms:created>
  <dc:creator>Yi Guo</dc:creator>
  <dc:description/>
  <dc:language>en-US</dc:language>
  <cp:lastModifiedBy>Zeyad Al-Obaidi</cp:lastModifiedBy>
  <dcterms:modified xsi:type="dcterms:W3CDTF">2019-10-21T06:55:40Z</dcterms:modified>
  <cp:revision>54</cp:revision>
  <dc:subject/>
  <dc:title>Introduction to Control</dc:title>
</cp:coreProperties>
</file>