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853C-CE15-4DAC-A376-63158AED3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olgy: the way in which constituent parts are interrelated or arr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000D-CD8B-490B-95A7-FF7094E819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use-effect 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is a relationship in which one event (the cause) makes another event happen (the effect). The loud sound of the alarm was the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u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Without the alarm, you probably would have overslept. In this scenario the alarm had the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f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of you waking up at a certain ti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B0AD-6DF8-4271-BAC6-2D5895CD2E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o Nise-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D87E-9F84-4185-B857-4C0E1B0966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8E1-D846-48F5-8B7F-F9F772D4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972-1969-47ED-A7E4-1AF2568E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C654-49B4-4BA6-9373-4CA15EE9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3BDDE-B4DA-40FA-B177-BB88C74E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B2A7D-45E0-4B90-B55E-A6AFA799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933F3-2181-42F4-BC53-04B7B3CD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7D42B-ACC6-476C-B0B1-AC50A960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B16B4-80BF-4515-BD2E-9FE4E3C4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E7C30-F431-4CAD-85AF-2F6B6EA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8E97B-54EF-4D36-A9EB-292DECDD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1D111-CD57-492E-AD49-89CC5F96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F36F3-B1BD-4540-9E5A-6E462051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1CB-0148-485F-AD9B-909F16B5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185B5-E42E-4AA6-808F-C58C6746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197BF-9D2F-4911-8081-2E447A54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67FF8-CAE5-4E2E-9488-D3B8495C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C6404-BB32-4F63-9357-DC4D01C6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C6DCA-BF83-4E1D-B645-C1C630C2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995BC-1A6A-46F5-9C86-E6242781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E313D-4AF2-4BFF-BD20-9984DF25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CBE54-FCAC-4FCB-9F32-83D2FCE3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FEFC1-4E8B-4B83-849D-C6E8B4FE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EAA53-20F6-45D4-BB21-7F6B33E4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AE0-F25C-4588-B259-990E7BB0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FE1CE-800E-49A6-A466-D09ACB02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014E6-B68F-4B9B-A786-7900328F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D00F6-4232-499D-9C94-07D7F5D6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6CCB3-EDD9-4A9B-B40D-D809BAC9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24D16-4A9D-4BC6-8B46-19D5BEB5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2DA1D-0E43-4F98-8798-6552148F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18ECA-2B39-45EF-B795-B83D589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D31C2-C4F4-4F90-A2F3-2716EA9A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C44F-3DDD-4D69-A454-CEFDD577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3CB80-7D28-4758-927D-82770E5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56D8-99A6-4ACD-AD52-526EEF6C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DD30B-ECB6-4E85-BCAD-C8DBB16B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43FFB-95AA-471D-B3FD-4B15CCBC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17F30-A46A-4B2A-9655-EAD5FC87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0E1B9-08F6-4813-9D08-9AD4D582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9B60C-49AC-4343-ACC7-B626BC60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94243-8CA2-47F9-9D7E-7A5F600B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94D3C-846A-4F2C-A5D8-92574994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32D24-6401-40ED-A965-5408ABF6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92B65-57FE-455B-ACF7-FD574783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F9931-07F1-4CA3-BE2E-D7229E18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7739-9B28-4F6E-B57D-A2FFCA90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C4BA4-8833-4758-AF51-BA775CE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71964-F532-476D-93B2-39ED786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F20AB-7A8A-4D01-BF39-32A48159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5D44D-CBCA-49CD-B060-D39702AF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05945-C025-482B-A15F-DAB66664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54EC-3CB0-404F-ABFB-6B741D8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EBFD-0393-46D4-BFAF-D1C12A18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10AA-1DA1-48AA-B50F-D5DDA1B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4B80-F4DC-409D-91EC-58B408FB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A196-1B6B-47E4-A4D4-BD35BD8D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DB5-B4A8-4456-9CB9-7CA2C778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89EC-DB69-464E-A711-A85ADA26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E26C-716F-4E16-8C22-7326C8EA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D322-56F4-4C28-B868-74337648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CA44-740A-4AF3-8165-DB828693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9980-6476-4D65-BCF8-5FFC06E6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8455-3F31-44B3-92ED-F1F1CB0A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F6AC7-DDC5-4E86-AFAB-4DF49E37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FF71-260E-4B12-BDF8-82602E0E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2002-694C-47C9-8DC4-D88C4EF4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33E7-61E6-4141-8A45-E27DCCD9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5EE-4A23-4C0A-934B-FF3BDCC3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BB5F-423C-465A-85B3-C19F3A57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7DCA-6669-4422-B17A-0B058E1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2003-0B58-4E1F-ADEF-F2B3FF9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594E-444F-4A8A-A1CC-49C9287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EB6B-5A24-4FA2-B593-5D0F620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24EF-0228-4C76-9C3B-4136314A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18CB-92BC-45A4-9426-53932EBA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3212-E826-4747-8691-1E7EF343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E3F1-5F40-4359-AEA9-9F921075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D855-FDDC-4BA4-BC22-DF43FD63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A4B-D61E-425C-837F-6D7D9E7F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93D49-2079-4073-A9A3-F30FE392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281E-9FA4-43A5-9323-4FD67A61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815A-6375-4C68-B2C3-7F6BFFE3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48D0-6569-4E67-8ED2-65AECB23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49F3-F848-4D15-9FF7-D26A6AA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70605-594C-48A2-A7D3-5D0ABE70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FA6B1-8446-4890-8227-78F4096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1D2F-45DD-4BD3-8B74-609E2DF2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B283-82BC-44BB-9002-6C23FF8C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63CBC-E221-46E8-9C4B-02DE091F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B97-43DD-4291-AFF2-C8558241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DB537-0C3F-4997-9759-5FAB17E7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FFDF-CFC2-43B4-AAF5-64879190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B06E3-9660-48FE-AA88-B66C501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8C53-CAE4-4E5C-95D5-E2B332C4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16B7-487E-4840-96DB-92674EDB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540D-687E-49E2-A411-E9E4EC18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414FC-22D1-415D-A16F-3795101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B3081-9BEE-4272-917F-E02B7903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1661-7865-4F92-9B40-5D85BC1F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2BADD-59B7-4EF0-A7DA-033E2E43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776-C5A9-4F45-90A4-2F759874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FEEEC-E32E-452C-9D2D-E60A0DEC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EBE65-6FC9-4B53-B421-B107A752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77F5E-E13E-47B4-A019-7E1F0AB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E1236-6EAC-4AD4-BF6F-6C3E12EF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6C28D-BFC7-45F8-826D-B0239D80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38C01-A7D8-4113-A3B8-76F91CC8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8B3D6-F83B-483A-86FB-40886FAB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D6200-56BD-4760-AF8B-0E5F25FD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048C7-531C-4B6C-B269-A75972D4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FFD58-A830-4F0C-9057-3E24C80C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37D-E2A7-4CA1-9D49-C27A4EF3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91911-F32A-4438-9558-F7FD3DFF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2DEEB-F743-4449-B05C-5D707EBE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F7235-CBE2-475E-A857-89A57E4D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65BE-4A52-481C-909C-680BED78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AD8F6-B22A-4717-9B42-A3EC98D7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4D910-7F38-43A9-B5C4-8497B676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27CFE-1F14-44D1-8810-29521F29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8AD91-1827-422E-82E6-561F272A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C35FB-477A-4306-9651-CD6DBF44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C56CF-5420-4DE7-90AC-5FC75D1D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061-BBA6-485B-9B75-165D536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FC310-C119-45FC-A5A8-5BCAD50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5277-D5DC-4CAD-9551-A4DD18EC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F5CFA-7E2B-4E79-9F33-663E80D8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B7D7C-DD34-4053-A043-26A1D14C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33F03-1268-429B-BBF5-BB08D2E7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262E7-51DA-4C27-95DF-A63270FF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E2596-399B-497F-9FF4-3E9D4BA2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AF7CF-DBB7-4E8B-ABAC-D70B5BFA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AFF6E-F184-4EDE-9EDA-B48BAB03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DE139-6FB3-4029-8DC8-91A21802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480-8BE6-4AC5-B25F-FAEC600C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1439D-CD5C-443F-A492-CC5688E2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4CE9B-53D1-42CE-9BCF-F158481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9F6FB-DB66-4AD3-B336-394F6144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562A1-0B69-4DB2-B60B-4F04C5A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E6670-4EDA-4750-B7CF-A14C8310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77507-0928-4484-A21D-B489E645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D7AA9-0FC3-49FC-9A65-0E501DA2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5F3DD-CFC5-4C22-B2A3-84D2B6A0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4A00A-F56E-490B-AED0-BEFEF02A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1340C-EBF6-4E6D-89DF-D95298E7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20E0-B35B-4C2C-9009-470713C52B6D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E45B-FBE3-42EB-9260-832881A7A1F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D901-67E5-4710-B711-F22BFF60E1DE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9E71-F62F-4191-8B04-82F5D47547F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E56-6670-477D-BAE7-9A7A2B2B9504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A05-D1B3-4E0A-8C56-ADDE2AB8765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9A1D-FE05-441F-800E-AC209B7DEF8B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BA29-F734-468C-A810-49A0D1D21C1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5DDA-F4BD-4F43-821D-8AE87090E3BB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5CAE-D2AF-453A-98F7-8EB592077E4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DDB5-3633-4A21-B431-7993BE1B2BEF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AFE-9FFB-4E69-B8E9-74B3149A61C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E64-FDAA-40C6-9A6F-C4B19916BA1E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3348-141D-4036-940A-98CBD7522B9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4F17-F9BC-4507-916C-99DF38119E78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A349-D113-480F-9AA5-FBDC688A4CC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07E4-58DB-4DC5-8456-AFEAC98FD225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9798-96DD-4B4C-AD29-D202CA35A31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46CD-7D3A-44E6-B5C7-4E979BEBD106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003-6C52-4749-B16C-A66CCEC3724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36E4-0330-467B-9188-19C5E9D6A556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2779-1464-4437-9335-635699600A6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1A81-7D65-46F2-AC1C-63FB01DA5C26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2C75-2898-4AFC-BA39-4C89E8312F1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lock Diagram fundamentals</a:t>
            </a:r>
            <a:endParaRPr b="0" lang="en-US" sz="44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24" name="Footer Placeholder 1"/>
          <p:cNvSpPr/>
          <p:nvPr/>
        </p:nvSpPr>
        <p:spPr>
          <a:xfrm>
            <a:off x="2133720" y="63644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ntrol Engineer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50920" y="13413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sider the following equations in which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. . . 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re variables, and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, 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,. . . , 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 , ar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eneral coefficients or mathematical operat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416320" y="2849400"/>
                <a:ext cx="446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2909880" y="3859200"/>
            <a:ext cx="4164120" cy="2693880"/>
          </a:xfrm>
          <a:prstGeom prst="rect">
            <a:avLst/>
          </a:prstGeom>
          <a:ln w="0">
            <a:noFill/>
          </a:ln>
        </p:spPr>
      </p:pic>
      <p:sp>
        <p:nvSpPr>
          <p:cNvPr id="56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0920" y="1494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raw the Block Diagrams of the following equati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2"/>
              <p:cNvSpPr txBox="1"/>
              <p:nvPr/>
            </p:nvSpPr>
            <p:spPr>
              <a:xfrm>
                <a:off x="684360" y="2585880"/>
                <a:ext cx="53290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opologies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will now examine some common topologies for interconnecting subsystems and derive the single transfer function representation for each of the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common topologies will form the basis for reducing more complicated systems to a single bloc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ASCADE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finite number of blocks in series may be algebraically combined by multiplication of transfer func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t is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n components or blocks with transfer functions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,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, . . . ,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, connected in cascad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equivalent to a single element G with a transfer function given b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895480" y="5715000"/>
            <a:ext cx="3505320" cy="609480"/>
          </a:xfrm>
          <a:prstGeom prst="rect">
            <a:avLst/>
          </a:prstGeom>
          <a:ln w="0">
            <a:noFill/>
          </a:ln>
        </p:spPr>
      </p:pic>
      <p:sp>
        <p:nvSpPr>
          <p:cNvPr id="580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ltiplication of transfer functions is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ommutative; that is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GiGj = GjG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any i or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j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072560" cy="685800"/>
          </a:xfrm>
          <a:prstGeom prst="rect">
            <a:avLst/>
          </a:prstGeom>
          <a:ln w="0">
            <a:noFill/>
          </a:ln>
        </p:spPr>
      </p:pic>
      <p:sp>
        <p:nvSpPr>
          <p:cNvPr id="584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ascade</a:t>
            </a:r>
            <a:r>
              <a:rPr b="0" lang="en-GB" sz="4000" spc="-1" strike="noStrike">
                <a:solidFill>
                  <a:srgbClr val="4f271c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349200" y="1828800"/>
            <a:ext cx="8337600" cy="2651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"/>
          <p:cNvPicPr/>
          <p:nvPr/>
        </p:nvPicPr>
        <p:blipFill>
          <a:blip r:embed="rId2"/>
          <a:stretch/>
        </p:blipFill>
        <p:spPr>
          <a:xfrm>
            <a:off x="4294080" y="5877000"/>
            <a:ext cx="2581560" cy="523800"/>
          </a:xfrm>
          <a:prstGeom prst="rect">
            <a:avLst/>
          </a:prstGeom>
          <a:ln w="0">
            <a:noFill/>
          </a:ln>
        </p:spPr>
      </p:pic>
      <p:sp>
        <p:nvSpPr>
          <p:cNvPr id="588" name="TextBox 2"/>
          <p:cNvSpPr/>
          <p:nvPr/>
        </p:nvSpPr>
        <p:spPr>
          <a:xfrm>
            <a:off x="755640" y="457056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g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) Cascaded Sub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) Equivalent Transf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equivalent transfer fun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arallel Form: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76160"/>
            <a:ext cx="8229600" cy="13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allel subsystems have a common input and an output formed by the algebraic sum of the outputs from all of the subsystem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2666880" y="56386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gure: Parallel Sub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5646600" cy="2011320"/>
          </a:xfrm>
          <a:prstGeom prst="rect">
            <a:avLst/>
          </a:prstGeom>
          <a:ln w="0">
            <a:noFill/>
          </a:ln>
        </p:spPr>
      </p:pic>
      <p:sp>
        <p:nvSpPr>
          <p:cNvPr id="594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arallel Form: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990720" y="1668600"/>
            <a:ext cx="7210440" cy="4114800"/>
          </a:xfrm>
          <a:prstGeom prst="rect">
            <a:avLst/>
          </a:prstGeom>
          <a:ln w="0">
            <a:noFill/>
          </a:ln>
        </p:spPr>
      </p:pic>
      <p:sp>
        <p:nvSpPr>
          <p:cNvPr id="597" name="TextBox 3"/>
          <p:cNvSpPr/>
          <p:nvPr/>
        </p:nvSpPr>
        <p:spPr>
          <a:xfrm>
            <a:off x="5307120" y="38005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g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) Parallel Sub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) Equivalent Transf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4619520" y="5977080"/>
            <a:ext cx="3229200" cy="50472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2"/>
          <p:cNvSpPr/>
          <p:nvPr/>
        </p:nvSpPr>
        <p:spPr>
          <a:xfrm>
            <a:off x="680400" y="602136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equivalent transfer fun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Feedback Form: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04920" y="11430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hird topology is the feedback form. Let us derive the transfer function that represents the system from its input to its output. The typical feedback system, shown in figur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TextBox 5"/>
          <p:cNvSpPr/>
          <p:nvPr/>
        </p:nvSpPr>
        <p:spPr>
          <a:xfrm>
            <a:off x="1981080" y="5068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gure:  Feedback (Closed Loop) Control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1219320" y="2849400"/>
            <a:ext cx="6761160" cy="210348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3"/>
          <p:cNvSpPr/>
          <p:nvPr/>
        </p:nvSpPr>
        <p:spPr>
          <a:xfrm>
            <a:off x="838080" y="5907240"/>
            <a:ext cx="714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ystem is said to have negative feedback if the sign at the summing junction is negative and positive feedback if the sign is posi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Feedback Form: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885000" cy="30178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228600" y="4130640"/>
            <a:ext cx="4232160" cy="26510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"/>
          <p:cNvPicPr/>
          <p:nvPr/>
        </p:nvPicPr>
        <p:blipFill>
          <a:blip r:embed="rId3"/>
          <a:stretch/>
        </p:blipFill>
        <p:spPr>
          <a:xfrm>
            <a:off x="5786280" y="4541760"/>
            <a:ext cx="2722680" cy="1096920"/>
          </a:xfrm>
          <a:prstGeom prst="rect">
            <a:avLst/>
          </a:prstGeom>
          <a:ln w="0">
            <a:noFill/>
          </a:ln>
        </p:spPr>
      </p:pic>
      <p:sp>
        <p:nvSpPr>
          <p:cNvPr id="611" name="TextBox 5"/>
          <p:cNvSpPr/>
          <p:nvPr/>
        </p:nvSpPr>
        <p:spPr>
          <a:xfrm>
            <a:off x="179280" y="2914560"/>
            <a:ext cx="45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Control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ified Model or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onical F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)  Equivalent Transf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"/>
          <p:cNvPicPr/>
          <p:nvPr/>
        </p:nvPicPr>
        <p:blipFill>
          <a:blip r:embed="rId4"/>
          <a:stretch/>
        </p:blipFill>
        <p:spPr>
          <a:xfrm>
            <a:off x="6648480" y="5961240"/>
            <a:ext cx="2266920" cy="78084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2"/>
          <p:cNvSpPr/>
          <p:nvPr/>
        </p:nvSpPr>
        <p:spPr>
          <a:xfrm>
            <a:off x="3389760" y="602280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equivalent or closed-lo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 fun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ck diagram is a shorthand, graphical representation of a physical system, illustrating the functional relationships among its compon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Block Diagram is a shorthand pictorial representation of the cause-and-effect relationship of a syst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0200" y="80640"/>
            <a:ext cx="83059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haracteristic Equa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16" name="TextBox 7"/>
          <p:cNvSpPr/>
          <p:nvPr/>
        </p:nvSpPr>
        <p:spPr>
          <a:xfrm>
            <a:off x="63360" y="1125360"/>
            <a:ext cx="903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rol ratio is the closed loop transfer func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denominator of closed loop transfer function determines the characteristic equa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ch is usually determ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"/>
              <p:cNvSpPr txBox="1"/>
              <p:nvPr/>
            </p:nvSpPr>
            <p:spPr>
              <a:xfrm>
                <a:off x="2771640" y="2066760"/>
                <a:ext cx="3181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3132000" y="5445000"/>
                <a:ext cx="2544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305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anonical Form of a Feedback Control System</a:t>
            </a:r>
            <a:endParaRPr b="0" lang="en-US" sz="32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2482920" y="1484280"/>
            <a:ext cx="3765600" cy="18288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5257800" cy="2743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"/>
          <p:cNvPicPr/>
          <p:nvPr/>
        </p:nvPicPr>
        <p:blipFill>
          <a:blip r:embed="rId3"/>
          <a:stretch/>
        </p:blipFill>
        <p:spPr>
          <a:xfrm>
            <a:off x="5902200" y="4581360"/>
            <a:ext cx="1190880" cy="648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" descr=""/>
          <p:cNvPicPr/>
          <p:nvPr/>
        </p:nvPicPr>
        <p:blipFill>
          <a:blip r:embed="rId4"/>
          <a:stretch/>
        </p:blipFill>
        <p:spPr>
          <a:xfrm>
            <a:off x="4782960" y="5157720"/>
            <a:ext cx="1229040" cy="590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"/>
          <p:cNvPicPr/>
          <p:nvPr/>
        </p:nvPicPr>
        <p:blipFill>
          <a:blip r:embed="rId5"/>
          <a:stretch/>
        </p:blipFill>
        <p:spPr>
          <a:xfrm>
            <a:off x="3564000" y="5661000"/>
            <a:ext cx="1218960" cy="5428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9"/>
          <p:cNvSpPr/>
          <p:nvPr/>
        </p:nvSpPr>
        <p:spPr>
          <a:xfrm>
            <a:off x="228600" y="621180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stem is said to have negative feedback if the sign at the summing junction is negative and positive feedback if the sign is posi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4"/>
          <p:cNvSpPr/>
          <p:nvPr/>
        </p:nvSpPr>
        <p:spPr>
          <a:xfrm>
            <a:off x="-144360" y="771480"/>
            <a:ext cx="4572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240" indent="-3664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 loop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 Forward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rror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osed loop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aracteristic eq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osed loop poles and zeros if K=10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4933800" y="2421000"/>
            <a:ext cx="4057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630" name="Group 13"/>
          <p:cNvGrpSpPr/>
          <p:nvPr/>
        </p:nvGrpSpPr>
        <p:grpSpPr>
          <a:xfrm>
            <a:off x="1893960" y="633240"/>
            <a:ext cx="5649840" cy="5330880"/>
            <a:chOff x="1893960" y="633240"/>
            <a:chExt cx="5649840" cy="5330880"/>
          </a:xfrm>
        </p:grpSpPr>
        <mc:AlternateContent>
          <mc:Choice xmlns:a14="http://schemas.microsoft.com/office/drawing/2010/main" Requires="a14">
            <p:sp>
              <p:nvSpPr>
                <p:cNvPr id="631" name="Object 2"/>
                <p:cNvSpPr txBox="1"/>
                <p:nvPr/>
              </p:nvSpPr>
              <p:spPr>
                <a:xfrm>
                  <a:off x="3453480" y="633240"/>
                  <a:ext cx="1762560" cy="65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2" name="Object 3"/>
                <p:cNvSpPr txBox="1"/>
                <p:nvPr/>
              </p:nvSpPr>
              <p:spPr>
                <a:xfrm>
                  <a:off x="3722400" y="1330200"/>
                  <a:ext cx="130572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3" name="Object 4"/>
                <p:cNvSpPr txBox="1"/>
                <p:nvPr/>
              </p:nvSpPr>
              <p:spPr>
                <a:xfrm>
                  <a:off x="2025360" y="2134440"/>
                  <a:ext cx="245592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4" name="Object 5"/>
                <p:cNvSpPr txBox="1"/>
                <p:nvPr/>
              </p:nvSpPr>
              <p:spPr>
                <a:xfrm>
                  <a:off x="2225880" y="2999520"/>
                  <a:ext cx="242712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5" name="Object 6"/>
                <p:cNvSpPr txBox="1"/>
                <p:nvPr/>
              </p:nvSpPr>
              <p:spPr>
                <a:xfrm>
                  <a:off x="1893960" y="3805560"/>
                  <a:ext cx="2501280" cy="67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6" name="Object 7"/>
                <p:cNvSpPr txBox="1"/>
                <p:nvPr/>
              </p:nvSpPr>
              <p:spPr>
                <a:xfrm>
                  <a:off x="3565800" y="4606200"/>
                  <a:ext cx="2429280" cy="65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7" name="Object 8"/>
                <p:cNvSpPr txBox="1"/>
                <p:nvPr/>
              </p:nvSpPr>
              <p:spPr>
                <a:xfrm>
                  <a:off x="2931120" y="5603760"/>
                  <a:ext cx="21369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8" name="Object 9"/>
                <p:cNvSpPr txBox="1"/>
                <p:nvPr/>
              </p:nvSpPr>
              <p:spPr>
                <a:xfrm>
                  <a:off x="6978600" y="2018160"/>
                  <a:ext cx="5410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9" name="Object 10"/>
                <p:cNvSpPr txBox="1"/>
                <p:nvPr/>
              </p:nvSpPr>
              <p:spPr>
                <a:xfrm>
                  <a:off x="6980400" y="3773160"/>
                  <a:ext cx="5634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Footer Placeholder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9040" y="213840"/>
            <a:ext cx="83059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haracteristic Equa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705200" cy="4096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3929040" y="2565360"/>
            <a:ext cx="1285920" cy="5526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"/>
          <p:cNvPicPr/>
          <p:nvPr/>
        </p:nvPicPr>
        <p:blipFill>
          <a:blip r:embed="rId3"/>
          <a:stretch/>
        </p:blipFill>
        <p:spPr>
          <a:xfrm>
            <a:off x="38160" y="3578400"/>
            <a:ext cx="9067680" cy="571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"/>
          <p:cNvPicPr/>
          <p:nvPr/>
        </p:nvPicPr>
        <p:blipFill>
          <a:blip r:embed="rId4"/>
          <a:stretch/>
        </p:blipFill>
        <p:spPr>
          <a:xfrm>
            <a:off x="3852720" y="4390920"/>
            <a:ext cx="1438560" cy="3333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5"/>
          <a:stretch/>
        </p:blipFill>
        <p:spPr>
          <a:xfrm>
            <a:off x="1747800" y="4929120"/>
            <a:ext cx="5648400" cy="228600"/>
          </a:xfrm>
          <a:prstGeom prst="rect">
            <a:avLst/>
          </a:prstGeom>
          <a:ln w="0">
            <a:noFill/>
          </a:ln>
        </p:spPr>
      </p:pic>
      <p:sp>
        <p:nvSpPr>
          <p:cNvPr id="647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76200" y="439560"/>
            <a:ext cx="830592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Unity Feedback System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2073240" y="2565360"/>
            <a:ext cx="4875120" cy="125892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2"/>
          <p:cNvGrpSpPr/>
          <p:nvPr/>
        </p:nvGrpSpPr>
        <p:grpSpPr>
          <a:xfrm>
            <a:off x="539640" y="1773360"/>
            <a:ext cx="8244000" cy="647640"/>
            <a:chOff x="539640" y="1773360"/>
            <a:chExt cx="8244000" cy="647640"/>
          </a:xfrm>
        </p:grpSpPr>
        <p:pic>
          <p:nvPicPr>
            <p:cNvPr id="651" name="Picture 3" descr=""/>
            <p:cNvPicPr/>
            <p:nvPr/>
          </p:nvPicPr>
          <p:blipFill>
            <a:blip r:embed="rId2"/>
            <a:stretch/>
          </p:blipFill>
          <p:spPr>
            <a:xfrm>
              <a:off x="539640" y="1773360"/>
              <a:ext cx="8244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4" descr=""/>
            <p:cNvPicPr/>
            <p:nvPr/>
          </p:nvPicPr>
          <p:blipFill>
            <a:blip r:embed="rId3"/>
            <a:stretch/>
          </p:blipFill>
          <p:spPr>
            <a:xfrm>
              <a:off x="3011400" y="2063520"/>
              <a:ext cx="4056120" cy="32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3" name="Picture 5" descr=""/>
          <p:cNvPicPr/>
          <p:nvPr/>
        </p:nvPicPr>
        <p:blipFill>
          <a:blip r:embed="rId4"/>
          <a:stretch/>
        </p:blipFill>
        <p:spPr>
          <a:xfrm>
            <a:off x="108000" y="4003560"/>
            <a:ext cx="8964720" cy="541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5"/>
          <a:stretch/>
        </p:blipFill>
        <p:spPr>
          <a:xfrm>
            <a:off x="596880" y="4797360"/>
            <a:ext cx="7862760" cy="1440000"/>
          </a:xfrm>
          <a:prstGeom prst="rect">
            <a:avLst/>
          </a:prstGeom>
          <a:ln w="0">
            <a:noFill/>
          </a:ln>
        </p:spPr>
      </p:pic>
      <p:sp>
        <p:nvSpPr>
          <p:cNvPr id="655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79280" y="1494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implest form of the block diagram is the single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lock, with one input and one outpu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interior of the rectangle representing the block usually contains a description of or the name of the element, or the symbol for the mathematical operation to be performed on the input to yield the outpu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arrows represent the direction of information or signal flow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30" name="Group 12"/>
          <p:cNvGrpSpPr/>
          <p:nvPr/>
        </p:nvGrpSpPr>
        <p:grpSpPr>
          <a:xfrm>
            <a:off x="2627280" y="5445000"/>
            <a:ext cx="4243320" cy="863640"/>
            <a:chOff x="2627280" y="5445000"/>
            <a:chExt cx="4243320" cy="863640"/>
          </a:xfrm>
        </p:grpSpPr>
        <p:sp>
          <p:nvSpPr>
            <p:cNvPr id="531" name="Rectangle 4"/>
            <p:cNvSpPr/>
            <p:nvPr/>
          </p:nvSpPr>
          <p:spPr>
            <a:xfrm>
              <a:off x="3962160" y="5445000"/>
              <a:ext cx="1584360" cy="863640"/>
            </a:xfrm>
            <a:prstGeom prst="rect">
              <a:avLst/>
            </a:prstGeom>
            <a:solidFill>
              <a:srgbClr val="3891a7"/>
            </a:solidFill>
            <a:ln w="1908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Object 2"/>
                <p:cNvSpPr txBox="1"/>
                <p:nvPr/>
              </p:nvSpPr>
              <p:spPr>
                <a:xfrm>
                  <a:off x="4537800" y="5516640"/>
                  <a:ext cx="360000" cy="71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533" name="Straight Arrow Connector 8"/>
            <p:cNvCxnSpPr/>
            <p:nvPr/>
          </p:nvCxnSpPr>
          <p:spPr>
            <a:xfrm>
              <a:off x="2952720" y="5889240"/>
              <a:ext cx="1010160" cy="1080"/>
            </a:xfrm>
            <a:prstGeom prst="straightConnector1">
              <a:avLst/>
            </a:prstGeom>
            <a:ln w="9360">
              <a:solidFill>
                <a:srgbClr val="3891a7"/>
              </a:solidFill>
              <a:miter/>
              <a:tailEnd len="med" type="arrow" w="med"/>
            </a:ln>
          </p:spPr>
        </p:cxnSp>
        <p:cxnSp>
          <p:nvCxnSpPr>
            <p:cNvPr id="534" name="Straight Arrow Connector 9"/>
            <p:cNvCxnSpPr/>
            <p:nvPr/>
          </p:nvCxnSpPr>
          <p:spPr>
            <a:xfrm>
              <a:off x="5546880" y="5914440"/>
              <a:ext cx="1008720" cy="1080"/>
            </a:xfrm>
            <a:prstGeom prst="straightConnector1">
              <a:avLst/>
            </a:prstGeom>
            <a:ln w="9360">
              <a:solidFill>
                <a:srgbClr val="3891a7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535" name="Object 3"/>
                <p:cNvSpPr txBox="1"/>
                <p:nvPr/>
              </p:nvSpPr>
              <p:spPr>
                <a:xfrm>
                  <a:off x="2627280" y="5775840"/>
                  <a:ext cx="2318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6" name="Object 4"/>
                <p:cNvSpPr txBox="1"/>
                <p:nvPr/>
              </p:nvSpPr>
              <p:spPr>
                <a:xfrm>
                  <a:off x="6613560" y="5779440"/>
                  <a:ext cx="25704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7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79280" y="90792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operations of addition and subtraction have a special represent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block becomes a small circle, called a summing point, with the appropriate plus or minus sign associated with the arrows entering the circl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y number of inputs may enter a summing poin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output is the algebraic sum of the inpu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ome books put a cross in the circl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0" name="Picture 5" descr=""/>
          <p:cNvPicPr/>
          <p:nvPr/>
        </p:nvPicPr>
        <p:blipFill>
          <a:blip r:embed="rId1"/>
          <a:stretch/>
        </p:blipFill>
        <p:spPr>
          <a:xfrm>
            <a:off x="123840" y="5300640"/>
            <a:ext cx="2303280" cy="1085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2160720" cy="10954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"/>
          <p:cNvPicPr/>
          <p:nvPr/>
        </p:nvPicPr>
        <p:blipFill>
          <a:blip r:embed="rId3"/>
          <a:stretch/>
        </p:blipFill>
        <p:spPr>
          <a:xfrm>
            <a:off x="4572000" y="4853160"/>
            <a:ext cx="2281320" cy="1523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"/>
          <p:cNvPicPr/>
          <p:nvPr/>
        </p:nvPicPr>
        <p:blipFill>
          <a:blip r:embed="rId4"/>
          <a:stretch/>
        </p:blipFill>
        <p:spPr>
          <a:xfrm>
            <a:off x="6811920" y="5300640"/>
            <a:ext cx="2297160" cy="1025640"/>
          </a:xfrm>
          <a:prstGeom prst="rect">
            <a:avLst/>
          </a:prstGeom>
          <a:ln w="0">
            <a:noFill/>
          </a:ln>
        </p:spPr>
      </p:pic>
      <p:sp>
        <p:nvSpPr>
          <p:cNvPr id="544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omponents of a Block Diagram for a Linear Time Invariant System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205740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ystem components are alternatively called elements of the syst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ck diagram has four componen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Signals</a:t>
            </a:r>
            <a:endParaRPr b="0" lang="en-US" sz="2600" spc="-1" strike="noStrike">
              <a:solidFill>
                <a:srgbClr val="feb80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System/ block</a:t>
            </a:r>
            <a:endParaRPr b="0" lang="en-US" sz="2600" spc="-1" strike="noStrike">
              <a:solidFill>
                <a:srgbClr val="feb80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Summing junction</a:t>
            </a:r>
            <a:endParaRPr b="0" lang="en-US" sz="2600" spc="-1" strike="noStrike">
              <a:solidFill>
                <a:srgbClr val="feb80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Pick-off/ Take-off point</a:t>
            </a:r>
            <a:endParaRPr b="0" lang="en-US" sz="2600" spc="-1" strike="noStrike">
              <a:solidFill>
                <a:srgbClr val="feb80a"/>
              </a:solidFill>
              <a:latin typeface="Georgia"/>
            </a:endParaRPr>
          </a:p>
        </p:txBody>
      </p:sp>
      <p:sp>
        <p:nvSpPr>
          <p:cNvPr id="547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67640" cy="4038480"/>
          </a:xfrm>
          <a:prstGeom prst="rect">
            <a:avLst/>
          </a:prstGeom>
          <a:ln w="0">
            <a:noFill/>
          </a:ln>
        </p:spPr>
      </p:pic>
      <p:sp>
        <p:nvSpPr>
          <p:cNvPr id="54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79280" y="990720"/>
            <a:ext cx="8640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order to have the same signal or variable be an input to more than one block or summing point, a takeoff point is us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tributes the input signal, undiminished, to several output poin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permits the signal to proceed unaltered along several different paths to several destinati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39640" y="4724280"/>
            <a:ext cx="3919680" cy="1249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5076720" y="4653000"/>
            <a:ext cx="3765600" cy="1166760"/>
          </a:xfrm>
          <a:prstGeom prst="rect">
            <a:avLst/>
          </a:prstGeom>
          <a:ln w="0">
            <a:noFill/>
          </a:ln>
        </p:spPr>
      </p:pic>
      <p:sp>
        <p:nvSpPr>
          <p:cNvPr id="553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50920" y="15699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sider the following equations in which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re variables, and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, 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 ar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eneral coefficients or mathematical operat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"/>
              <p:cNvSpPr txBox="1"/>
              <p:nvPr/>
            </p:nvSpPr>
            <p:spPr>
              <a:xfrm>
                <a:off x="2987640" y="2924280"/>
                <a:ext cx="3316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2916360" y="3757680"/>
            <a:ext cx="3600360" cy="1576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2987640" y="5600880"/>
            <a:ext cx="3381480" cy="876240"/>
          </a:xfrm>
          <a:prstGeom prst="rect">
            <a:avLst/>
          </a:prstGeom>
          <a:ln w="0">
            <a:noFill/>
          </a:ln>
        </p:spPr>
      </p:pic>
      <p:sp>
        <p:nvSpPr>
          <p:cNvPr id="55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50920" y="1494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sider the following equations in which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re variables, and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, 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 ar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eneral coefficients or mathematical operat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2"/>
              <p:cNvSpPr txBox="1"/>
              <p:nvPr/>
            </p:nvSpPr>
            <p:spPr>
              <a:xfrm>
                <a:off x="2987640" y="2771640"/>
                <a:ext cx="3316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2867040" y="3886200"/>
            <a:ext cx="4143240" cy="2448000"/>
          </a:xfrm>
          <a:prstGeom prst="rect">
            <a:avLst/>
          </a:prstGeom>
          <a:ln w="0">
            <a:noFill/>
          </a:ln>
        </p:spPr>
      </p:pic>
      <p:sp>
        <p:nvSpPr>
          <p:cNvPr id="564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6:09:38Z</dcterms:created>
  <dc:creator>Dr. Pervaiz Iqbal</dc:creator>
  <dc:description/>
  <dc:language>en-US</dc:language>
  <cp:lastModifiedBy>Zeyad Al-Obaidi</cp:lastModifiedBy>
  <dcterms:modified xsi:type="dcterms:W3CDTF">2019-10-21T07:27:59Z</dcterms:modified>
  <cp:revision>52</cp:revision>
  <dc:subject/>
  <dc:title>Block Diagram fundamentals &amp; reduction techniques</dc:title>
</cp:coreProperties>
</file>