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AD8-EB91-49F4-AC63-E1CDC1C68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olgy: the way in which constituent parts are interrelated or arr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B5E-BD5E-4185-AAE8-A276C64D6C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use-effect 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a relationship in which one event (the cause) makes another event happen (the effect). The loud sound of the alarm was the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ithout the alarm, you probably would have overslept. In this scenario the alarm had the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of you waking up at a certain ti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B914-844C-4984-A0F6-679B70132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Nise-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0EE-1CF0-46E5-8FD6-B5631C4DF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307-CE99-4D7D-8442-47B98C1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83C-9AEF-4763-B9BC-00D0B32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1AAE9-64EF-4BCC-8D9C-5C0AA5A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5843A-2E02-4EA4-B4D0-44A63D8D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08C90-1C49-493C-BD71-9B085BC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8941F-5329-44C7-A1BC-77E847C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15DC-5AB7-4E0F-A50D-2461B52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D8A9A-F6E8-422B-BB1C-6C2F48A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6296B-9493-4610-A684-651A502B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06D8-495F-4AD3-BCDB-5943FD6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5B62B-F237-43C7-904A-156BB0D1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1FF33-D0C9-4913-83BE-B7930514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96B-472F-40DA-A37E-0681D9FB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3DCED-206B-4445-A939-E5AD38B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CC1DC-C7BA-4425-8828-5DEF7C69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E052-265F-42B9-89EB-F01F130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9A780-285B-4971-BFE8-FD88F63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53363-299D-486A-9590-37E38AFB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96AB6-68F1-4508-AAF5-E3BA33B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0E88D-D34E-44A6-8D58-7562F1F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99DE6-0FCE-41C7-A5E4-42FB552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B4F1-626B-4554-9D45-8CA884CF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FF206-CA35-46D8-894F-3B5B186D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650-AE5A-483A-9057-1BCC32CF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8CDEB-2BFB-41FF-AE89-CC100295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31AE9-F425-4C95-B2B5-F1B879DD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BAEE-C204-4EE8-B85B-8FAB1C45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92990-A1CB-4C8B-936F-74BBED5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24A3-F730-4B3F-9218-8BD35AA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471BA-5E82-4141-B55E-DC0E4E6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33A1-9DCB-4346-A07D-096E179E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CE0ED-F17F-402D-9E3E-2BA8BC0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F4AB3-9054-436D-AEE0-9885873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A2679-F447-4CC8-BE10-D62E935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3BD-1709-41AC-8BB4-5B5CE4EC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B985B-7564-4773-99DB-D6C3DCB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B6065-D0B7-4741-BAB4-4E752403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58785-2CA1-454E-B291-2B7A65A2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08C90-F08C-4D26-9FC4-3DAD86EC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84991-E596-486D-B4D1-A892985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777F-6045-40F2-950C-5D4EA77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C4B92-9D93-48BF-AB42-EA5B7C63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F62BD-28E8-4D69-954C-65608F4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F1348-2393-44C9-AF43-57DBBA85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438C6-412D-4DF8-A63B-D826CD0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8657-3854-4EC5-AD47-88FFE5D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F307-5C52-4AD2-B2C5-D6088FC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49E59-4C11-4A3A-88F9-7A2561C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E2F1A-0160-42DF-B7BD-D4AA930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D4101-68AC-4079-B791-9F5C0827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2D314-5578-4A44-AEBD-5128185A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3C8-8AFD-4469-B674-3793590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ED9C-EE32-4E59-AE8F-2CA079F5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E67-724B-4E63-BAFD-27B1D7D6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99AB-3B68-4A5F-8ECD-833E998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55CC-77A7-4A48-A650-F1C0894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454-7B5B-4089-BFBF-C0B6AF98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43A5-320A-4D43-B02F-FD00243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A555-9828-418F-92B3-61BA5CC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B6D-E27F-4AB6-B5AD-8DFE8EE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A9CC-A3A7-4D55-B9D1-F431F60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2AE-4CA1-4B07-82B7-341251D5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C2CC-FCAE-443A-93C6-687757A2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EF4E-ACD8-42AF-8C84-92BE1DBB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9D4F-32B0-4DC4-90E8-9E6ECC6E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4200-00CC-4F23-A286-FCB28D1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81D0-9C74-44E6-8073-1E9B83A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626-74B1-4235-8FAA-DF5EC9E5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033E-447E-4F38-90FF-CC4A11D9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83D5-7EE4-465B-88C2-2332269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B396-30CF-485A-9944-97DEA85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F5E4-571E-41B1-998F-5267252F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78B6-9AF7-49E4-BB95-0DDB16FA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BA3A-AAB7-4EB3-86A8-E37C1BC2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434E-4348-445C-B08C-D1B1C9A9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A670-8B40-4CDF-8C1A-F1740327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8121-6B99-47F0-A31F-AC810D8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FBC8-17A3-4829-AA9E-61ACC8CF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0ED-03F4-47CF-B14E-D0C241F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EBC9-45E3-4A29-9E97-89F0200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5C24-2A66-42D5-8151-247A038A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5CDA-0CD3-44FF-BBA5-6BEA66A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5B87-2886-4FDF-B214-70E874E7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219C-E52F-4A3F-A552-9822430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81B0-8EE1-4705-9095-B715B94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A72D-99D9-4533-BF2F-50969F7D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6F65-F9E6-4752-951F-8C84D7E2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5A6D-C0DC-40F4-8988-A2AD5882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8F0C-B040-4C2B-8235-F0A3C129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D51-63A2-4DA4-AA8D-C77879C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A230-84A6-4ECF-A6B0-048DF67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33D6-E278-4FBC-BACC-1F5E7164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3B1D-2927-400F-9530-0B2E9C47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E466-80DE-4D4D-9A9E-6E09F62F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74398-348C-4B32-9887-DC119841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4E07-4C82-4594-9D88-D2CBFB5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2CCA-1D59-4ABC-A08D-13A0CC0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A296-3691-4979-8F05-8FD4DDB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530EA-AD54-4BB8-B865-641BFDD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C072-1DFC-4F94-84D5-AC863272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81A-3CC3-488F-9A5D-EC6303C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857D-BF38-4A35-9B36-34C21867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493A0-FA08-4A63-A911-2508C7D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D0D0F-4A44-4B29-BBDF-74DA655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6A851-4153-42F4-B325-916325A2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79D83-072A-4FBC-A951-4C67C87C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005A7-D893-4F0A-8DC6-D96B536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47622-7B3B-42E5-A7D0-686E3A4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83EF6-F321-4A86-B78A-097517F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9CE12-A77E-456C-B2F0-90CE7B1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5725C-B3DD-4CA6-90D4-4CD2DDB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B80-43F4-47DF-B46A-B040545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98630-77B6-4380-A7EB-44B6EB4A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A5554-691B-486E-9363-FE5454B3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72B30-45A5-4081-93A5-ABA08F51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B865-682A-4B22-9A9B-39B66048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5D4B-1738-45E3-9BF6-4A94930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5B80-11AD-4BE5-9ECA-12E479B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C95A-C503-4DEF-85C2-4E1A386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7886-18D8-412E-936D-0ECDD8A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1E26F-48CB-4882-A206-440BF88F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B1B4-0FAA-4260-8392-6BEBF6C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651-A66E-4473-BC5C-B9105DB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CDAC-FB41-43C8-A896-33A0285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0B5D-020C-411C-8A4A-7A33D27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D68F-C2C8-4D3F-9449-B37CBBE0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1F7E-AADD-4D1D-88EF-1A7D412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87C3-7632-47DB-90F2-71E5ABE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2272-46E2-43C9-8521-D9DD5072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70F6D-AC55-4D01-8CB7-B244A1BD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777B-7077-4AAB-979A-E3406AE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14D9-0640-45C3-9FC9-F92D816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0C53-5C98-45B7-87E3-A439361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C72-DF8B-4F78-B089-510685F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7E4F0-D6CA-41CA-B877-F92E6B7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2569-02C0-448A-A946-795F5989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EF04-243C-4AA7-BC5B-B02376BD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7351-6D6B-4AE2-B555-DB49B3E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8F31-C1B7-4F48-A696-F0D403C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BA71B-CE4F-4B31-BD56-EAAAAB6F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C795-C883-4381-9259-E9B0D800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B22A-BFA2-4E65-9460-0F31F139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53288-068C-460B-809E-54B6D399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18CE-AF2D-4324-9CD4-06A18D8D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50C-111C-4791-8525-D08C99AA04E0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9B9-0D32-4526-8DCC-AF4C3E99633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11B-6059-41A3-A80D-C26B10B2F4FF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FA3-34B7-43FF-88DC-063AC084CDB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A2D-D293-4DA7-B336-61A958413399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D91-24D2-46A0-8F7C-FE88A67D546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689-72E4-4313-8A3D-4698F08583E2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8B0-646A-45F6-BC1D-7B5F9929A46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4D0-B3E7-41CE-A173-D6BCE4074BB3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482-51CD-45C0-BFF0-76C6901C298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C43-2A1B-4339-8665-5C3386B97C40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9297-1372-475D-8EFE-E9CF830F704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F30-3AC0-41D3-9A84-91C39A795F0A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AAD-FF9E-4677-8C5C-6F59E164F76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4531-40C1-4417-841E-8D4DFB85E51B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3C3-90DA-4F8C-8737-E667DAEBF24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AC89-67FF-4F9C-B025-0ED10A90C759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BA7B-6EC6-48FB-A3BA-185C1C4566A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525-7AA7-4D51-A87B-7A5074BC3A3C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21F-FEB7-4E8C-8344-14BE1C3674A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E2A-7CD6-47EB-B98E-0A720FA9579E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DC37-7626-4EC4-9CE3-B004628F7B5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b"/>
            </a:gs>
            <a:gs pos="100000">
              <a:srgbClr val="bfe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6ED-C86A-4CB5-A9B3-41F9AC6F21AE}" type="datetime">
              <a:rPr b="0" lang="en-GB" sz="800" spc="-1" strike="noStrike">
                <a:solidFill>
                  <a:srgbClr val="feb80a"/>
                </a:solidFill>
                <a:latin typeface="Georgia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116-AC62-44B0-B206-C2D5C88FC59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lock Diagram fundamentals</a:t>
            </a:r>
            <a:endParaRPr b="0" lang="en-US" sz="44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4" name="Footer Placeholder 1"/>
          <p:cNvSpPr/>
          <p:nvPr/>
        </p:nvSpPr>
        <p:spPr>
          <a:xfrm>
            <a:off x="2133720" y="63644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tro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. . . 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. . . 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,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416320" y="2849400"/>
                <a:ext cx="446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2909880" y="3859200"/>
            <a:ext cx="4164120" cy="2693880"/>
          </a:xfrm>
          <a:prstGeom prst="rect">
            <a:avLst/>
          </a:prstGeom>
          <a:ln w="0">
            <a:noFill/>
          </a:ln>
        </p:spPr>
      </p:pic>
      <p:sp>
        <p:nvSpPr>
          <p:cNvPr id="56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0920" y="1494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raw the Block Diagrams of the following equa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2"/>
              <p:cNvSpPr txBox="1"/>
              <p:nvPr/>
            </p:nvSpPr>
            <p:spPr>
              <a:xfrm>
                <a:off x="684360" y="2585880"/>
                <a:ext cx="53290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opologies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will now examine some common topologies for interconnecting subsystems and derive the single transfer function representation for each of the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common topologies will form the basis for reducing more complicated systems to a single bloc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ASCAD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finite number of blocks in series may be algebraically combined by multiplication of transfer func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n components or blocks with transfer functions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,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, . . . ,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, connected in cascad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equivalent to a single element G with a transfer function given b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895480" y="5715000"/>
            <a:ext cx="3505320" cy="609480"/>
          </a:xfrm>
          <a:prstGeom prst="rect">
            <a:avLst/>
          </a:prstGeom>
          <a:ln w="0">
            <a:noFill/>
          </a:ln>
        </p:spPr>
      </p:pic>
      <p:sp>
        <p:nvSpPr>
          <p:cNvPr id="580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ltiplication of transfer functions is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ommutative; that i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GiGj = Gj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any i or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j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72560" cy="685800"/>
          </a:xfrm>
          <a:prstGeom prst="rect">
            <a:avLst/>
          </a:prstGeom>
          <a:ln w="0">
            <a:noFill/>
          </a:ln>
        </p:spPr>
      </p:pic>
      <p:sp>
        <p:nvSpPr>
          <p:cNvPr id="58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scade</a:t>
            </a:r>
            <a:r>
              <a:rPr b="0" lang="en-GB" sz="4000" spc="-1" strike="noStrike">
                <a:solidFill>
                  <a:srgbClr val="4f271c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349200" y="1828800"/>
            <a:ext cx="8337600" cy="2651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4294080" y="5877000"/>
            <a:ext cx="2581560" cy="523800"/>
          </a:xfrm>
          <a:prstGeom prst="rect">
            <a:avLst/>
          </a:prstGeom>
          <a:ln w="0">
            <a:noFill/>
          </a:ln>
        </p:spPr>
      </p:pic>
      <p:sp>
        <p:nvSpPr>
          <p:cNvPr id="588" name="TextBox 2"/>
          <p:cNvSpPr/>
          <p:nvPr/>
        </p:nvSpPr>
        <p:spPr>
          <a:xfrm>
            <a:off x="755640" y="457056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) Cascaded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)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arallel Form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76160"/>
            <a:ext cx="8229600" cy="13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allel subsystems have a common input and an output formed by the algebraic sum of the outputs from all of the subsystem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2666880" y="56386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Parallel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5646600" cy="20113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arallel Form: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990720" y="1668600"/>
            <a:ext cx="7210440" cy="4114800"/>
          </a:xfrm>
          <a:prstGeom prst="rect">
            <a:avLst/>
          </a:prstGeom>
          <a:ln w="0">
            <a:noFill/>
          </a:ln>
        </p:spPr>
      </p:pic>
      <p:sp>
        <p:nvSpPr>
          <p:cNvPr id="597" name="TextBox 3"/>
          <p:cNvSpPr/>
          <p:nvPr/>
        </p:nvSpPr>
        <p:spPr>
          <a:xfrm>
            <a:off x="5307120" y="38005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) Parallel Sub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)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4619520" y="5977080"/>
            <a:ext cx="3229200" cy="50472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680400" y="602136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Feedback Form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4920" y="11430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hird topology is the feedback form. Let us derive the transfer function that represents the system from its input to its output. The typical feedback system, shown in fig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1981080" y="5068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gure:  Feedback (Closed Loop) Contro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1219320" y="2849400"/>
            <a:ext cx="6761160" cy="21034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838080" y="5907240"/>
            <a:ext cx="714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stem is said to have negative feedback if the sign at the summing junction is negative and positive feedback if the sign is po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Feedback Form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885000" cy="30178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228600" y="4130640"/>
            <a:ext cx="4232160" cy="2651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"/>
          <p:cNvPicPr/>
          <p:nvPr/>
        </p:nvPicPr>
        <p:blipFill>
          <a:blip r:embed="rId3"/>
          <a:stretch/>
        </p:blipFill>
        <p:spPr>
          <a:xfrm>
            <a:off x="5786280" y="4541760"/>
            <a:ext cx="2722680" cy="10969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179280" y="2914560"/>
            <a:ext cx="45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Contro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 Model or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onical F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)  Equivalent Transf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"/>
          <p:cNvPicPr/>
          <p:nvPr/>
        </p:nvPicPr>
        <p:blipFill>
          <a:blip r:embed="rId4"/>
          <a:stretch/>
        </p:blipFill>
        <p:spPr>
          <a:xfrm>
            <a:off x="6648480" y="5961240"/>
            <a:ext cx="2266920" cy="7808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2"/>
          <p:cNvSpPr/>
          <p:nvPr/>
        </p:nvSpPr>
        <p:spPr>
          <a:xfrm>
            <a:off x="3389760" y="602280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quivalent or closed-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ck diagram is a shorthand, graphical representation of a physical system, illustrating the functional relationships among its compon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Block Diagram is a shorthand pictorial representation of the cause-and-effect relationship of a 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0200" y="80640"/>
            <a:ext cx="83059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aracteristic Equa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63360" y="1125360"/>
            <a:ext cx="903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rol ratio is the closed loop transfer func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denominator of closed loop transfer function determines the characteristic equa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is usually determ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2771640" y="2066760"/>
                <a:ext cx="3181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3132000" y="5445000"/>
                <a:ext cx="2544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05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anonical Form of a Feedback Control System</a:t>
            </a: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2482920" y="1484280"/>
            <a:ext cx="3765600" cy="1828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"/>
          <p:cNvPicPr/>
          <p:nvPr/>
        </p:nvPicPr>
        <p:blipFill>
          <a:blip r:embed="rId3"/>
          <a:stretch/>
        </p:blipFill>
        <p:spPr>
          <a:xfrm>
            <a:off x="5902200" y="4581360"/>
            <a:ext cx="1190880" cy="64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"/>
          <p:cNvPicPr/>
          <p:nvPr/>
        </p:nvPicPr>
        <p:blipFill>
          <a:blip r:embed="rId4"/>
          <a:stretch/>
        </p:blipFill>
        <p:spPr>
          <a:xfrm>
            <a:off x="4782960" y="5157720"/>
            <a:ext cx="1229040" cy="590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"/>
          <p:cNvPicPr/>
          <p:nvPr/>
        </p:nvPicPr>
        <p:blipFill>
          <a:blip r:embed="rId5"/>
          <a:stretch/>
        </p:blipFill>
        <p:spPr>
          <a:xfrm>
            <a:off x="3564000" y="5661000"/>
            <a:ext cx="1218960" cy="5428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9"/>
          <p:cNvSpPr/>
          <p:nvPr/>
        </p:nvSpPr>
        <p:spPr>
          <a:xfrm>
            <a:off x="228600" y="62118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stem is said to have negative feedback if the sign at the summing junction is negative and positive feedback if the sign is po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4"/>
          <p:cNvSpPr/>
          <p:nvPr/>
        </p:nvSpPr>
        <p:spPr>
          <a:xfrm>
            <a:off x="-144360" y="771480"/>
            <a:ext cx="4572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366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 loop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 Forward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rror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osed loop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stic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366480" algn="just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osed loop poles and zeros if K=1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4933800" y="2421000"/>
            <a:ext cx="4057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630" name="Group 13"/>
          <p:cNvGrpSpPr/>
          <p:nvPr/>
        </p:nvGrpSpPr>
        <p:grpSpPr>
          <a:xfrm>
            <a:off x="1893960" y="633240"/>
            <a:ext cx="5649840" cy="5330880"/>
            <a:chOff x="1893960" y="633240"/>
            <a:chExt cx="5649840" cy="5330880"/>
          </a:xfrm>
        </p:grpSpPr>
        <mc:AlternateContent>
          <mc:Choice xmlns:a14="http://schemas.microsoft.com/office/drawing/2010/main" Requires="a14">
            <p:sp>
              <p:nvSpPr>
                <p:cNvPr id="631" name="Object 2"/>
                <p:cNvSpPr txBox="1"/>
                <p:nvPr/>
              </p:nvSpPr>
              <p:spPr>
                <a:xfrm>
                  <a:off x="3453480" y="633240"/>
                  <a:ext cx="1762560" cy="65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2" name="Object 3"/>
                <p:cNvSpPr txBox="1"/>
                <p:nvPr/>
              </p:nvSpPr>
              <p:spPr>
                <a:xfrm>
                  <a:off x="3722400" y="1330200"/>
                  <a:ext cx="13057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3" name="Object 4"/>
                <p:cNvSpPr txBox="1"/>
                <p:nvPr/>
              </p:nvSpPr>
              <p:spPr>
                <a:xfrm>
                  <a:off x="2025360" y="2134440"/>
                  <a:ext cx="24559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4" name="Object 5"/>
                <p:cNvSpPr txBox="1"/>
                <p:nvPr/>
              </p:nvSpPr>
              <p:spPr>
                <a:xfrm>
                  <a:off x="2225880" y="2999520"/>
                  <a:ext cx="24271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Object 6"/>
                <p:cNvSpPr txBox="1"/>
                <p:nvPr/>
              </p:nvSpPr>
              <p:spPr>
                <a:xfrm>
                  <a:off x="1893960" y="3805560"/>
                  <a:ext cx="2501280" cy="67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Object 7"/>
                <p:cNvSpPr txBox="1"/>
                <p:nvPr/>
              </p:nvSpPr>
              <p:spPr>
                <a:xfrm>
                  <a:off x="3565800" y="4606200"/>
                  <a:ext cx="2429280" cy="65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7" name="Object 8"/>
                <p:cNvSpPr txBox="1"/>
                <p:nvPr/>
              </p:nvSpPr>
              <p:spPr>
                <a:xfrm>
                  <a:off x="2931120" y="5603760"/>
                  <a:ext cx="21369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8" name="Object 9"/>
                <p:cNvSpPr txBox="1"/>
                <p:nvPr/>
              </p:nvSpPr>
              <p:spPr>
                <a:xfrm>
                  <a:off x="6978600" y="2018160"/>
                  <a:ext cx="541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9" name="Object 10"/>
                <p:cNvSpPr txBox="1"/>
                <p:nvPr/>
              </p:nvSpPr>
              <p:spPr>
                <a:xfrm>
                  <a:off x="6980400" y="3773160"/>
                  <a:ext cx="5634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Footer Placeholder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9040" y="213840"/>
            <a:ext cx="83059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aracteristic Equa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705200" cy="4096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3929040" y="2565360"/>
            <a:ext cx="1285920" cy="5526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"/>
          <p:cNvPicPr/>
          <p:nvPr/>
        </p:nvPicPr>
        <p:blipFill>
          <a:blip r:embed="rId3"/>
          <a:stretch/>
        </p:blipFill>
        <p:spPr>
          <a:xfrm>
            <a:off x="38160" y="3578400"/>
            <a:ext cx="9067680" cy="57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4"/>
          <a:stretch/>
        </p:blipFill>
        <p:spPr>
          <a:xfrm>
            <a:off x="3852720" y="4390920"/>
            <a:ext cx="1438560" cy="333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5"/>
          <a:stretch/>
        </p:blipFill>
        <p:spPr>
          <a:xfrm>
            <a:off x="1747800" y="4929120"/>
            <a:ext cx="5648400" cy="228600"/>
          </a:xfrm>
          <a:prstGeom prst="rect">
            <a:avLst/>
          </a:prstGeom>
          <a:ln w="0">
            <a:noFill/>
          </a:ln>
        </p:spPr>
      </p:pic>
      <p:sp>
        <p:nvSpPr>
          <p:cNvPr id="64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76200" y="439560"/>
            <a:ext cx="830592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Unity Feedback System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073240" y="2565360"/>
            <a:ext cx="4875120" cy="125892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2"/>
          <p:cNvGrpSpPr/>
          <p:nvPr/>
        </p:nvGrpSpPr>
        <p:grpSpPr>
          <a:xfrm>
            <a:off x="539640" y="1773360"/>
            <a:ext cx="8244000" cy="647640"/>
            <a:chOff x="539640" y="1773360"/>
            <a:chExt cx="8244000" cy="647640"/>
          </a:xfrm>
        </p:grpSpPr>
        <p:pic>
          <p:nvPicPr>
            <p:cNvPr id="651" name="Picture 3" descr=""/>
            <p:cNvPicPr/>
            <p:nvPr/>
          </p:nvPicPr>
          <p:blipFill>
            <a:blip r:embed="rId2"/>
            <a:stretch/>
          </p:blipFill>
          <p:spPr>
            <a:xfrm>
              <a:off x="539640" y="1773360"/>
              <a:ext cx="8244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" descr=""/>
            <p:cNvPicPr/>
            <p:nvPr/>
          </p:nvPicPr>
          <p:blipFill>
            <a:blip r:embed="rId3"/>
            <a:stretch/>
          </p:blipFill>
          <p:spPr>
            <a:xfrm>
              <a:off x="3011400" y="2063520"/>
              <a:ext cx="405612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3" name="Picture 5" descr=""/>
          <p:cNvPicPr/>
          <p:nvPr/>
        </p:nvPicPr>
        <p:blipFill>
          <a:blip r:embed="rId4"/>
          <a:stretch/>
        </p:blipFill>
        <p:spPr>
          <a:xfrm>
            <a:off x="108000" y="4003560"/>
            <a:ext cx="8964720" cy="541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5"/>
          <a:stretch/>
        </p:blipFill>
        <p:spPr>
          <a:xfrm>
            <a:off x="596880" y="4797360"/>
            <a:ext cx="7862760" cy="1440000"/>
          </a:xfrm>
          <a:prstGeom prst="rect">
            <a:avLst/>
          </a:prstGeom>
          <a:ln w="0">
            <a:noFill/>
          </a:ln>
        </p:spPr>
      </p:pic>
      <p:sp>
        <p:nvSpPr>
          <p:cNvPr id="655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79280" y="1494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implest form of the block diagram is the single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lock, with one input and one outpu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interior of the rectangle representing the block usually contains a description of or the name of the element, or the symbol for the mathematical operation to be performed on the input to yield the outpu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arrows represent the direction of information or signal flow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30" name="Group 12"/>
          <p:cNvGrpSpPr/>
          <p:nvPr/>
        </p:nvGrpSpPr>
        <p:grpSpPr>
          <a:xfrm>
            <a:off x="2627280" y="5445000"/>
            <a:ext cx="4243320" cy="863640"/>
            <a:chOff x="2627280" y="5445000"/>
            <a:chExt cx="4243320" cy="863640"/>
          </a:xfrm>
        </p:grpSpPr>
        <p:sp>
          <p:nvSpPr>
            <p:cNvPr id="531" name="Rectangle 4"/>
            <p:cNvSpPr/>
            <p:nvPr/>
          </p:nvSpPr>
          <p:spPr>
            <a:xfrm>
              <a:off x="3962160" y="5445000"/>
              <a:ext cx="1584360" cy="863640"/>
            </a:xfrm>
            <a:prstGeom prst="rect">
              <a:avLst/>
            </a:prstGeom>
            <a:solidFill>
              <a:srgbClr val="3891a7"/>
            </a:solidFill>
            <a:ln w="1908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2"/>
                <p:cNvSpPr txBox="1"/>
                <p:nvPr/>
              </p:nvSpPr>
              <p:spPr>
                <a:xfrm>
                  <a:off x="4537800" y="5516640"/>
                  <a:ext cx="360000" cy="71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533" name="Straight Arrow Connector 8"/>
            <p:cNvCxnSpPr/>
            <p:nvPr/>
          </p:nvCxnSpPr>
          <p:spPr>
            <a:xfrm>
              <a:off x="2952720" y="5889240"/>
              <a:ext cx="1010160" cy="108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cxnSp>
          <p:nvCxnSpPr>
            <p:cNvPr id="534" name="Straight Arrow Connector 9"/>
            <p:cNvCxnSpPr/>
            <p:nvPr/>
          </p:nvCxnSpPr>
          <p:spPr>
            <a:xfrm>
              <a:off x="5546880" y="5914440"/>
              <a:ext cx="1008720" cy="108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35" name="Object 3"/>
                <p:cNvSpPr txBox="1"/>
                <p:nvPr/>
              </p:nvSpPr>
              <p:spPr>
                <a:xfrm>
                  <a:off x="2627280" y="5775840"/>
                  <a:ext cx="2318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6" name="Object 4"/>
                <p:cNvSpPr txBox="1"/>
                <p:nvPr/>
              </p:nvSpPr>
              <p:spPr>
                <a:xfrm>
                  <a:off x="6613560" y="5779440"/>
                  <a:ext cx="25704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9280" y="90792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operations of addition and subtraction have a special represent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block becomes a small circle, called a summing point, with the appropriate plus or minus sign associated with the arrows entering the circ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y number of inputs may enter a summing poi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e output is the algebraic sum of the inpu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ome books put a cross in the circ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123840" y="5300640"/>
            <a:ext cx="2303280" cy="1085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2160720" cy="1095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"/>
          <p:cNvPicPr/>
          <p:nvPr/>
        </p:nvPicPr>
        <p:blipFill>
          <a:blip r:embed="rId3"/>
          <a:stretch/>
        </p:blipFill>
        <p:spPr>
          <a:xfrm>
            <a:off x="4572000" y="4853160"/>
            <a:ext cx="2281320" cy="1523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4"/>
          <a:stretch/>
        </p:blipFill>
        <p:spPr>
          <a:xfrm>
            <a:off x="6811920" y="5300640"/>
            <a:ext cx="2297160" cy="1025640"/>
          </a:xfrm>
          <a:prstGeom prst="rect">
            <a:avLst/>
          </a:prstGeom>
          <a:ln w="0">
            <a:noFill/>
          </a:ln>
        </p:spPr>
      </p:pic>
      <p:sp>
        <p:nvSpPr>
          <p:cNvPr id="54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mponents of a Block Diagram for a Linear Time Invariant System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05740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stem components are alternatively called elements of the 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ck diagram has four compon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ignals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ystem/ block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Summing junction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Pick-off/ Take-off point</a:t>
            </a:r>
            <a:endParaRPr b="0" lang="en-US" sz="2600" spc="-1" strike="noStrike">
              <a:solidFill>
                <a:srgbClr val="feb80a"/>
              </a:solidFill>
              <a:latin typeface="Georgia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67640" cy="4038480"/>
          </a:xfrm>
          <a:prstGeom prst="rect">
            <a:avLst/>
          </a:prstGeom>
          <a:ln w="0">
            <a:noFill/>
          </a:ln>
        </p:spPr>
      </p:pic>
      <p:sp>
        <p:nvSpPr>
          <p:cNvPr id="54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79280" y="990720"/>
            <a:ext cx="8640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In order to have the same signal or variable be an input to more than one block or summing point, a takeoff point is us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tributes the input signal, undiminished, to several output poin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his permits the signal to proceed unaltered along several different paths to several destina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3919680" cy="1249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3765600" cy="1166760"/>
          </a:xfrm>
          <a:prstGeom prst="rect">
            <a:avLst/>
          </a:prstGeom>
          <a:ln w="0">
            <a:noFill/>
          </a:ln>
        </p:spPr>
      </p:pic>
      <p:sp>
        <p:nvSpPr>
          <p:cNvPr id="553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50920" y="15699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2987640" y="2924280"/>
                <a:ext cx="3316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2916360" y="3757680"/>
            <a:ext cx="3600360" cy="1576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2987640" y="5600880"/>
            <a:ext cx="3381480" cy="87624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50920" y="1494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sider the following equations in which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, are variables, and 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, 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Georgia"/>
              </a:rPr>
              <a:t> are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general coefficients or mathematical opera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2987640" y="2771640"/>
                <a:ext cx="3316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867040" y="3886200"/>
            <a:ext cx="4143240" cy="2448000"/>
          </a:xfrm>
          <a:prstGeom prst="rect">
            <a:avLst/>
          </a:prstGeom>
          <a:ln w="0">
            <a:noFill/>
          </a:ln>
        </p:spPr>
      </p:pic>
      <p:sp>
        <p:nvSpPr>
          <p:cNvPr id="564" name="Footer Placeholder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Control Engineering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6:09:38Z</dcterms:created>
  <dc:creator>Dr. Pervaiz Iqbal</dc:creator>
  <dc:description/>
  <dc:language>en-US</dc:language>
  <cp:lastModifiedBy>Zeyad Al-Obaidi</cp:lastModifiedBy>
  <dcterms:modified xsi:type="dcterms:W3CDTF">2019-10-21T07:27:59Z</dcterms:modified>
  <cp:revision>52</cp:revision>
  <dc:subject/>
  <dc:title>Block Diagram fundamentals &amp; reduction techniques</dc:title>
</cp:coreProperties>
</file>