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CC850F-28F5-4FA9-B14C-0F3D067D5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21E2C9-BEA1-4BAE-BB21-1F9588DCC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C80D66-7DBF-42B5-8021-FC5D14EF9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80B739-7EC7-4D6B-8315-9B213C41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26F7C0-64AF-4886-9595-C55B7C5C2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7C9A7D-A384-459B-9286-FC2A0A1FA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ED2426-9A95-4D3C-BC56-E17F623A8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3EA45F-1A77-4CA5-A623-CC3220C19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889EEF-8E3C-4247-949B-C7229DE6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8EA6E-3F32-495A-A94A-8CECA4D0F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A867A0-74F5-47A6-8C36-4B30750B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B2963D-9B8F-4B70-93FC-16872F412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A656E4-A4BD-4F63-A4F8-F2BFB933F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E60832-E931-4F1A-A3AB-288EE4CD8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F299AA-4E38-4B45-BA6E-DDD36A4C1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1D144F-2B87-4D06-AC01-8B8416CEA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08636A-5937-4593-BFDC-F27F50160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FA9D37-1244-4FEC-AC99-94A3842FF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E43B3F-0F1F-445D-90A5-7725E1910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BF25BA-95BB-416B-AFB9-C0CA04021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65AF9F-04AF-4EBC-906F-2AAE197B2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25C67B-2987-42E5-9076-92AB59B8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9BA4D3-4646-41AB-9837-7B6F0595F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193F84-F147-4CAB-A172-5FD8A080B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16A1DA-C473-48D8-9799-182118036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147EAE-FD4A-4F96-AAA0-07E97FB47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DBEDE-4F90-49F9-A5A6-E1762271F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D9FD-6E01-49C6-8EBE-40ECBE57F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B2EA-04C9-46D9-9BDF-74F563DE8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85C3-E77F-4CE7-8DDD-FDD2CBDAD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3032-54A8-4B13-8280-A64E7FF67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4B7B-2A30-4A20-A049-4BE7406D9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6F85-FBEB-4CB5-8083-E7EB6A15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7C08-27B6-4DA3-8097-5068C6A5C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6B5F-C7B7-439A-BDAB-3FFDCB285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703D-4F06-4FDD-99F9-624CFB894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03F8-BE88-49A0-80AE-9D671EABF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B968-2142-4A52-8959-32E8C711E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ED1B-2A82-45B6-B809-7C7AF3B1F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827280" cy="59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Line 7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4720" y="6337080"/>
            <a:ext cx="101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44A4-EC97-43D8-86E9-74C43BB88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ntel x86 Architectur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Computer Organization and Assembly Languag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Yung-Yu Chuang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C2A-ED37-4E8A-9516-3ADC12F6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des of oper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ed m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mode (Windows, Linux), full features, separate memo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l-address m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MS-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stem management m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management, system security, diagno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71640" y="2554200"/>
            <a:ext cx="7467480" cy="14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-8086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hybrid of Pro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PMingLiU"/>
              </a:rPr>
              <a:t>each program has its own 8086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8C4B-B287-49FF-B238-DA5BEE552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ddressable memor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68580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ed m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G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2-bit addr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al-address and Virtual-8086 mo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MB sp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0-bit addre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328-80E2-4B16-BA75-C4CC89DE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eneral-purpose regist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539640" y="1125360"/>
          <a:ext cx="813600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1360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909-A9AF-45A1-9D29-ABD48BB6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ccessing parts of regist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8-bit name, 16-bit name, or 32-bit na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lies to EAX, EBX, ECX, and ED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979640" y="2071800"/>
          <a:ext cx="489744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71800"/>
                    <a:ext cx="489744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1979640" y="4836960"/>
            <a:ext cx="48974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C55-FC17-45AF-AB35-0F71BAB4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ex and base regist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registers have only a 16-bit name for their lower half (no 8-bit aliases). The 16-bit registers are usually used only in real-address mod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72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4967-FD8D-43FA-BFB5-E606C83F7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me specialized register uses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1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84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ral-Purpo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ccumulator (automatically used by division and multiplicatio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C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loop cou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tack pointer (should never be used for arithmetic or data transf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I, ED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dex registers (used for high-speed memory transfer instruct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B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xtended frame pointer (stac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AD7-B312-46B0-847E-2884FF68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me specialized register uses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2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21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g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de seg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ata seg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tack seg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, FS, GS - additional seg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nstruction poin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LA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tus and control fla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ch flag is a single binary bit 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other system registers such as IDTR, GDTR, LDTR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1C89-CD66-4F5A-B19F-61F8C1CA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us flag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136520"/>
            <a:ext cx="80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r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signed arithmetic out of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fl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gned arithmetic out of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 is negat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 is zer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xiliary Car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ry from bit 3 to bit 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m of 1 bits is an even numb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B65-990C-41A7-B939-4A43D41D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oating-point, MMX, XMM regist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125000"/>
            <a:ext cx="5410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ight 80-bit floating-point data regi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T(0), ST(1), . . . , ST(7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rranged in a stack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used for all floating-point arithmetic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ight 64-bit MMX regi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ight 128-bit XMM registers for single-instruction multiple-data (SIMD) oper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943600" y="1125360"/>
          <a:ext cx="2438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125360"/>
                    <a:ext cx="2438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BCD-5ABF-4B1A-B291-684F34906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grammer’s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84160" y="1052640"/>
            <a:ext cx="7375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ntel microprocessor history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0B5-0255-4D39-8060-31922595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grammer’s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57200" y="1327320"/>
            <a:ext cx="8229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-32 Memory Managemen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4CB-3BA9-4291-BC94-8A5ACC60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l-address mo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 MB RAM maximum addressable (20-bit addres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lication programs can access any area of memo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gle task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pported by MS-DOS operating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20A-F4F9-4269-B583-84029A74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egmented memor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gmented memory addressing: absolute (linear) address is a combination of a 16-bit segment value added to a 16-bit offse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436760" y="2276640"/>
          <a:ext cx="525600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2276640"/>
                    <a:ext cx="525600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5"/>
          <p:cNvSpPr/>
          <p:nvPr/>
        </p:nvSpPr>
        <p:spPr>
          <a:xfrm rot="16210200">
            <a:off x="54720" y="4025160"/>
            <a:ext cx="22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468400" y="3943440"/>
            <a:ext cx="1295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7160" bIns="-13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740640" y="3645000"/>
            <a:ext cx="175248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4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3A77-0477-495A-9D27-65460F82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alculating linear address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iven a segment address, multiply it by 16 (add a hexadecimal zero), and add it to the offs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: convert 08F1:0100 to a linear addr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60360" y="2852640"/>
            <a:ext cx="6264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justed Segment value: 0 8 F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the offset:          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ar address:         0 9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4888080"/>
            <a:ext cx="8229600" cy="14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typical program has three segments: code, data and stack. Segment registers CS, DS and SS are used to store them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FF7-5C02-458E-81D6-B5D2F3B9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1197000"/>
            <a:ext cx="8136000" cy="10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inear address corresponds to the segment/offset address 028F:003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819520" y="2743200"/>
            <a:ext cx="3657600" cy="64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8F0 + 003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838080" y="4114800"/>
            <a:ext cx="67057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use hexadecimal notation for addr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998A-5530-4F49-9777-E145B4A3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tected mod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1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6800" y="1052640"/>
            <a:ext cx="825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 GB addressable RAM (32-bit addres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00000000 to FFFFFFFF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program assigned a memory partition which is protected from other progra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igned for multitask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pported by Linux &amp; MS-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41D-DB1A-4F41-BA1E-8EDA2F8C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tected mod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2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gment descriptor ta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gram stru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de, data, and stack are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S, DS, SS segment descrip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descriptor table (GD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SM Programs use the Microsof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la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emory mod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363-242C-43C8-8918-397FE713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at segmentation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 segments are mapped to the entire 32-bit physical address space, at least two, one for data and one for c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descriptor table (GD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481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1E4-F1BB-4042-A129-3ADB7B5F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ulti-segment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ch program has a local descriptor table (LD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lds descriptor for each segment used by the progra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2411280" y="1963800"/>
          <a:ext cx="576108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63800"/>
                    <a:ext cx="57610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Freeform 5"/>
          <p:cNvSpPr/>
          <p:nvPr/>
        </p:nvSpPr>
        <p:spPr>
          <a:xfrm>
            <a:off x="2122560" y="5589720"/>
            <a:ext cx="2016000" cy="360360"/>
          </a:xfrm>
          <a:custGeom>
            <a:avLst/>
            <a:gdLst>
              <a:gd name="textAreaLeft" fmla="*/ 0 w 2016000"/>
              <a:gd name="textAreaRight" fmla="*/ 2016000 w 20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70" h="227">
                <a:moveTo>
                  <a:pt x="0" y="227"/>
                </a:moveTo>
                <a:lnTo>
                  <a:pt x="1270" y="227"/>
                </a:lnTo>
                <a:lnTo>
                  <a:pt x="127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55640" y="5346720"/>
            <a:ext cx="175248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6B0-B1DF-4903-8B7A-963F32C5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arly Intel microprocesso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l 8080 (197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4K addressable RA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8-bit regist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P/M operating syste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5,6,8,10 M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9K transistr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l 8086/8088 (197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BM-PC used 8088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 MB addressable RA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6-bit regist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6-bit data bus (8-bit for 8088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parate floating-point unit (8087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d in low-cost microcontrollers no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4067280" y="3716280"/>
            <a:ext cx="43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467960" y="34290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my first computer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73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ranslating Address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8143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IA-32 processor uses a one- or two-step process to convert a variable's logical address into a unique memory locatio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first step combines a segment value with a variable’s offset to create a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linear addr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econd optional step, called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page transla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, converts a linear address to a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physical addr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verting Logical to Linear Addres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264312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segment selector points to a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egment descriptor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, which contains the base address of a memory segment. The 32-bit offset from the logical address is added to the segment’s base address, generating a 32-bit 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linear address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3000240" y="1214280"/>
          <a:ext cx="57913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1214280"/>
                    <a:ext cx="57913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exing into a Descriptor Tabl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8760" y="990720"/>
            <a:ext cx="82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ch segment descriptor indexes into the program's local descriptor table (LDT). Each table entry is mapped to a linear addres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1428840" y="2000160"/>
          <a:ext cx="664344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000160"/>
                    <a:ext cx="664344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ging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1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rtual memory uses disk as part of the memory, thus allowing sum of all programs can be larger than physical memo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nly part of a program must be kept in memory, while the remaining parts are kept on disk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memory used by the program is divided into small units calle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096-byt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 the program runs, the processor selectively unloads inactive pages from memory and loads other pages that are immediately requir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ging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2 of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S maintai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directory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age ta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translatio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CPU converts the linear address into a physical addr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fault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ccurs when a needed page is not in memory, and the CPU interrupts the program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rtual memory manag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(VM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S utility that manages the loading and unloading of pag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S copies the page into memory, program resumes exec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ge Transl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 linear address is divided into a page directory field, page table field, and page frame offset. The CPU uses all three to calculate the physical address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3200400" y="1295280"/>
          <a:ext cx="5715000" cy="41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57150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8487-7D7E-49CE-B44F-3EF8DEC8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e IBM-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62136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l 80286 (198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6 MB addressable RA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tected mem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ral times faster than 8086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roduced IDE bus architec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80287 floating point uni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p to 20M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34K transis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03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F1C2-52BE-49A4-9198-22A1A7AB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l IA-32 Fami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l386 (198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4 GB addressable RA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2-bit regist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aging (virtual memor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p to 33M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l486 (1989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struction pipelin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tegrated FP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8K cach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(199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uperscalar (two parallel pipeline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5329-2A2A-4C17-A8B3-F7BD41695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l P6 Famil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Pro (199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dvanced optimization techniques in microcod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ore pipeline stag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n-board L2 cach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II (1997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MX (multimedia) instruction se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p to 450M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III (1999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D (streaming extensions) instructions (SS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p to 1+G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4 (200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etBurst micro-architecture, tuned for multime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.8+GH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ntium D (2005, Dual cor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A32 Processo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tally Dominate Computer Mark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volutionary Desig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ing in 1978 with 808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ed more features as time goes 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ill support old features, although obsol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lex Instruction Set Computer (CIS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y different instructions with many different forma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, only small subset encountered with Linux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rd to match performance of Reduced Instruction Set Computers (RIS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t, Intel has done just that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-32 Architectur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4360" y="38862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7885080" y="6337440"/>
            <a:ext cx="10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902-0CA4-45BE-8396-B30B492B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A-32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ts of architecture improvements, pipelining, superscalar, branch prediction, hyperthreading and multi-cor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om programmer’s point of view, IA-32 has not changed substantially except the introduction of a set of high-performance instru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09:49:33Z</dcterms:created>
  <dc:creator>cyy</dc:creator>
  <dc:description/>
  <dc:language>en-US</dc:language>
  <cp:lastModifiedBy>Examiner</cp:lastModifiedBy>
  <dcterms:modified xsi:type="dcterms:W3CDTF">2018-11-12T06:38:55Z</dcterms:modified>
  <cp:revision>367</cp:revision>
  <dc:subject/>
  <dc:title>投影片 1</dc:title>
</cp:coreProperties>
</file>