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move the slide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4F32-D832-4EE9-9DD2-483DF85D0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B32F-D683-4574-A76D-71AD944D9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A971-AF09-4485-A7DD-001306817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6985-1022-492A-9D9E-B3D3044B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E583-17E9-42A4-9D48-A8E35C9BD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2CED-0E95-4841-AC06-50C586B9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9836-2836-448F-A515-D40AAA8A3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2F6A-1CCD-4836-9397-099F66C6B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8124-FB18-4809-A898-88776074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4804-16EF-4A07-A4F8-109FFD32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AA21-A978-4C41-A6CB-C9F30C8B6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885F-1B5F-4A97-8C59-CC0C5BAC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B358-A90E-4FA0-AC9C-24BD4B51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8466-9427-445C-B8B2-E8EF527CA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422-89A5-4F83-94F7-BE34E44C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558-1DC1-4C68-842E-3E0DBBEF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33CDA-037C-45A6-9718-D0ECD409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BE1BC-AAED-4D6E-8CAB-1E1997B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0DEF4-3492-4124-9166-D87573B5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D9662-7D4B-4564-9829-1F4A02D4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57789-C04C-48AB-81FB-BFB4F834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D7AD5-9AC6-49B9-8DAA-ABC45C96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9F106-0EA5-48F9-95DC-1B5E3588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52B80-68F9-448F-9432-F4392828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96AD4-866C-45D8-97F6-D3D5FB46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A65A2-832F-4ADD-BE13-C0050D5C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9BF-D57A-41C9-8900-18F3DE7F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47BBB-3B7C-41DE-AA2E-447ABC26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FCA4F-474E-428B-892C-7AB11DA2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C8F19-BA47-48C1-9D8A-3DFC1D4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CE9E5-B500-4DCB-BBDA-DF79C8D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B608F-BAAE-42A7-A4B9-BA06AB0B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EF2AE-A64F-4E14-95AB-F781DA9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86B62-C19D-42B3-8256-97FF4223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C6AA4-635F-4509-A56B-9F6ED94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725FB-3C07-44D6-A292-9EB7723D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2A56A-A997-4636-BE09-533A4AD4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34A-F893-4209-8A24-F3B6B804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9F70C-EDEF-49F0-A42D-5DCC2900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6DF1E-D3AE-4E64-ABB9-38DC66DC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720B4-7076-4EC5-BE34-D39008B9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4D7F0-8785-48E9-A221-0BE5BA47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7949D-2CCC-4CF1-8F1B-11C5D9FA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ADBC0-213C-4705-BF35-954F0488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D41A0-86BE-4767-95AD-EBBB0964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C41E8-C968-4F0E-9BCF-F789ECC0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D4F64-98C2-424F-9063-2ECB488D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BF677-6004-4808-B813-BBF34FB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45E9-8B42-487F-BBD2-0021C209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C7D9B-465E-4513-8DD4-CC199D01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1B56C-CEF0-475C-86B0-751B61D1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6C4F7-2E8E-43A4-A0B2-6FCD7008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8761C-9E87-4837-954E-D8FCF579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24CC6-AF80-433F-A0D0-931A960A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714C0-E953-4159-A761-7B631472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68B46-58DC-4D7F-BAB9-B07B0288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80D54-1E96-4FC4-9E0D-F943638F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45248-EF92-40CA-A37C-C98EF5AE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9D0AD-0E4A-4A24-8F5D-38437756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3CB1-5A14-4C4F-B88B-575E5068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D7DAB-1E03-4BC4-9550-C45FA1EE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FBCA8-4BEF-4160-A26E-25382EF9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C1AE1-1E09-4556-B89A-9C2898DE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8AC42-8079-49CB-AFA2-7308E7A6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17FDA-6099-437A-AC14-B3911026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B05E-E010-43CD-8A98-EF729F20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FF04-82B7-426A-82E9-4225E627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8A6C-37C8-4C9E-9470-A82E6EFD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92F6-2179-4863-9E77-FEDB1151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82A2-C309-4B89-809E-36D51CA1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B0F-E836-453E-BDA4-D6588766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9113-B479-418E-B10C-7BF1ADA7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8E65-AB10-4806-A1D2-59FD04BF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8AB1-A61F-40DA-AA62-303E1CDA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E40B-F894-4702-977D-A9D96871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8FE1-13EF-4B4F-87CA-25571578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FC0A-A2A4-42BC-957A-3C37BDD0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D7E27-61D6-4B4F-8FD6-5415B7D2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4890-46F5-4A21-84C7-AB421B9E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033D-A53F-47AB-ABA4-E9BE90B2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733AF-4EC2-40A2-BE4C-8CB8E447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C5D6-3B71-454A-822B-81C32CFA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6E38-C5D3-473C-8D08-493AF9A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9F64-4F7E-4939-B442-BBB87B6B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19DEF-9193-42E4-938A-ABC9B8D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7C25-6641-4563-AE21-45CEF767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5EF3-0175-478C-A1A6-A65B3C1A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BF7F-41E5-452A-A7E7-A668F111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CD9FF-2E49-41A5-9848-99F3AC5B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4D90B-2FA5-46BC-B4EB-78D9C923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7ABD2-08C8-4C2E-8458-B03C6635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97F8-42D5-4FB4-BAAB-BCE128DB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A07-891F-45C6-AF27-1D627716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470F0-414B-4A0A-BA36-B806B315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A7488-3E1A-4E7C-A1D0-D88EC448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4FE0-D5B5-4DAE-9B3A-DA7CF160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C6088-C4F8-46BB-8DF0-5788C4CC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1E3A5-56E4-4678-BE2A-5B490222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775A-D221-411E-8A55-0EA0C34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4192-7DBB-4442-9AFC-1C8EDD76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A5716-127E-4EA9-B537-6924A5B3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9B45-25C5-4458-8BBF-3B0C619D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EA2DD-F057-4935-920E-6E2E3795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94B-5F95-4362-B228-6E7B3A43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583A-3069-4DBA-92E8-A3BCB145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E0960-F587-4C74-B317-B7A6E94F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DB6BE-F72C-4402-82D8-C722C1DA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FEBBA-FE73-415D-9494-2D3EDAE5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A6FD5-1E1B-40AA-8FE1-FFD32AF2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C4804-06E0-4DC7-A426-9BA563E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EEE1C-0610-48EA-A687-1B4BC2AD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C039A-801B-44A9-B048-970EBE9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8D9FA-2656-4ABE-B76F-B4C0078C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8B1CF-42B1-4776-95BD-1D70E4C1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401-1E37-4EF5-8651-E9CE2986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61426-87D2-4621-B2B4-D8803F37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8AEC-AE0D-4A59-BCE4-25C38D69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2E8E2-6A28-43B6-AC66-D1059B95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C8403-3AAF-41EA-AF7E-D1990DB4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91D94-73B9-4E4B-A5CD-2A4506F0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EA042-A518-49A2-96C5-846692FB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C6FF6-080C-4A3D-9526-52B1F16F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E3C88-7E06-4856-8A2E-6DEDEC7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C3DD-01C1-4660-9882-458E8DD8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99A6B-6E81-43DF-8EB1-8773086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8BD-B135-467F-A126-F58D6FC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7805-3A74-4A83-BEFF-021D9957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BF58E-ED14-4B9F-AADA-48F3047D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FFEEC-81C6-4310-B739-449042D6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E342C-B2C8-460F-9081-C80C13C6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69CF-0D3A-48FA-89D6-C7FC36AF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B01BF-8896-42CB-8035-EEFE770F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589FE-C652-4A00-9330-6F08B749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2FBAA-2351-45ED-9B48-1B1FC9C0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D6D02-EB91-4A02-AAEC-E59FAAB7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F4F32-3AA7-4134-BDD4-91E59433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FB2-0974-49EB-8F40-6F63DB0D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AF6C2-B19C-4DDB-A95C-C3311B79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5E3C-FEC7-48A6-8C0C-248FA0CA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B75D1-6D29-47B0-94A7-1639DE69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2AB02-3962-4999-BE78-06912994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98C65-8B39-4C98-AE94-30CB52AD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096C7-53E6-4C4B-8871-220BCCBB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4C8E0-241F-4AFF-BA73-4A0A2226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65FA6-A46A-4AB9-A299-A2390706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CA9AD-0BA4-4B75-86EE-E628A6F0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905CE-7AC2-450B-B060-4EEE5BFD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9CB-BFA5-4DC5-A5C1-911836FE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14400" y="165240"/>
            <a:ext cx="67816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60C9E-DC66-40D6-B5A0-A28EC5F9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73AF8-470B-4529-93BB-A5E2A17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B7C78-4B46-47E4-868D-6C86E4B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A53F1-1619-4EDA-BD5F-A2C44009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914400" y="3705120"/>
            <a:ext cx="77724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6A2D4-369C-4032-8596-6B002DB0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2193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40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897080" y="3705120"/>
            <a:ext cx="3792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C6537-6E19-4B00-BAE7-9F7A4927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240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0040" y="12193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914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240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0040" y="3705120"/>
            <a:ext cx="250236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AB993-8D60-45E5-AADD-3377C40B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4435A-E92A-4952-B19F-102FE90A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E8DF6-5918-4BCB-828D-2F612591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1B537-AB10-45FD-8C9D-B0C7D947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80880" y="1066680"/>
            <a:ext cx="8305920" cy="182520"/>
            <a:chOff x="380880" y="1066680"/>
            <a:chExt cx="8305920" cy="182520"/>
          </a:xfrm>
        </p:grpSpPr>
        <p:sp>
          <p:nvSpPr>
            <p:cNvPr id="2" name="Rectangle 4"/>
            <p:cNvSpPr/>
            <p:nvPr/>
          </p:nvSpPr>
          <p:spPr>
            <a:xfrm>
              <a:off x="6858000" y="106668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380880" y="114300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4059-282D-4C91-ABD0-986F83E9C1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"/>
          <p:cNvPicPr/>
          <p:nvPr/>
        </p:nvPicPr>
        <p:blipFill>
          <a:blip r:embed="rId2"/>
          <a:srcRect l="0" t="5102" r="0" b="6261"/>
          <a:stretch/>
        </p:blipFill>
        <p:spPr>
          <a:xfrm>
            <a:off x="7696080" y="76320"/>
            <a:ext cx="1028880" cy="91116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logo_small2"/>
          <p:cNvPicPr/>
          <p:nvPr/>
        </p:nvPicPr>
        <p:blipFill>
          <a:blip r:embed="rId3"/>
          <a:stretch/>
        </p:blipFill>
        <p:spPr>
          <a:xfrm>
            <a:off x="7162920" y="632448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4"/>
          <p:cNvSpPr/>
          <p:nvPr/>
        </p:nvSpPr>
        <p:spPr>
          <a:xfrm>
            <a:off x="812880" y="65530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7074-7987-41A2-80C1-B3E9865F41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C259-98A1-4415-992D-5EE85FADB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1F45-87E4-4FF8-A906-E631F5F602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8763120" cy="5943240"/>
            <a:chOff x="0" y="0"/>
            <a:chExt cx="8763120" cy="594324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4"/>
            <p:cNvGrpSpPr/>
            <p:nvPr/>
          </p:nvGrpSpPr>
          <p:grpSpPr>
            <a:xfrm>
              <a:off x="0" y="3048120"/>
              <a:ext cx="8763120" cy="2895120"/>
              <a:chOff x="0" y="3048120"/>
              <a:chExt cx="8763120" cy="2895120"/>
            </a:xfrm>
          </p:grpSpPr>
          <p:sp>
            <p:nvSpPr>
              <p:cNvPr id="52" name="Rectangle 5"/>
              <p:cNvSpPr/>
              <p:nvPr/>
            </p:nvSpPr>
            <p:spPr>
              <a:xfrm>
                <a:off x="990720" y="3048120"/>
                <a:ext cx="7772400" cy="289512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6"/>
              <p:cNvSpPr/>
              <p:nvPr/>
            </p:nvSpPr>
            <p:spPr>
              <a:xfrm>
                <a:off x="1038240" y="3319560"/>
                <a:ext cx="7648560" cy="25390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Picture 16" descr="logo_small2"/>
          <p:cNvPicPr/>
          <p:nvPr/>
        </p:nvPicPr>
        <p:blipFill>
          <a:blip r:embed="rId2"/>
          <a:stretch/>
        </p:blipFill>
        <p:spPr>
          <a:xfrm>
            <a:off x="7162920" y="6400800"/>
            <a:ext cx="1523880" cy="324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41FA-792F-4C9F-88F5-202481D3E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0EEF-B116-447B-B2C9-3DD8FA1FC1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E6C9-836D-4980-B4E8-CAD651C0FE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E2CB-0993-4C18-8F96-1624F56FF3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2C09-B12E-49D6-A205-893AF1D2A0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8E8A-504A-473D-AFFA-1E1874B56A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61A5-3830-4AF1-B263-27F9F117AC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a"/>
            </a:gs>
            <a:gs pos="100000">
              <a:srgbClr val="f0f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2001"/>
              </a:spcBef>
              <a:spcAft>
                <a:spcPts val="601"/>
              </a:spcAft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20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2066-E664-49C7-B4BB-A34E3509AA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Statement of Work (SOW)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&amp;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and schedul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n of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and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 and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spcAft>
                <a:spcPts val="374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057040" y="11426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Unit 3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371600" y="3451320"/>
            <a:ext cx="68580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Project Planning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Breakdown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dia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ork Breakdown Structure (WBS)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s large project into manageabl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estones (completion of an important set of work pack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ctivities (summary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packages (tasks, activities, work e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Work Package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of managing the project by breaking i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determine skills required and amount of resource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 work that needs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sequences are identified and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SOW for the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nd schedul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isk management</a:t>
            </a:r>
            <a:endParaRPr b="0" lang="en-US" sz="34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stomer re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ject size and/or complex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all 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ganizational resista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rnal fac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Risk Analysis 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exposure = probability X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Risk Plan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ig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gency with tr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Risk Track and Control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nd update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ownership to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world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constra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ie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ctivity</a:t>
            </a: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isks and constraints in the cas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16524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Unit 2 Review</a:t>
            </a:r>
            <a:endParaRPr b="0" lang="en-US" sz="38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spcAft>
                <a:spcPts val="601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76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8:23:30Z</dcterms:created>
  <dc:creator>Judy Forest</dc:creator>
  <dc:description/>
  <dc:language>en-US</dc:language>
  <cp:lastModifiedBy>Zeyad Al-Obaidi</cp:lastModifiedBy>
  <dcterms:modified xsi:type="dcterms:W3CDTF">2019-10-21T08:25:47Z</dcterms:modified>
  <cp:revision>27</cp:revision>
  <dc:subject/>
  <dc:title>Project Management Principles and Practises</dc:title>
</cp:coreProperties>
</file>