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1124-8EBA-4842-8258-80769158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794-F543-4974-ADC7-AA000B2E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AA9F-069C-4BD1-A1C0-7FDC59E5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7CD-42DE-434B-8805-D88C0C98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85A-2135-4581-B13A-BD4C525A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E97A-121E-4BC8-88C1-07DE241F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A5BE-3D26-4565-9081-F8AB6217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6B7-FC8E-4152-93CF-B31B6942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2E42-625D-4D33-A9B3-87229754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D22-B145-4DFD-9E87-DFA019A2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1A8-11CF-471A-BC0D-023F9902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8956-3081-4B4E-BD9C-A4D8BE22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010-5AEE-4AD6-9D6B-5E5A68E6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F83D-E464-4D92-AF8B-602279D9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77AF-B282-4527-B46B-1C6BB4B0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74B6-AC43-41CD-A734-99C77017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D3A-45AE-415C-BF76-4AA5984B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934-98BF-40AC-B071-FE860DF5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D54-AF71-4524-89F1-5EC6D88B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C23-5B4E-44EA-8BAC-B64B9808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C7E-F1C2-4928-9B07-778B645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9BFCC-FCB6-4161-9AD9-244F40D4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0B1F7-1575-4EB7-AEC5-D1005F31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A778D-5972-48F1-A763-979E3B6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85B91-300E-4E04-93ED-E653133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014F2-748D-494F-8FB7-268E587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92CA3-16A6-4275-AE7A-27AAC6C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DA89-0735-4A7B-83E8-DA733C71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E5A54-BE46-4357-B9E5-774018CE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0ABF3-E38E-4EAD-8E34-94E2CEE1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7070-9584-4D30-9E36-B254E168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320-29AC-4AE7-98BA-92269BBE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7BA86-70F6-455D-91AF-BA4A431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E182-E849-4ADB-8CA4-2CF523D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334D3-5FB2-4D6E-B4C4-2F0ED39A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7CFB0-D52C-4859-A6DE-48D7C7E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2C865-7AF8-4DF0-9E1B-9A858B93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7FD37-8171-4A8B-9546-6DBE305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5B341-F5AF-4010-9F59-D9A1F1F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FF6B-2275-4BC2-90B5-BE3E035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EDCA3-DE2A-4C01-967E-ADCC6DD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BECEB-9D6D-495A-AEE9-A0AAF197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193-ED17-4CDD-AE6C-8F063A05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C8399-7F7C-4470-89CC-CE15DA7F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8BF86-4BB7-40A0-A315-4760F9ED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A3209-6320-449F-ADAA-4114CA1A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B436-E6BE-4271-8D7F-84D186B0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4158-3D06-4D17-A476-48E877C3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414F7-E473-4E1E-B57B-DA437F8E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C407-4FD6-40E8-AAC0-F35C176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256BF-AB7D-4C22-A3A1-9C5BDCE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A362A-E812-47C2-8698-AE6D72E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B384-9F51-4DEB-96CB-5F5A7CB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2B8B-B052-4658-A68B-66B662A2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A281-CD4E-438C-9577-B2BA8E1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BE2F-4C72-4664-82CB-1B12EE9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85495-43FC-4FC7-B345-0373CDB9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15098-0B56-4B69-9116-78E56E63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50FE7-7C56-4F2A-8802-070A0B2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7CF3D-46BF-40A0-BCEF-F6925B6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68635-8EC1-4F95-A81E-05B3CBE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08A54-780B-40DA-A880-78ADE21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40B05-52AF-40B9-ACB0-C696EBFA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071B-F96B-476F-B5C9-566A918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AF7B-6FB5-4161-8632-D5448C7D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F68B2-9AB9-4E81-B11D-D680189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A62AB-8A35-4AD3-8762-1CEB121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C8C1D-D75A-454F-A227-5F90574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469C9-4F4C-493E-8C3E-BEA74B26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BDEC-E8CF-4ADA-A723-B6F064DD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E808-F18F-46A8-B2A6-B7D30F8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E38-FBCE-40DB-AE05-764AD7D4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C4F2-0945-4A05-A8CA-F01443A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6633-4B48-4405-9813-C7314D12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609-1045-4E41-A99E-FADF388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F5C-78A3-4F5C-AFE5-E532EDC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51C0-A766-4D17-8DC8-BD22B7F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32D-ACCF-41B9-B04C-0ACB263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B8E9-E838-4D77-B841-47EA884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A1CC-4C2E-430C-AECA-CA9D21E8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0C0-9570-43A6-AB65-5FFB12CF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11E6-A08A-48AB-88AF-3B456615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EBD8-91FF-4B29-BCD9-3F6169B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636A-9D0A-4A93-AD19-EBCF939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F13E-2096-4577-8122-27B895C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501B-34D8-44BC-BAF8-DD1C337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152-DE7B-49F5-8A30-368EC39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96D4-F068-4CD9-A38D-70E8CCE2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B9B3-9CEB-436D-9E04-2A3EFFA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6C60-3287-41F5-88EE-448A062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B479-7E42-4F7C-9E40-D5B2D6C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525C-7F20-48AF-AD8E-5448341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D106-C1C7-45AF-B747-5C552A0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EB83-02A9-45AB-A30D-340DE5B4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EF9E6-9C10-4E0F-ACB8-4CEA51EE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70BF-1F7A-4AA7-8A52-291648BC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3196-A7E8-4B9B-8D1D-CFE05B8E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472-1BFF-4180-B503-8DF75066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4599-B9E4-41FA-A7FD-DF24F9CF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DA26-707C-480B-87D3-F5785F3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242A-1B8D-47AA-B35A-AE3D656A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378F-8AA2-47A2-B9D6-3250A6A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04B3-4A2E-4AF4-BD3C-748114E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D253-792D-4D51-949B-7653925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3F80-108B-4379-9317-1F269F05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8803-38A7-43CE-9DA1-690AD70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CDD4-BEC7-4008-B17E-C22B2D59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ABB2-E958-42AC-82CF-17291D9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052-5241-4777-BDDC-9E0931C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6670-A4B7-4A9F-A33B-21DD2F0B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F994-0AD5-48E1-86CD-D2BA716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B0C7-5852-40F0-B2E4-DB989F8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ADD4-8E92-45A1-8DF6-E458F75E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641B-77FA-4A7C-A206-73440A1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738F-A43C-4199-9F2B-C2C271C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2AD9-21A6-464D-96B3-5E85D01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7045-EC86-48EC-A65F-C49D5A1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D932-26B6-4F3D-93D0-D915CEB8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C6EDC-670A-47ED-8067-719A732F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E46-914A-4269-89DE-A1D6FF46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2649-94F6-474B-A202-3B1F15D3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27CA-F5B5-4D13-9AE6-201AAF59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A09A8-5FEF-4915-8DD4-8E6C378E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41AA-9D1F-4704-9203-219F01CC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30751-D309-42E0-965E-419D02A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85055-7215-4DCF-ABC2-E2E16E5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B8BC-A584-406F-AFCF-759E83DD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4B89-5357-4FAC-97BB-E837A7B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D0DD-645B-4386-A888-322FE0E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8F57-EAAC-4148-AAC2-4969A85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7DA-1253-4547-A7E0-4F6FC45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2003-4D8A-401C-A0C2-85AFD96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2DC0-6DF7-48CD-BE65-783EB0EE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A5E34-4979-4FE5-BEBD-87EB3BE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ED92-DD1E-4F9E-A153-B0EF4D45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40F0-CD99-4AB4-B518-7CB4E5BB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602E-07F7-4365-8D4F-A70F761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07691-894C-4E3F-AFD8-A9581E3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E916-799F-48DE-B7C3-148D0B0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247A-6A37-41E3-A092-13043E7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CE2F-7305-461A-901C-338ED5F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114-5B26-4707-AB6B-C45B857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7FF0-66E8-4D19-B478-FBDC8D3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EDAF1-9528-46AB-8D6E-D18A951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AB8C-B114-4741-8B23-BF95452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C793-F400-41B7-9009-A411E1F6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08DA-9385-4B27-8732-7F7087FA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135ED-E5B1-4315-BD76-862551E4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87E0E-C2DD-4EF3-8157-B7A86BA8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F565F-1CD5-4D87-A543-4F2649D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2673-2E97-4537-B1C4-BE53472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08832-32F6-4640-80DF-0477D4A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AD5-59A1-4EEA-8A8E-AC11992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4DDEE-095C-4040-B2AC-6A80EEB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B7DF-BD8D-4668-B188-9486AA8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8899-C78F-4DE2-9956-AD52CF5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9EAA-923E-4605-A242-A25EC7B9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11DA-3DD0-4428-A961-68AD0783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00A0-479E-4C8B-9032-31C78356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6A7B-B27D-4275-967B-02582E7D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6685B-D9FF-4EE3-992E-C63F74D8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B1F1A-7564-4498-983B-0D4E965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8042C-0305-4457-B292-2555A4D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B62-9A60-4C01-ACC0-D210ABC090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425-514D-4D54-958C-538E530A36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42F-C27A-42D3-BF91-964F32622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0E4-DF1D-48B6-A634-082289F5D0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251-899E-47FD-96C0-C8E35C6883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081-90E2-438B-8B3D-EBABF8AE3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57F-70DB-4980-A29C-39D4BB4DE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2A1-3939-4D2F-AE72-E3B8FEC08C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7904-BB3B-4545-8038-557EA9A03C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872-4E44-41CE-B650-91B34472C4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3B4F-179A-4403-AD26-94979C1256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3887-1261-44DD-BB0D-A28D0284D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Lead and La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– amount of time that precedes the start of work on anothe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 – amount of time after one activity is started or finished before the next activity can be started or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Loading and Level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Load – the amount of work that is assigned to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Leveling – redistribution to even out the distribution of work across al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cheduling Tip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learning time i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dministration time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that resources seldom work 100% of the time on on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 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chedule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dgeting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= People + Resources +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Budgeting Level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park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Order of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Direct &amp; Indirect Cost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attributed to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amongst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ypes of Budget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tingency Reserv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 of budget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d but manage the contin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budget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ther network diagram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T – Performance Evaluation and Review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software-orien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3 time estimates to determine most prob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M – Critical Pat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construction typ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ime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twork diagram from the WBS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scheduling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resources, effort and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– time that it takes to work on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– the time to complete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alendar dates f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individual resource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fin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imating Tim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eople who are doing the work provide the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n expert’s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similar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relationship between activity and time (parametric estim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ERT Estimat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 estimate (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(M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simistic estimate (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= [OD + 4(MLD) +PD] /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tingency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d estim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ever get goo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expens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tingency as a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-1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ritical Path &amp; Floa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tasks that forms the longest duration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that an activity may be delayed from its earliest possible start date without delaying the project finish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possible finish date – earliest possible start – duration = total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Normalizing the Schedul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eople to th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e critical path first, non-critical tasks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8:20Z</dcterms:modified>
  <cp:revision>28</cp:revision>
  <dc:subject/>
  <dc:title>Project Management Principles and Practises</dc:title>
</cp:coreProperties>
</file>