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E25A-310D-446D-A136-F395B1AD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7E47-71AF-4917-99BD-478EA463F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E91A-7E87-4495-BC1B-7783FE5E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5CD-DF34-47C7-A7B3-9049C143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2133-E1A6-42BB-ADAA-82E9E95C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EF72-489B-4A88-90F9-51DE9317F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D29F-6E0C-491B-B4B5-D2456D9D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46A7-7BDA-4364-AA44-7C4AB133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996F-1D71-483C-AFA0-4E53F5AD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03DB-4A99-4CD7-8D6F-BA78778A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DBC7-F2A0-4CF4-A0EC-2CD6EA64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398-741D-4A03-83FB-103495A7F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339-030C-418F-87E4-171BD3BB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33FE-BAF5-4689-881C-925F5B45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D046-29F1-456C-8E87-67BE18BBF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CEF-67B8-4CCF-B587-F7F9426A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0B2E-0966-4AE4-9D9B-91C154E8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660E-D9A1-4F9D-B51D-2359352D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F7B7-4ED4-4C54-A2C5-33A273A6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59F-A9CF-4846-9B7A-1ED2CAD5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F66-68BA-46D7-AF11-E6AF0BE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A0D6F-761B-4613-BE29-765B0A61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56AA2-C85F-4C2F-8F8E-6AC1C92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7B611-C8A4-496A-A117-0191903D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AC66-89F2-4177-8534-788FA4F0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E8DBD-7108-42C8-8CD8-263E011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8FB0-495D-4B7D-B5F5-1204070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1047C-1072-4829-BC3E-EC977CEB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A60B0-29F8-4455-BA38-485EBE1D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5E1A-CD89-409D-BB78-9813A61E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CFD07-05D1-4AA3-8007-850579F2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8D8-0F3E-47E9-B62D-5AAAF649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EDD71-053F-48C3-9DBE-90307A9F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7FC79-99CB-4373-81AA-077ECB2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BCEDE-9321-40BA-BB51-1AD12E4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412FC-40CF-48DE-A782-BFB0E6D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06DB1-0584-4A05-B1A7-0AD684B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D029E-E9CE-4C76-AA78-C63AC598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414D7-AF5E-4EE8-968D-2AA744F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E6319-D6CA-411B-A79B-6D81869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AF202-12AC-4326-9146-26B0363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529E1-2BA5-41CB-9182-E851ECEA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604-9B2C-41A2-8EE5-C3780421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4C194-5ADF-47B3-AA03-92CBE281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E0B41-49E9-41F2-8AB4-1E66B864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849C-AB84-4567-A5D4-3B648D1A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8A779-2C33-44C1-A14D-BC43594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7C43A-A7CB-4574-9DE2-D498750A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F3067-E996-4CE6-99E3-B83BE5FF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9583-73E0-409C-B227-DFE87F74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AF77-085E-4661-83D7-7E9D175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777E6-D065-4D8B-BB19-7C6BD8E5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5E1AB-C19D-4CD3-91CE-7DC3E022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4DE-30A5-4F56-BA17-941625EC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BF748-CC2E-4F12-BA1D-BF4674B4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7C56F-93CE-459B-8B8F-D7306A38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5F95D-DE46-4DFA-8911-445927D6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84187-1373-49C6-BFAB-CA749D21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C5F92-42F5-4387-BF6A-AC916985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7292-23CF-4C1C-9D5A-ED5A9AC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2F627-1F5F-4723-887C-7BA8791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4AC97-AF02-4E03-AA13-3D4250E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81037-CD33-4B60-AE91-2D6ACDD4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C8CA1-8122-40C8-8F3C-14FC7B25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5B8-9AAE-45F3-8CA6-E0C5CFEE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038D8-D863-4636-9848-1D8EF28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F77F5-94ED-491E-ADC1-AB31E39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0ECA3-6218-4D11-9B16-FB1C1947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1C703-1350-4ACB-8E8B-E8727504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024F3-D1DE-4898-9604-3BF7B608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D0E-884F-42BB-AD20-35169E12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72A-B8D4-4F68-8634-79590935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3F4B-0EE1-4E3D-A8F0-00300FB6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9E2-50AC-435A-9DD5-44A8CF2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017-CACF-4C1F-9154-72E5FF86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6AE-9764-482E-ACE4-6209B00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8A9A-83F8-4EF8-A93C-4DB60498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E1B9-C387-4D4F-9B24-799C5CC9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AA5-C3F5-4F85-9821-8A87F77D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9953-803F-4C7F-A6D6-2E0C1919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AD25-53E6-4AFF-BC21-35F94C88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ECB2-341D-4C65-BB22-6A13AB13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CA08-0725-4215-9457-B056D77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9863-0FA5-42B4-8F12-21B87758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5ACEB-5DE5-424D-A60A-CA857927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2F571-64F3-4B74-9337-9B43110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C3D-FD28-4D15-B385-AB8E08D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8849-8CC5-4899-B0C6-FAE6BC1F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0BAD-E407-4C8C-8815-0F874466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50663-71C0-4D76-B10E-F099E744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4FE5-D2BA-49A6-A502-0A75ED9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D1331-01D6-4AC8-95DF-27A44811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5088-402F-4D25-A64F-9AC121BC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A9A1-A641-40B9-8863-7DE1EE16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E1A9-00F6-43C0-855B-CF5758B6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3A03-FDA7-4416-B1C1-0135F68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029B3-4491-46FA-86EF-630A705C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5D5-EC96-4AD7-B181-A3610148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8C38D-5E63-48C5-9F1B-6FFA7CB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5108-6156-4DCB-BBDD-F6FAE633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7F30-82EC-4471-AE33-F02ECD07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0648-8A77-4437-8044-6361AAC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2F233-3FE8-4250-8E90-2914558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71F1-EF7E-464B-8157-811B064B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A799-919D-44F2-9A04-3F9650EC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5212-C100-47CC-97C8-5C8A8394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A4A3-3EF7-426C-A70F-3806AD76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DAD5-75EE-4D95-96F9-36277665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21F-23A6-404A-9357-86A93FCC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1558-642E-4A6C-B8AD-43BC9BE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27E93-59BB-4655-8866-2718D957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B7276-6074-444F-9A70-735DF8CA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0163D-DB54-4BBF-ACFB-C47DCDC4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EF17-122C-443E-B8A0-A0D9493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697D-F99E-45A0-8F80-0E5F84E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3C1F-FFAF-40DA-808A-6FAFE91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FE13-41EA-497E-9FFA-9375CBBA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9496-CD11-475F-A509-541968E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6613-40DF-4C4C-86E9-D167977B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AD5-2CF0-4441-8D2B-09DCEA1B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12EE-6A5A-42A8-B177-E409DCEB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124D-D54D-4E97-B200-97C3DFFC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ED927-A868-4165-BE0C-0A4200E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ED523-CE27-4E60-AC8F-183C4DB9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DAB2-B8F7-41FC-885B-9D915C8D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41BE0-34FF-4F72-B297-B35098E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65BD2-70A9-4447-86BD-DD1951C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043F0-AF0D-41AB-A898-603913D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9D8B-D0CA-4D0E-87D3-4F6A500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5EF6-6ED0-4633-A08B-A78D8E65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3BFB-9DA2-4224-B1A8-B52560C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CD40-057E-4A84-AA16-A3D01023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B4333-4B8C-44C8-8ADE-73FADFEE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36676-23A9-4CB0-A1AA-47B5D5E1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D5FB-3F0F-4F0C-AE75-6734937A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7DD6A-7964-4C84-B299-1F66232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DA58-8012-473A-B45F-994C49C0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AE36-4898-4EF3-8F61-503EB1F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60A5E-5A54-4C98-9684-43C89122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76880-BBE4-4207-A71A-9EDD713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998F-BA86-498C-9BD5-A97033D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D0A-37C0-4E90-997B-BF87D44C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170C-6496-4D82-BF05-624147CA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ED4C-852B-456D-BCE3-56DF127F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D441-C672-427A-AAAE-0E34D04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D864-CADE-46E4-AF17-1E8BFDCF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2C74-94CB-4006-90DA-C5F9F011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F976-6BF5-462F-8AE8-9DB6BC61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8F447-5DB2-42E0-B21C-20DB732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29E2E-AC71-4DD4-8802-2BE28285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0C198-07BB-457A-9232-ECAC23B3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E26F-4862-47E1-921A-480148F0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099-FAD9-4638-A107-B410DAC3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74C65-4E92-4779-B5A2-752F0E2C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7BEF-B090-4673-93FD-42105A20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B86E-3920-4177-B4C2-C4FB155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889E-8F94-430E-B4FE-C3F4C536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7922-A874-4EB5-9ABC-D56CD8E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5E0A-9C14-4484-9DFA-C2EF46A5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B577-0FF3-4632-B49F-2000EE6E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CC24F-A3B9-4934-8146-EB63B3C4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F4DD3-1F30-4191-8259-145E718E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45C4F-C2DC-46A8-97E0-812DF083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3B96-52C5-47BD-A63C-806776A7A6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E3FE-9FE8-4530-A361-EB6FA03E98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24E-E20B-4B0A-9365-AA82FC7D0B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B8D8-C85A-4C02-9442-67E34279A7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196-5F23-4F8D-A6E0-BAE3A38FF7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00FC-5E3D-44CE-8CF8-93CF56936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D085-8CA5-4AD1-80B5-2727BD12FA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EC85-C94C-4C96-9856-4CFD03A02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1A9-0ED3-4C79-B1B6-6001C8FE71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254D-0E98-4ECF-ADD2-0FA192A2BD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8A6E-5D0A-4517-AD95-1A37073A3E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7101-11EF-4A57-A257-99198F898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Lead and La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– amount of time that precedes the start of work on anothe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g – amount of time after one activity is started or finished before the next activity can be started or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Loading and Level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Load – the amount of work that is assigned to a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Leveling – redistribution to even out the distribution of work across al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cheduling Tip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learning time i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administration time i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that resources seldom work 100% of the time on on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 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chedule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dgeting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= People + Resources +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Budgeting Level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park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Order of Magn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Direct &amp; Indirect Cost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attributed to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amongst other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Types of Budget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tingency Reserv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-15% of budget i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d but manage the contin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budget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ther network diagram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T – Performance Evaluation and Review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software-orien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3 time estimates to determine most prob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M – Critical Path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for construction typ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ime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twork diagram from the WBS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cheduling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scheduling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resources, effort and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– time that it takes to work on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Aft>
                <a:spcPts val="751"/>
              </a:spcAft>
              <a:buClr>
                <a:srgbClr val="00000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– the time to complete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alendar dates f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individual resource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spcAft>
                <a:spcPts val="524"/>
              </a:spcAft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fina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Estimating Tim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eople who are doing the work provide the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n expert’s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similar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relationship between activity and time (parametric estim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gu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ERT Estimat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stic estimate (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ikely (M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simistic estimate (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= [OD + 4(MLD) +PD] /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tingency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ad estim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ever get goo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expense a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ntingency as an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-1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ritical Path &amp; Floa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tasks that forms the longest duration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time that an activity may be delayed from its earliest possible start date without delaying the project finish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possible finish date – earliest possible start – duration = total 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Normalizing the Schedul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eople to the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the critical path first, non-critical tasks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8:20Z</dcterms:modified>
  <cp:revision>28</cp:revision>
  <dc:subject/>
  <dc:title>Project Management Principles and Practises</dc:title>
</cp:coreProperties>
</file>