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F13806-A8B6-45F2-A355-F9E7BD7FD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22BACA-CD7A-4504-A5DE-63BCD7035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02BFF6-04F4-4BAF-8D23-937EF0C65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3522B3-331E-4217-A3BE-BB5444AE4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25F9C5-707F-4117-ACF6-8EFF73F38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DE1DDC-EB4C-4A22-AF3B-C02A0E78F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B594B7-52A2-4E57-B9AB-8860156CC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0C56B5-58B0-4BDE-B90D-514D404FF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A7BA25-C7C0-4A04-8852-637E49575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8009ED-5C35-45D8-A0CA-84542FA2F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19ECBF-FC5F-4753-A0F7-65AE68ABF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102F2B-9A90-4AA0-93E7-86DCF80B0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194BF9-EE7D-457C-BD99-2FD5B8442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17A408-FABC-45B2-995B-0FE321F81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2D32D7-46F2-4559-B7D9-373D8143C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83AD89-F642-4636-A498-1CDD6F0F0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D1E9D6-15C8-439E-8842-2FA34B930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E90CF1-DB48-4653-9BBB-FC5790ECB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A83B3B-5E48-4101-942A-584A52C9B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591272-872C-4523-B0D2-F1C30EE7A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8B52B9-2553-4E9A-93A3-849068467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44F9E6-18DA-4668-B4DB-739F8D40E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EF0140-21FD-4B42-A46C-A2EAC9C95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096881-AA02-4498-959F-39D2A0F1A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9700B7-CEC8-4CDB-834B-048B882CC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9F86DE-B8A3-455E-AA95-912752A0B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83A8DE-55CB-4643-9669-5096795B0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A1E1FC-B6D6-497A-A456-A9AEDC894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4650D8-745A-46CE-B04E-DD1685B5C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523EB4-D843-436A-AAFE-539BE0C29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A17402-92F5-4C66-8B92-995190FBA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B0A732-EC34-457D-AE8C-4080945C8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59537F-C5F9-4E31-87AB-79368D43F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9DAE3E-AA0F-4EA2-B3A7-8045B4F06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2BA026-E287-4117-ADE5-C939F053A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7A5A69-9597-4774-92BD-2829B4BF3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CE294E-7635-4639-8B37-12E4077E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4968A3-901A-4445-B4B5-57487A7E2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2BB0DD-9FA1-4737-9A50-1408B4C54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623F24-E3FD-43EF-A61D-7AEF022A8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FC47F3-793B-4ED6-9019-DA354DBD7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4CAF5D-2683-45E5-9EAA-D257026BF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97C32D-A0FD-4876-B693-7AED8448D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EAA270-3B0F-48EE-A8CB-6C680F29F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508FA1-595D-4D58-9D22-3B6A25BCC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B4B03B-3E0B-4D22-A4EE-B8897325B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2D35DE-0D8F-466D-8126-53D57C0B6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534FB6-A5A6-43C9-9410-04135E45A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2B8208-E953-4CC3-B80B-C6CFE6B21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AE9C15-A04E-450C-A2BA-7402C0B3A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912D87-2940-47E4-AA2A-31E9EA5CB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D06B40-4CCA-4A5D-9EE6-6A191F562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514751-CDD4-47DE-8B9D-A5EF9B731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A0C91D-601A-46C9-A1C0-18A86EB79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6B2157-9DF5-4A2F-ABCE-3A95E9E7A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533695-2B03-4996-9642-76517D55B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E86310-D9DF-4F20-972D-3F5C1D05B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D24E83-72D2-483C-9C51-BFD3A6088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92343F-5DCA-468D-8128-D5CB5871B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6FF759-A20F-48BC-BCDE-E07420EE8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8BF0AC-7963-4A9A-9253-C3F56D1F0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0E10F3-46D5-43C7-8142-94B7E6CC8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7ECD57-BCE0-4F58-8EB7-565F62437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D9875E-1519-4295-9E7C-CDA3ED35F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E709CE-FBF3-4973-92B1-EBD627367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3A3AAF-7AC0-4B45-805C-47B717C65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CA6948-2422-4323-A417-A92FF2ED7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EAD460-6133-4A62-A66F-F224F36C0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4D8CE2-87D8-43D3-AB42-20DDF38D2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D572B2-E877-4D8A-9917-EF156D99E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5D1E05-F8A6-47CE-AA17-07ABA52BA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3DFC58-2C88-4CD0-9568-A86E004A3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CBA39B-3753-46BC-9F1A-20B021562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3530FF-A6F7-4404-8E32-09A0B602E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A7A63C-3CF3-48C4-90E8-D0E7169BD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667011-8956-450E-BDDE-7A842377D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877B7D-D94F-4425-9DCD-ABB47DDF2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24AA41-E7F3-4283-9E05-110B4D76F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4DA895-EE51-4806-9963-15B152B9C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305EA0-C0A8-4D43-81CB-D81611B48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B37AC8-61D9-4472-983B-003A6F3A3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E269A4-40D5-4217-AF4A-BFF6CD02D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21431B-9D91-4194-806C-0B44B8296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558A6D-F92F-4045-9737-D943EF31B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A709E5-91D7-4547-AB1D-3F07FEAC7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180204-FBDA-44A9-8F82-D071858AB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45DF68-54F1-4C5C-B827-5CBAE1916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527E06-2B29-4FB4-AD2B-2DBC1A8E4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5B4B89-C721-4D7B-BB9A-8965F7797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E12A55-79CF-4003-BE88-7E2A977CE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C7468F-7043-44A3-AE97-669C32507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B0A7E4-80D9-4D81-9DC8-380C98BD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C5859F-92B2-4F42-B6DA-8993DF429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187D2C-17F0-4F4D-9DED-84999FAC1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578D0F-0EC8-46EE-BAC8-33E432E44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C561CB-FF36-42BD-A32C-72BFEE5C0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B00225-6077-468B-A0B8-464561FF3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4E1115-DCFE-4011-A822-202122802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7AD175-625C-4512-BA64-2D482B24F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8075CB-1231-4A2F-B307-1CAD563E5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DCB397-E218-491D-8143-21DF76602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9F1351-916A-40AD-A38E-B0DED9A08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7B8409-38AF-466C-A988-A7EF1E987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2690BC-3C90-4C00-B5B8-55174C17E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522F80-878E-4245-964E-32C68F716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962111-BE24-484D-B9F7-7E1EF6FD3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92C1C0-5866-41F4-BE0A-C4F6B81C6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B867B5-2D0E-4347-A654-840C80484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D22A78-6E5C-4566-877A-B954769CF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7CD0F4-E069-4935-8B51-237DFD3F6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4AEDA6-4742-4A58-B1DF-2E7130D14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35817E-4F0B-4157-824F-D919DC3B3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9ADA1C-4ED4-4049-8D83-171C91B09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CD22C8-8834-43BC-986C-2906F1611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A2D1FC-801E-475D-AAF3-15076EAA1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9E323D-0AD8-4A35-9189-ADACC21E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C252E2-E6F6-49C4-A2E8-6FBB33698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5E9705-1716-487C-921A-EF9140A90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48E82A-CCB0-4200-BB5A-DA59C6FAE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B7E644-7BDB-4FF5-A37F-17FB90E3B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2564BE-D5CA-4AAD-BBD9-636A42F3A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C18C21-6ACC-41DB-B7AB-9BD9D6D3D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ACAC23-9EFE-4337-A426-8AD26DFF3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59B161-19D4-477E-8CFE-C057A7D9D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BF60C1-49D0-4BCB-85C3-38E54B73B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DA32DD-3D65-4F5E-939E-171F1C62E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22C1A6-9849-42B8-A9E1-D7E72DCA1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B26DC9-329B-422C-854A-F7295E9D6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09ECC7-FA1F-4216-A4D9-16FA56EA5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3F70D3-151F-40E2-83DF-22DD7CEAC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D3E9EF-4D0E-476B-85B6-90F570439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79ED09-7881-44FF-A3C5-8F89C009A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EB3C84-DB75-433C-B47F-0C4C6D47B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DF873C-CB39-4C9C-883E-111717469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8CB368-443C-4E81-A663-4382229E7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D10ABF-7FE3-4097-852D-2CAEE4FD1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91ED48-830D-444A-AB42-CD6D2E23B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E3E155-3B79-436B-A78D-5E33A3090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6E2A05-9AF9-4C55-9728-A2602BBBE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00B520-B51C-4BCC-AFC9-A2213AC69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572C30-161C-4CB4-891A-6F8AAF9F2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9FCC1B-C02E-4DA3-AE62-C6E2FBDD0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0B0613-8FA8-4FF7-B074-4BA835CC0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13056A-87EA-45AA-9935-C11311B54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2E1E47-B74A-43FC-8DE8-DF2AF753D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F5AFB7-705B-4871-BB26-63FE0F205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58863B-304A-4353-80E7-AA2ABFBB0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E9D47B-4D50-4608-9CF8-0CAD0118F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2725D8-8692-4180-B558-FBE4E553D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A6A522-26D4-4C7A-8151-E07DEDF75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C1E4A6-48FE-483F-8D94-4133AEA23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0B6758-5045-456C-BF6A-2392844C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ABCD0B-AB6E-476D-92C5-CC701EE66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89FE5A-C8DA-4348-A124-E40947C18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977F22-0A9E-4960-8023-747FAD3B6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77D7B9-606A-452F-A5F5-B33F187FE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5280" y="1989000"/>
            <a:ext cx="8353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4360" y="623736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800" spc="-1" strike="noStrike">
                <a:solidFill>
                  <a:srgbClr val="9900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www.exeter.ac.uk/employ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8" descr="purple cogs"/>
          <p:cNvPicPr/>
          <p:nvPr/>
        </p:nvPicPr>
        <p:blipFill>
          <a:blip r:embed="rId2"/>
          <a:srcRect l="0" t="0" r="13088" b="0"/>
          <a:stretch/>
        </p:blipFill>
        <p:spPr>
          <a:xfrm>
            <a:off x="7236000" y="0"/>
            <a:ext cx="1908000" cy="18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395280" y="1989000"/>
            <a:ext cx="8353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ftr" idx="12"/>
          </p:nvPr>
        </p:nvSpPr>
        <p:spPr>
          <a:xfrm>
            <a:off x="684360" y="623736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800" spc="-1" strike="noStrike">
                <a:solidFill>
                  <a:srgbClr val="9900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www.exeter.ac.uk/employ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395280" y="1989000"/>
            <a:ext cx="8353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ftr" idx="13"/>
          </p:nvPr>
        </p:nvSpPr>
        <p:spPr>
          <a:xfrm>
            <a:off x="684360" y="623736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800" spc="-1" strike="noStrike">
                <a:solidFill>
                  <a:srgbClr val="9900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www.exeter.ac.uk/employ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395280" y="1989000"/>
            <a:ext cx="8353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ftr" idx="14"/>
          </p:nvPr>
        </p:nvSpPr>
        <p:spPr>
          <a:xfrm>
            <a:off x="684360" y="623736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800" spc="-1" strike="noStrike">
                <a:solidFill>
                  <a:srgbClr val="9900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www.exeter.ac.uk/employ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395280" y="1989000"/>
            <a:ext cx="8353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ftr" idx="15"/>
          </p:nvPr>
        </p:nvSpPr>
        <p:spPr>
          <a:xfrm>
            <a:off x="684360" y="623736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800" spc="-1" strike="noStrike">
                <a:solidFill>
                  <a:srgbClr val="9900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www.exeter.ac.uk/employ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78DA4-E5F5-47F8-9AB3-156D2280FE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615EE-A364-4C1C-A562-6BB9B55911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CD329-912A-4B39-AA95-5A33C364B1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51EEB-CCDD-4D35-8F51-51F7565C64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5092A-D248-4624-B2D1-FE56247455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83E66-E3B6-466B-A64C-694C31321F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17B15-4085-44BD-A7B7-EADA317A5A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2" descr="UoE Corporate PowerpointTitle3_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47DB8-B548-4A85-9EE5-A708A531EE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A054C-BCF8-4D20-87E9-19BAA2D24F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52A40-5258-403A-A2D6-B94A74F808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AABAC-9254-4FE5-A7A9-D311955E03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A8D3C-49D6-4B18-B3DA-82EA2C69D9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D8F1A-6C3E-4CDB-8FB0-C3B833D9D2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95280" y="1989000"/>
            <a:ext cx="8353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684360" y="623736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800" spc="-1" strike="noStrike">
                <a:solidFill>
                  <a:srgbClr val="9900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www.exeter.ac.uk/employ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395280" y="1989000"/>
            <a:ext cx="8353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6"/>
          </p:nvPr>
        </p:nvSpPr>
        <p:spPr>
          <a:xfrm>
            <a:off x="684360" y="623736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800" spc="-1" strike="noStrike">
                <a:solidFill>
                  <a:srgbClr val="9900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www.exeter.ac.uk/employ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395280" y="1989000"/>
            <a:ext cx="8353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ftr" idx="7"/>
          </p:nvPr>
        </p:nvSpPr>
        <p:spPr>
          <a:xfrm>
            <a:off x="684360" y="623736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800" spc="-1" strike="noStrike">
                <a:solidFill>
                  <a:srgbClr val="9900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www.exeter.ac.uk/employ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395280" y="1989000"/>
            <a:ext cx="8353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ftr" idx="8"/>
          </p:nvPr>
        </p:nvSpPr>
        <p:spPr>
          <a:xfrm>
            <a:off x="684360" y="623736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800" spc="-1" strike="noStrike">
                <a:solidFill>
                  <a:srgbClr val="9900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www.exeter.ac.uk/employ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395280" y="1989000"/>
            <a:ext cx="8353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ftr" idx="9"/>
          </p:nvPr>
        </p:nvSpPr>
        <p:spPr>
          <a:xfrm>
            <a:off x="684360" y="623736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800" spc="-1" strike="noStrike">
                <a:solidFill>
                  <a:srgbClr val="9900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www.exeter.ac.uk/employ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395280" y="1989000"/>
            <a:ext cx="8353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ftr" idx="10"/>
          </p:nvPr>
        </p:nvSpPr>
        <p:spPr>
          <a:xfrm>
            <a:off x="684360" y="623736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800" spc="-1" strike="noStrike">
                <a:solidFill>
                  <a:srgbClr val="9900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www.exeter.ac.uk/employ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ffb"/>
            </a:gs>
            <a:gs pos="100000">
              <a:srgbClr val="a3ff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395280" y="1989000"/>
            <a:ext cx="8353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ftr" idx="11"/>
          </p:nvPr>
        </p:nvSpPr>
        <p:spPr>
          <a:xfrm>
            <a:off x="684360" y="623736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800" spc="-1" strike="noStrike">
                <a:solidFill>
                  <a:srgbClr val="9900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www.exeter.ac.uk/employ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Text Box 8"/>
          <p:cNvSpPr/>
          <p:nvPr/>
        </p:nvSpPr>
        <p:spPr>
          <a:xfrm>
            <a:off x="1403280" y="242100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Leadership Skills 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ـ</a:t>
            </a: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Part 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Rectangle 4"/>
          <p:cNvSpPr/>
          <p:nvPr/>
        </p:nvSpPr>
        <p:spPr>
          <a:xfrm>
            <a:off x="6518160" y="917640"/>
            <a:ext cx="22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Leadership Skill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Rectangle 6"/>
          <p:cNvSpPr/>
          <p:nvPr/>
        </p:nvSpPr>
        <p:spPr>
          <a:xfrm>
            <a:off x="395280" y="2060640"/>
            <a:ext cx="84978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Situational/contingency Leadership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Hersey-Blanchard,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1970/80)</a:t>
            </a:r>
            <a:br>
              <a:rPr sz="24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Leadership style changes according to the 'situation‘ and in  response to the individuals being managed – their competency and motiva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Rectangle 7"/>
          <p:cNvSpPr/>
          <p:nvPr/>
        </p:nvSpPr>
        <p:spPr>
          <a:xfrm>
            <a:off x="0" y="1422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Leadership Theor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5" name=""/>
          <p:cNvGraphicFramePr/>
          <p:nvPr/>
        </p:nvGraphicFramePr>
        <p:xfrm>
          <a:off x="457200" y="3284640"/>
          <a:ext cx="8229600" cy="309708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111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Competenc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Low competenc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ome competenc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gh competenc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High competenc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Motiv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Low commitment/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Unable and unwilling or insec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Variable commitment/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Unable but willing or motivated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Variable commitment/ Able but unwilling or insec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High commitment/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Able and willing or motivate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Leadership sty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DIRECTIV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(Telling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COACHING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(Selling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UPPORTIV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(Participating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DELEGATO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(Observing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/>
          </p:nvPr>
        </p:nvSpPr>
        <p:spPr>
          <a:xfrm>
            <a:off x="898560" y="1989000"/>
            <a:ext cx="792144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ransformational Theory 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(Bass and Avolio, 1994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eaders inspire individuals, develop trust, and encourage creativity and personal growth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dividuals develop a sense of purpose to benefit the group, organisation or society. This goes beyond their own self-interests and an exchange of rewards or recognition for effort or loyalt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Rectangle 5"/>
          <p:cNvSpPr/>
          <p:nvPr/>
        </p:nvSpPr>
        <p:spPr>
          <a:xfrm>
            <a:off x="6518160" y="907920"/>
            <a:ext cx="22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Leadership Skill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Text Box 6"/>
          <p:cNvSpPr/>
          <p:nvPr/>
        </p:nvSpPr>
        <p:spPr>
          <a:xfrm>
            <a:off x="0" y="1484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New Leadership Theor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0" y="112500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Session objectiv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900000" y="2205000"/>
            <a:ext cx="76327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What is leadership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dentify the traits and skills of an effective l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Key leadership theo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xamine the role, duties and responsibilities of a Team Leader in the workpl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Understand the limits of authority in a Team Leader ro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Develop a plan to develop your own leadership potential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Rectangle 4"/>
          <p:cNvSpPr/>
          <p:nvPr/>
        </p:nvSpPr>
        <p:spPr>
          <a:xfrm>
            <a:off x="6518160" y="917640"/>
            <a:ext cx="22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Leadership Skill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790560" y="1563840"/>
            <a:ext cx="8353440" cy="113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Understanding Leadershi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971280" y="2898720"/>
            <a:ext cx="7777080" cy="33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What is leadership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Why is leadership important – why do we need leader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Leaders – born or bred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Rectangle 4"/>
          <p:cNvSpPr/>
          <p:nvPr/>
        </p:nvSpPr>
        <p:spPr>
          <a:xfrm>
            <a:off x="6518160" y="917640"/>
            <a:ext cx="22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Leadership Skill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/>
          </p:nvPr>
        </p:nvSpPr>
        <p:spPr>
          <a:xfrm>
            <a:off x="755640" y="1628280"/>
            <a:ext cx="75614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"Leadership is a function of knowing yourself, having a </a:t>
            </a:r>
            <a:r>
              <a:rPr b="1" i="1" lang="en-GB" sz="3200" spc="-1" strike="noStrike">
                <a:solidFill>
                  <a:srgbClr val="000000"/>
                </a:solidFill>
                <a:latin typeface="Calibri"/>
              </a:rPr>
              <a:t>vision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 that is well communicated, </a:t>
            </a:r>
            <a:r>
              <a:rPr b="1" i="1" lang="en-GB" sz="3200" spc="-1" strike="noStrike">
                <a:solidFill>
                  <a:srgbClr val="000000"/>
                </a:solidFill>
                <a:latin typeface="Calibri"/>
              </a:rPr>
              <a:t>building trust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 among colleagues, and </a:t>
            </a:r>
            <a:r>
              <a:rPr b="1" i="1" lang="en-GB" sz="3200" spc="-1" strike="noStrike">
                <a:solidFill>
                  <a:srgbClr val="000000"/>
                </a:solidFill>
                <a:latin typeface="Calibri"/>
              </a:rPr>
              <a:t>taking effective action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 to realize your own leadership potential."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rof. Warren Benn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Rectangle 4"/>
          <p:cNvSpPr/>
          <p:nvPr/>
        </p:nvSpPr>
        <p:spPr>
          <a:xfrm>
            <a:off x="6518160" y="917640"/>
            <a:ext cx="22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Leadership Skill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/>
          </p:nvPr>
        </p:nvSpPr>
        <p:spPr>
          <a:xfrm>
            <a:off x="900000" y="1988640"/>
            <a:ext cx="73440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xercise In pairs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iscuss examples you have come across of strong and weak leadershi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You can use examples from employment, academic studies or participation in sports clubs and societies (keep anonymou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Rectangle 4"/>
          <p:cNvSpPr/>
          <p:nvPr/>
        </p:nvSpPr>
        <p:spPr>
          <a:xfrm>
            <a:off x="6518160" y="917640"/>
            <a:ext cx="22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Leadership Skill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/>
          </p:nvPr>
        </p:nvSpPr>
        <p:spPr>
          <a:xfrm>
            <a:off x="684000" y="2178000"/>
            <a:ext cx="8135640" cy="28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Early Theorie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7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57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Great Man Theories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Leaders are exceptional people, born with innate qualities, destined to lea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erm 'man' was intentional - concept was primarily male, military and Western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7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rait Theories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search on traits or qualities associated with leadership are numerou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raits are hard to measure. For example, how do we measure honesty or integrity?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7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Text Box 4"/>
          <p:cNvSpPr/>
          <p:nvPr/>
        </p:nvSpPr>
        <p:spPr>
          <a:xfrm>
            <a:off x="0" y="1484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eadership Theor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Rectangle 5"/>
          <p:cNvSpPr/>
          <p:nvPr/>
        </p:nvSpPr>
        <p:spPr>
          <a:xfrm>
            <a:off x="6518160" y="907920"/>
            <a:ext cx="22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Leadership Skill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812520" y="1464840"/>
            <a:ext cx="6738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Leadership Trai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826920" y="2637000"/>
            <a:ext cx="773136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Group Exerc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hoose leaders YOU adm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at personality traits and skills do they hav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Rectangle 4"/>
          <p:cNvSpPr/>
          <p:nvPr/>
        </p:nvSpPr>
        <p:spPr>
          <a:xfrm>
            <a:off x="6518160" y="907920"/>
            <a:ext cx="22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Leadership Skill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33080" y="2060640"/>
            <a:ext cx="460836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rai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daptable to situation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lert to social environmen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mbitious and achievement orientate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ssertiv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operativ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ecisiv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ependabl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ominant (desire to influence other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nergetic (high activity level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ersisten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elf-confiden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olerant of stres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illing to assume responsibilit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Rectangle 5"/>
          <p:cNvSpPr/>
          <p:nvPr/>
        </p:nvSpPr>
        <p:spPr>
          <a:xfrm>
            <a:off x="4968720" y="2160720"/>
            <a:ext cx="4067280" cy="47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Skills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lever (intelligent)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nceptually skilled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reative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iplomatic and tactful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Fluent in speaking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Knowledgeable about group task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Organised (administrative ability)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ersuasive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ocially skilled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togdill, 197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Text Box 7"/>
          <p:cNvSpPr/>
          <p:nvPr/>
        </p:nvSpPr>
        <p:spPr>
          <a:xfrm>
            <a:off x="0" y="1557360"/>
            <a:ext cx="91440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eadership Traits and Skills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Text Box 8"/>
          <p:cNvSpPr/>
          <p:nvPr/>
        </p:nvSpPr>
        <p:spPr>
          <a:xfrm>
            <a:off x="539640" y="6093000"/>
            <a:ext cx="777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Rectangle 9"/>
          <p:cNvSpPr/>
          <p:nvPr/>
        </p:nvSpPr>
        <p:spPr>
          <a:xfrm>
            <a:off x="4932360" y="5516640"/>
            <a:ext cx="403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Leaders will also use: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ntegrity, Honesty, Compassion, Humility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Rectangle 10"/>
          <p:cNvSpPr/>
          <p:nvPr/>
        </p:nvSpPr>
        <p:spPr>
          <a:xfrm>
            <a:off x="6518160" y="907920"/>
            <a:ext cx="22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Leadership Skill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/>
          </p:nvPr>
        </p:nvSpPr>
        <p:spPr>
          <a:xfrm>
            <a:off x="611280" y="1915920"/>
            <a:ext cx="712944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Functional Theories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(John Adair, Action Centred Leadership, 1970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Leader is concerned with the interaction of 3 area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Task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– goal setting, methods and pro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Team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– effective interaction/communication,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larify roles, team mora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Individual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– attention to behaviour,  feelings,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aching, CP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Rectangle 3"/>
          <p:cNvSpPr/>
          <p:nvPr/>
        </p:nvSpPr>
        <p:spPr>
          <a:xfrm>
            <a:off x="6518160" y="907920"/>
            <a:ext cx="22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Leadership Skill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Text Box 4"/>
          <p:cNvSpPr/>
          <p:nvPr/>
        </p:nvSpPr>
        <p:spPr>
          <a:xfrm>
            <a:off x="0" y="141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eadership Theor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9" name="Picture 5" descr="adair_circles"/>
          <p:cNvPicPr/>
          <p:nvPr/>
        </p:nvPicPr>
        <p:blipFill>
          <a:blip r:embed="rId1"/>
          <a:stretch/>
        </p:blipFill>
        <p:spPr>
          <a:xfrm>
            <a:off x="6516720" y="2421000"/>
            <a:ext cx="1800360" cy="1765080"/>
          </a:xfrm>
          <a:prstGeom prst="rect">
            <a:avLst/>
          </a:prstGeom>
          <a:ln w="0">
            <a:noFill/>
          </a:ln>
        </p:spPr>
      </p:pic>
      <p:sp>
        <p:nvSpPr>
          <p:cNvPr id="1030" name="Text Box 6"/>
          <p:cNvSpPr/>
          <p:nvPr/>
        </p:nvSpPr>
        <p:spPr>
          <a:xfrm>
            <a:off x="611280" y="4427640"/>
            <a:ext cx="792000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Behaviourist Theorie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(Blake and Mouton, Managerial grid, 1964)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Leaders behaviour and actions, rather than their traits and skills e.g. production orientated or people orientated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ifferent leadership behaviours categorised as ‘leadership styles’ e.g. autocratic, persuasive, consultative, democrati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oesn’t provide guide to effective leadership in different situations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2T08:19:32Z</dcterms:created>
  <dc:creator> Careers Advisory Service</dc:creator>
  <dc:description/>
  <dc:language>en-US</dc:language>
  <cp:lastModifiedBy>Zeyad Al-Obaidi</cp:lastModifiedBy>
  <dcterms:modified xsi:type="dcterms:W3CDTF">2019-10-21T07:58:40Z</dcterms:modified>
  <cp:revision>204</cp:revision>
  <dc:subject/>
  <dc:title>PowerPoint Presentation</dc:title>
</cp:coreProperties>
</file>