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BE7E-87C1-46B1-A099-3BAB98C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27C8-1883-490C-A75B-94784DEE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D99B8-7E87-4561-B989-6E1AC625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1A06-10A9-4B13-A201-2476CF49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9EE1-88B4-4E2E-9012-F966DD3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09339-07D6-4FE2-BDB4-73DD610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8563-BCC3-433A-A80B-3966DC3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A025-907F-4498-B5BB-E6D8AF14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E9C3-08D9-4AFB-B188-20CB4F7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F27CB-35F5-46F0-BEA2-E25094D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5AD9-B56C-4970-BE56-D4512F10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36580-8E8A-4A7D-86FC-99B2014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E5AF-9D6C-4814-B944-6B25A09B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A93E-259F-4553-B3B2-B80AA31A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4D6C-3988-4219-A84E-6589C3F8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99C6-713C-449E-BF4D-7FAEC854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0B2C7-EA0C-4CDD-9890-2B6A5ED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04CE-4693-4E48-A194-C0E384F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E6B0-87E2-47A8-A773-46BC2A4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EA5F-ACDF-4D29-9A04-E3B87CF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3BEC-3A3A-4C6A-AD42-BECCA93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FB5A-CC1D-4635-B985-F77EC83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2658C-3CAD-4215-BD7F-366561F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8768-A2BF-49C5-8834-9F994BA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038D-A6DF-44B1-BDA3-04C8F64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91BF9-9033-4EB6-9F4E-638FE20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1F21-95C3-4F49-994A-E466734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A492-530E-4420-A637-8E5B9B92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72433-1A11-4C28-B0B8-7D88EF0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3C856-12A2-4C21-BFEB-4ACE792D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D9C2-CEF8-4DC8-9F39-A136C9C5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67E1-1097-40AC-AFBA-00DEDAE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09C9-E74F-47BA-A16E-779F1044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FEF5-65DF-46CD-B96E-6292602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403B-E5FD-4344-8F41-CB799312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196DA-48A9-4354-91FC-86E9983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CC1C-788C-417A-A23F-8BF0F01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0514-4CAA-468B-9DDB-BE38F12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76B16-7200-4936-854A-74F8662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26E9A-4E70-4357-A893-2C240D3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39D0-EE0E-4A9E-ACC4-F9D4152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E005A-F743-4623-B022-1DD492F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A8DF-C619-47E4-8F68-60F9F64C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8F907-2E24-41AB-9652-9C46BFC2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3173-9982-4C36-BDE4-A414747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CD572-AA38-442E-9269-3FE1785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BE7D3-0E2D-4307-9F00-9DF91B4F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73949-0ABF-4D99-8686-2F14AE0B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F65C0-B1C2-46DA-B301-753BD321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C8135-D60A-4E63-8709-86DC2D7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72EA9-9F11-49AD-9839-269B67A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8520E-B621-4212-AC39-84DC9E0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D0502-B90E-4FD7-B6E7-3ACCDB8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F4DF-3DC9-4F5F-BE22-37FC6AA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82F91-906B-413A-814D-2CA54E98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E8708-5553-49F7-B7B5-BCC573B8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0725A-3DFA-485F-823F-5AD8B28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0FB7E-7D43-4763-9088-EE21E83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9C823-AD22-48FB-A1F5-4071E08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0C52-F1D8-4B4E-9049-5DBCEDDC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8EE5-6B7D-40C3-88D6-65A050D9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1BB20-78C8-4D02-A336-C0F8073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BDC7-2E02-4C7C-B06A-B2B5E4E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C2C1-C840-433F-AA7C-C0960E04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C253A-2994-4FA0-9BB8-F94406A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FB9E1-EF73-42F8-A958-9BA89833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94740-3304-4A39-99CD-9B7D6DA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93F9C-2F3D-4CCF-A582-9D0AF11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1D6AF-5779-45C5-9A5B-E900E96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10285-2321-4598-90E5-33165429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DB48-4559-45ED-ABA9-AA8349A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5A5E9-2FF6-4069-B1A2-9B16156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B2200-A47F-45F0-B8DF-50ED491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5169-1778-45CB-93FA-867CEC7B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EC342-B35D-459A-937A-82B726B9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2EE7-4053-4A67-A4F4-F3F2CE3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4F8BB-4CB6-4E21-AF2F-C5A48C0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36DC-C641-433B-87EB-51A1C9F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F008-1426-455A-9E51-9F3637D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8AFC-CE2D-4E39-9203-F7A7C0B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0DDC2-A884-4799-BE78-C0956856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075FE-C52D-4D33-AB9C-DD6CB9D9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0526-C6C8-4D2A-924A-B542AF4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8D275-C9CE-469A-ABFF-E58AA974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5177-9FAE-43BC-BE22-1EA00626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68DD-8BF8-4BDA-9541-15B3925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D38ED-FD59-47AA-A9FC-C1D94CD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3581-E6CC-428E-B1E7-0216A19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B3B1-7D74-40C2-A7DF-DE96DAB3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8ADF5-BB2A-471A-A27D-14FE1D4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70907-5370-4DF2-97CB-7C6223C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EA789-76F9-47D0-AB2A-F0DE08F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EB177-A9FA-4D6E-88CC-C698DF73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86953-30AE-4FA8-9E34-1B5D742D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F62E2-4456-4923-9053-6A00D7B3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EF3D2-E108-4AA2-9245-ACC0BC1F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A9C39-CDD1-4ED5-B542-FA038361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1CC30-CB88-44E6-92A9-163A8218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8FB9D-6FA8-4CFB-A2B2-A33F5C79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77C6C-2762-46E0-BDE3-98B0CF51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A0FB6-D8A2-4A20-A26A-360BD7F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5BC2E-D51A-4BBC-BA81-C697189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5899A-1CB7-476E-9BDB-F521875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1D3FE-7E63-4E82-BF22-38CF95C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E06D0-A8CC-45E2-9789-55550F1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9863C-08C9-4DA3-9EC1-82E3DB8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9FDCF-DD24-46FB-A86A-3B9E6078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12599-C6EB-499C-802B-19F4546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A4F40-AD12-42D7-9231-4022D5D3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2F8C1-BE52-4C88-B629-3DCA550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4C465-1772-47B8-BC08-9012309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7D0F1-5996-4FBD-91B8-9633B3D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AD308-0F3E-42D0-AB70-D67E6B49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5FD6D-80F9-435F-A5A6-0B32C2F8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AB484-5BFC-4D4E-9EDF-98D19FC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728CE-6CEF-4DB1-ADBC-44268B3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CBB36-0B55-4BD3-8854-51E66BD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E6837-A096-4F08-B487-A6BD2AE7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BF973-F848-4F2C-81E6-992459EC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57F11-ED08-4E6A-AD4D-6BD5AF4C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3FD4D-7A01-499C-853F-8C55C08C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E73BA-E14D-4A2D-871A-37F64605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CA486-6A1A-4816-AD84-11A8C50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B8310-07D8-4EC8-A186-732955A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5E030-87DD-4302-9007-D98B8DC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57BC7-D8D2-41B7-90D2-7825181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8855D-B059-49C6-B9F3-3A3B964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AB87E-5F3A-4B12-B0B1-D001EC9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4AFEF-0293-45C4-88E4-2333BA0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E4649-8079-45E2-B3AF-39B9E30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5B4E7-CBB2-461A-9EEA-30F44F47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A24BE-FBBA-43F4-B318-7BCE03F1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A7F7F-7362-4352-8546-974E3CE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ED173-1336-4AEC-870D-7C5281B7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B3945-304F-4178-B30D-BD153D6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376A3-6743-4A79-8A65-5B5E584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272C0-8BED-4540-880C-FA68C86D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16525-2F5E-4253-87D1-4CED470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C86AF-1DDA-498F-8FED-D7B7F77D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767A6-4F0A-4E71-AD9E-7178EF8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9DE0C-0B27-4AD6-AB04-1BBCA95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2EEE2-E137-4A62-AE2D-1058747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B47D5-38C3-4BE8-87E0-B2F2955E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0EB9E-030D-422D-A716-A027B304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FCE96-E714-4470-8C10-CF41D16F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90AC0-CA6E-4704-98A7-29D300E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EEFB5-D20A-403E-869B-038AD49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64183-7A95-4B7B-81FD-98138FA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1E880-DD4B-4ADE-A360-0440E81C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2A10A-07BD-4EEB-A262-1EB4913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62C0E-C80E-4B07-9030-5924766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7E519-6034-47EA-87FA-FCB1A9B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8B22B-16D0-4464-8CE3-DAAC9DD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F5D7D-4D2C-4B4D-AEB5-F047566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16F05-06E4-4296-88CE-CCEAA73E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394C9-ADBE-4785-AAE9-67D6EF88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88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2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13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4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D25B-F2BE-45B1-BDD7-244D0475B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44BC-B956-4D6A-8D21-2A85BF878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276-7A1F-48E8-9C0E-4FAA1CA96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B977-2440-4E7E-98F0-3DF447B7C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9A04-345A-4359-8CC4-9EF94332C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44F-D205-44FF-B98F-8FABEA89D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D7D-88CE-4424-957D-53BB7CE9F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FDF-7409-4657-8CBB-B8C963937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2F6-17CE-455F-B3D7-4F9D02842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840-450A-4BF7-BF92-818348CDD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4CD-7CB4-40A5-8B19-037795027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5168-4381-468A-83D4-4D22C5BF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8F01-9627-4F67-B057-441DC6190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9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0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fOF_gYBg" TargetMode="External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755280" y="213192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hical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SR, sustainability, equality, humanitari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ur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 - Purpose, People, Planet, Prob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Picture 3" descr="businessballs_management_diagram"/>
          <p:cNvPicPr/>
          <p:nvPr/>
        </p:nvPicPr>
        <p:blipFill>
          <a:blip r:embed="rId1"/>
          <a:stretch/>
        </p:blipFill>
        <p:spPr>
          <a:xfrm>
            <a:off x="3348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4"/>
          <p:cNvSpPr/>
          <p:nvPr/>
        </p:nvSpPr>
        <p:spPr>
          <a:xfrm>
            <a:off x="3419640" y="609300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504d"/>
                </a:solidFill>
                <a:latin typeface="Arial"/>
              </a:rPr>
              <a:t>Alan Chapman,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adership Philosoph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ine the role, duties and responsibilities of a Team Leader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UoE Corporate PowerpointTitle1_12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6268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8"/>
          <p:cNvSpPr/>
          <p:nvPr/>
        </p:nvSpPr>
        <p:spPr>
          <a:xfrm>
            <a:off x="1116000" y="59500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on Bo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ployability and Graduat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5029200" y="1069920"/>
            <a:ext cx="41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amine and discuss the Team Lea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Job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key responsibilities of the team leader r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7054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uide/coordinate tea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embers – encourage teamwork and motivate individu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vide structu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team – set mission and purpose, clarify roles and responsibilities, allocate tasks and set objectiv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rify working method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actises and protoco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ocus on performan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anticipate challenges, monitor performance, delegate and provide CPD suppor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5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1116000" y="1341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ey Team Leader Responsib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1547640" y="2349360"/>
            <a:ext cx="6608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sponsibility Vs Accountabi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does having authority 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8190000" y="4960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684000" y="2304720"/>
            <a:ext cx="8064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the state of being accountable, liable, or answ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ponsibility (for objects, tasks or people)  can be delegated but accountability can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buck stops with you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 good leader accepts ultimate responsibi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give credit to others when delegated responsibilities succ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accept blame when delegated responsibilities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can not operate fairly without the leader being given full authority for the responsibilities conce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uthority is the power to influence or command thought, opinion or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ross-functional team – less authority - more difficult to ma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1557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countability, Responsibility, and Autho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6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6899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roup Exerci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en have you experienced an issue as a leader that you did not have the authority to resolve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id you know you did not have the author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id you refer to for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examples from your own current experi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work, volunteer, club /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am Leader authority will vary from role to role dependent on the scope of duties and organisational structu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Team Leader may refer to line management o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orities for the following:</a:t>
            </a:r>
            <a:br>
              <a:rPr sz="24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R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ff recruitment  and training, performance and discipline, racism or bully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olicy and procedur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, changes to working practi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dget &amp; resourc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allocation and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ational objectiv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trategy, targ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naging ch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department restructure, office mo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ne managem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upport and advice, own CP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2628720" y="14223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eam Leader Autho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08000" y="1348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to improve your leadership sk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flect and identify the skills YOU need to lead effectively and create your action plan to develop the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k for feedback from work colleagues, line managers, tutors, your ‘followers’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actise! Take on responsibility (work, volunteering, clubs &amp; Societies) and reflect on your performanc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FE -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youtube.com/watch?v=KB2fOF_gYBg</a:t>
            </a:r>
            <a:br>
              <a:rPr sz="2400"/>
            </a:br>
            <a:r>
              <a:rPr b="1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ind a mentor – learn from positive leadership role-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ttend further leadership and manag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the resources on Exeter Leaders Award ELE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view your performance as a Lea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826920" y="2060640"/>
            <a:ext cx="79218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dividual Exercise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sess yourself as a Lea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duct a SWOT analysis - Strengths, Weaknesses, Opportunities, Threa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Use the Results of Leadership Questionnaire you have been completed prior to attending the session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velop an Action Plan to improve as a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 2 actions you will undertake to address Weaknesses or capitalise on Opportunitie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ply SMART targets to your actions – Specifi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asurable, Achievable, Realistic, Time-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> Careers Advisory Service</dc:creator>
  <dc:description/>
  <dc:language>en-US</dc:language>
  <cp:lastModifiedBy>Zeyad Al-Obaidi</cp:lastModifiedBy>
  <dcterms:modified xsi:type="dcterms:W3CDTF">2019-10-21T07:59:05Z</dcterms:modified>
  <cp:revision>204</cp:revision>
  <dc:subject/>
  <dc:title>PowerPoint Presentation</dc:title>
</cp:coreProperties>
</file>