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61802-3EEE-4B89-9D10-DADFC08D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C5A97-5E60-4AF9-BC08-85495A2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39258-14EC-44F5-A55B-5690F951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8E8C-F7F6-4A9E-9A34-BE89855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9BFE-42D2-4A91-A987-9DEE49E3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EC9F-34E2-4B3F-B87F-81AC1088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7038-12E4-4210-8A5A-5EED4D0D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2B48-57E9-4775-833E-96A45654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C520-4E62-484C-B628-352EA49C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B20E-4386-4D1E-BBAF-9253C48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25A67-A508-4FF4-9909-F570240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B237C-22B2-4021-8C54-742C8D3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28E6-91E9-4543-AE6A-1A53364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2511-B19F-4211-96E0-A41C31ED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130F-F542-4DA0-A5A7-BA95E72D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CE6F-8AE8-4064-8ECD-76A12D72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04AFE-3072-4CA9-A2BD-A79DD044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FC0C0-A5C8-4476-B468-ECFD877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DE5C-B6FE-4719-A89F-31B97ECE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71146-D329-4863-9105-61FD3F52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8005D-1640-4C93-AF51-63FF287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1EB5-57E8-4C44-B41D-360DBF3F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E430C-32FA-4C2F-BDDD-68201729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FB495-571D-42B8-A5F0-1BAF85F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F5A2E-EDB8-42CA-A08F-25B2965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25D9-1A1B-4FF3-8581-46FB87F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D9BD-4AE9-47D7-A267-37CEE29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8388E-742A-47E9-AE40-4D78F83D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C16F3-2BD9-4AF7-8BFC-7AED8E58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AB46-A722-403F-BA4C-3E20B19F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BC43F-6292-4EA6-80CE-ED5871D6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566D-B617-4096-B9C0-85ED9C3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74FF8-9BBA-401F-B59B-B9019821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C179-183D-4B66-AABF-950A1A01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D3F8-99CA-4929-9380-9D5D42E0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97B57-1BA6-4FD6-92F3-1FB52ADC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E91D-8441-4920-A98D-84679C9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914DD-C5D1-44E0-B123-7F7EC47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227E-F8AA-45E2-B9EA-FD91792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D6B1E-5725-4583-B2D5-BA726E2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772E-6795-4303-B71B-7A96491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255D-5FCA-45E1-8B77-5F51984F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BC72-B981-44B7-A728-0B94F8B7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ED874-D21A-46EF-84BF-61DAFDB4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AAD8A-B809-4457-9106-A724067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0948E-87FE-4C69-B5DA-206EA035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20422-99CE-4018-8E79-C1B1DB2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80289-6989-429D-8FBD-2AB891F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487D4-0B6B-453B-A50E-1BC96D2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9883D-1FB7-4108-B3E8-F29534B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5ABF2-DCAA-462E-B0DE-A9FD80B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44C6D-F9B7-4D1C-8D63-8D60702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1F38D-EEB3-41F7-9C1E-B2F1DBC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53B1E-70BA-4DF2-8F7E-CA00524B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E6071-83DD-4B4E-B939-B1A6EFFB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BC920-55C4-4EF5-B87D-CB133D3E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79407-D182-4DF9-8F29-E984E2D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9A996-5DAB-46DA-90EB-9841975C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DB5C6-A6E2-45E9-87D9-6B3AEEEA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004B5-E795-460B-9539-5F880288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CACF8-BEB4-472D-8557-18D35562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9A24E-AFA5-431F-A98B-4B60184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47E86-8D1F-4E0D-98A7-D7CE8603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44B2B-618B-4AE1-B12A-B6A038D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5095D-B673-49E7-9FA4-5029435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1AD0D-3174-44E1-B776-F8147651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75B9F-D450-4B3B-B4FE-C0EA3F86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39DD0-2AFD-4404-A33B-B099FE5A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45D77-0F60-4AAB-9FFB-D5546813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AC6DB-965F-49A3-8A15-704C1A49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FB5F8-AB06-4E60-A30F-4859D1D7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ACFC9-4169-47CE-8BF4-F2377059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536F7-9760-4B7D-8CCE-CEC1F04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2E90D-23BC-484C-B811-AA1BE4F4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27278-3A3C-4A7B-8C20-7AF4E31C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B27C4-EC6F-4B5E-93E4-DA54E173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D672E-C2D7-4D91-ACC7-B98D968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888E4-D1FA-4B3B-A17F-B7E5124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7F982-039A-433B-9DE6-BC737B3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EE8FB-3C86-4451-87A7-C6FFD491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40CBC-AABD-4696-8ACF-C3D5C7F4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63E1D-B449-4C2B-B51D-4E36027B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A7FA-7C9B-4544-AAFC-91B7E0AF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7D6FD-3AC6-4351-8D7E-F857EC43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FC246-9733-458D-AE89-D3ACB39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EEDC1-EE8E-4C70-9ED5-461565B0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52B42-C4FF-457E-8B50-3561FB0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5AD1C-1745-4039-9D76-26BC692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FE04D-7164-46C0-8919-5C52B44C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EC2E4-3E4D-4B77-A761-C67FFB93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F55AF-FC0E-4DD9-86B4-3877C683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B5D17-0FF7-4DE2-96F3-709EE45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05B46-DA94-450B-B799-B33AD00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097E1-6D61-4156-A3F3-E10244F5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95759-3E1E-4362-83BD-34B701CB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2EF3C-5A4E-49BC-9782-70FB269D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31526-2C75-4D37-A1B8-18CF6079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C9F67-6CC7-4423-987B-DD5F2382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DFA80-2318-4A3A-97A9-8A227392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17D68-21A8-41E8-8038-D8B52DE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23343-E2FF-44A5-9B86-8FE02CD7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FAEAA-C195-4660-82DB-B845A4EC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D356B-DBB4-463E-89EB-412EE03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15559-0756-4491-917E-FCE8910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9979D-DEFB-44D8-B3DE-CDA5AF1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C10FE-4AE2-43D4-AD7A-90C6642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BA1BC-3494-4520-A290-A485F689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BE2BF-6F0B-492D-9D02-CE198F98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8B5C7-0261-4B88-8414-643387EE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A8CA7-E2DB-433C-AE5C-66B5EDCD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88463-0057-4A1E-B6DC-1B31A8BD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9947A-0A20-4937-9C0E-7C6F435B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E7AE1-037D-4BB5-8E53-3DCAAE5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AD138-C7AC-4E84-9607-7397E386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C454B-1827-436D-BA13-9026B9FC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CA4C4-864E-403C-9920-285EE6E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CEB97-9FDD-4887-8C99-6723470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17FC7-09DE-4D24-8F03-DCB6946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3740D-56AD-4DFF-9D6E-0DCE1C34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5D66F-0A93-443B-AEBB-8FDA844A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150D6-5C71-4206-A79B-7A5C117A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BD810-396F-4920-9154-57A69116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BA3A3-E501-40B8-8857-3ADFEF5E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BBD47-06FB-4FEA-8C6A-476058F3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B1CE7-CB5A-4172-98BE-2C4C344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C02A2-842C-4347-8CFA-2EBCE0CC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08139-4A95-4465-8381-E1C7980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83CB1-9E73-4A2B-B61D-2655D45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7C60F-88FA-4E8B-B704-4D34D21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91548-9518-40EA-8E91-D55033F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72270-6455-4CDD-AA5C-30408A3B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7EE25-232F-4645-9FAE-CE5905DE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7D63D-7AFF-436C-8FFE-F3726C6C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5B9C6-98F6-4B06-9F9B-F07C8853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78285-6526-4FAF-873F-C19976E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D84B0-DA1F-47AF-87DF-E61ECB48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9C781-8FC6-4F57-8211-92E4104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F95CB-F0FA-4754-90F5-4BE22954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ADECD-84CF-4CF7-A4E1-D96D02E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5312B-79FB-41DA-97AA-6A0C2E7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362F7-2C0F-4D19-9CA3-0BB777A6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D032C-AC69-4D8E-960C-2CFE06BF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3C5437-4D3A-42E3-A71C-129B4F06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8FBCF-EFD9-4F0A-8D7F-A7023FE3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3E8B5-29C0-4929-A08C-A38008E3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220F8-C099-49E3-975F-8320E95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B5357-1F22-45B1-A4FE-8C7A983D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B95D3-017A-4788-B97D-53D89274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683F6-3901-403F-9557-E609E322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8AF8D-3E67-4249-B524-56864D80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3CE36-C4F1-497F-A7D6-9A7CFCF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58B6C-1E63-4827-A808-5478DE1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42500-950C-4449-87AE-389E2D9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98E22-DFAD-4BAA-ACD4-9E8CA35F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B32A5-8725-4455-BDA6-F18CF88E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A298D-A541-4A4C-9890-3B9177E6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purple cogs"/>
          <p:cNvPicPr/>
          <p:nvPr/>
        </p:nvPicPr>
        <p:blipFill>
          <a:blip r:embed="rId2"/>
          <a:srcRect l="0" t="0" r="13088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2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13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4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09E1-4D9A-4E5B-BEF7-6C1385999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17D8-9209-46D1-883E-9380F2E52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FF9-F437-4511-8FF2-2DB22E92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3263-943F-4312-80BE-EA1477A47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0D4A-D8D8-4E74-A00F-561ABAC58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D299-A01A-412F-A807-D5BF15A1A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75BA-D57A-4FFC-BB63-55751DDB3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UoE Corporate PowerpointTitle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24E2-F584-48C5-808C-BC17AF520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1926-A5C4-4660-AF59-481D85944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0725-4028-44A7-BE33-BF4C03E16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6CF6-4444-42FB-8573-4DAE455C1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E4F-9AF7-43DD-8BC6-2D4E49EEF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D0B-CF46-441C-9DA8-FAB46C346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8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9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0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B2fOF_gYBg" TargetMode="External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755280" y="213192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thical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SR, sustainability, equality, humanitari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ur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 - Purpose, People, Planet, Prob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Picture 3" descr="businessballs_management_diagram"/>
          <p:cNvPicPr/>
          <p:nvPr/>
        </p:nvPicPr>
        <p:blipFill>
          <a:blip r:embed="rId1"/>
          <a:stretch/>
        </p:blipFill>
        <p:spPr>
          <a:xfrm>
            <a:off x="3348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4"/>
          <p:cNvSpPr/>
          <p:nvPr/>
        </p:nvSpPr>
        <p:spPr>
          <a:xfrm>
            <a:off x="3419640" y="609300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504d"/>
                </a:solidFill>
                <a:latin typeface="Arial"/>
              </a:rPr>
              <a:t>Alan Chapman,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adership Philosoph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is leadersh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dentify the traits and skills of an effective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ey leadership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amine the role, duties and responsibilities of a Team Leader in the 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derstand the limits of authority in a Team Leader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velop a plan to develop your own leadership potent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UoE Corporate PowerpointTitle1_12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62680"/>
          </a:xfrm>
          <a:prstGeom prst="rect">
            <a:avLst/>
          </a:prstGeom>
          <a:ln w="0">
            <a:noFill/>
          </a:ln>
        </p:spPr>
      </p:pic>
      <p:sp>
        <p:nvSpPr>
          <p:cNvPr id="1035" name="Text Box 8"/>
          <p:cNvSpPr/>
          <p:nvPr/>
        </p:nvSpPr>
        <p:spPr>
          <a:xfrm>
            <a:off x="1116000" y="59500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on Bo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ployability and Graduate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5029200" y="1069920"/>
            <a:ext cx="41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ou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erc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amine and discuss the Team Lea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Job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key responsibilities of the team leader r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7054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uide/coordinate tea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embers – encourage teamwork and motivate individual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vide structu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team – set mission and purpose, clarify roles and responsibilities, allocate tasks and set objectiv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rify working method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practises and protoco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ocus on performanc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anticipate challenges, monitor performance, delegate and provide CPD suppor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5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6"/>
          <p:cNvSpPr/>
          <p:nvPr/>
        </p:nvSpPr>
        <p:spPr>
          <a:xfrm>
            <a:off x="1116000" y="1341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7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Key Team Leader Responsibil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1547640" y="2349360"/>
            <a:ext cx="66088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sponsibility Vs Accountabi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does having authority 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8190000" y="4960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684000" y="2304720"/>
            <a:ext cx="8064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ccountability the state of being accountable, liable, or answ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ponsibility (for objects, tasks or people)  can be delegated but accountability can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buck stops with you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 good leader accepts ultimate responsibi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ill give credit to others when delegated responsibilities succ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ill accept blame when delegated responsibilities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ccountability can not operate fairly without the leader being given full authority for the responsibilities conce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uthority is the power to influence or command thought, opinion or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ross-functional team – less authority - more difficult to man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1557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ccountability, Responsibility, and Autho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6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76899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roup Exercis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en have you experienced an issue as a leader that you did not have the authority to resolve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id you know you did not have the author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id you refer to for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examples from your own current experi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work, volunteer, club /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am Leader authority will vary from role to role dependent on the scope of duties and organisational structu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Team Leader may refer to line management o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horities for the following:</a:t>
            </a:r>
            <a:br>
              <a:rPr sz="24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R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ff recruitment  and training, performance and discipline, racism or bully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olicy and procedure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and Safety, changes to working practi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udget &amp; resourc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allocation and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ganisational objectiv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strategy, targ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naging ch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department restructure, office mo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ne managem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support and advice, own CP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2628720" y="142236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eam Leader Autho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08000" y="1348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to improve your leadership sk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flect and identify the skills YOU need to lead effectively and create your action plan to develop them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k for feedback from work colleagues, line managers, tutors, your ‘followers’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actise! Take on responsibility (work, volunteering, clubs &amp; Societies) and reflect on your performanc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FE -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youtube.com/watch?v=KB2fOF_gYBg</a:t>
            </a:r>
            <a:br>
              <a:rPr sz="2400"/>
            </a:br>
            <a:r>
              <a:rPr b="1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ind a mentor – learn from positive leadership role-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ttend further leadership and manageme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 the resources on Exeter Leaders Award ELE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view your performance as a Lea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826920" y="2060640"/>
            <a:ext cx="7921800" cy="59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dividual Exercise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sess yourself as a Lea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duct a SWOT analysis - Strengths, Weaknesses, Opportunities, Threa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(Use the Results of Leadership Questionnaire you have been completed prior to attending the session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velop an Action Plan to improve as a l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 2 actions you will undertake to address Weaknesses or capitalise on Opportunities identifi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ply SMART targets to your actions – Specific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asurable, Achievable, Realistic, Time-bou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8:19:32Z</dcterms:created>
  <dc:creator> Careers Advisory Service</dc:creator>
  <dc:description/>
  <dc:language>en-US</dc:language>
  <cp:lastModifiedBy>Zeyad Al-Obaidi</cp:lastModifiedBy>
  <dcterms:modified xsi:type="dcterms:W3CDTF">2019-10-21T07:59:05Z</dcterms:modified>
  <cp:revision>204</cp:revision>
  <dc:subject/>
  <dc:title>PowerPoint Presentation</dc:title>
</cp:coreProperties>
</file>