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53A-0AA7-4286-BA9D-E30F91B0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F37-B358-4E02-9BFB-736AB4D6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F8B5F-518E-4377-A77A-EA9255D5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D29A4-9B85-4348-9883-FE6CFD82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4DC3F-6C1E-4A8C-B1E9-D57747BB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9B722-3E66-4608-9416-64859F81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5D408-2EE8-410F-94FB-33E6B2F7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6EAF7-D0BE-41E1-9DB2-91637423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CC896-3FBE-4D05-BF64-57D0C459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09A1E-AB6D-4B3F-944D-8D89E26C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6E41A-6FA5-46D9-A515-CE94EB48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8C745-7F32-4D91-9874-BE1E6843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1B7-6461-4B39-ADD2-817BB2F0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CF302-67D4-41B7-A785-A87F4A12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04420-D2C7-4685-96B4-5277CEAF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51D13-D6A8-46CB-85D3-06F9D1AC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E1C17-AD37-4DEA-B082-302370FC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AA50B-352A-4BF3-8509-1BF94ADE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DF6E8-5943-4389-AA59-8C96F1D5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1ABB2-25D4-48CA-9215-3374B54A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AD384-CC05-4724-99C1-D9C6369A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543AF-AA4D-42F1-A20A-0C4E18D2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510A3-1898-4E90-998B-44A98F01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636C-4236-49D0-BD15-9C0BE855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1DFA4-9914-4375-8F6D-29A02433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1CD98-ACB1-4D4D-871B-5E8DEA9D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DFE52-390D-49D4-83E5-D9518E40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DB107-2E25-4C59-8FC0-25F606C4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4E926-C00D-45A5-8DC4-566DC7D1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8C766-8C00-4083-989A-2D3BD47E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7AB9B-F0FE-4335-9CAB-B35A3A07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9B986-9DB1-4BB1-8D4B-DADC651A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A7492-EF87-4728-A5BD-E00136BC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D5CB8-07CB-4215-90F1-AC1A3952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CA3E-970F-44DF-A028-DA6F8399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DF5CE-799B-4161-8412-33BDB4EC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911B0-DB3E-414C-87C9-B83FB971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025F0-AF9C-4E50-AF05-69E83043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3CE46-718D-4A28-BEE5-BFCB017A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BF04A-C22B-47E9-A22B-E5C6DBC3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C6877-7461-4298-AEBF-8C9B5337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2AC58-5CEE-4CE0-B257-355C18E7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E36C9-EE8A-423F-9F80-C5B77FA4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8D2B6-4279-4F33-9628-98150646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22053-584A-426D-9D12-5252B9CA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8AF3-79CE-4607-AEB1-5C6D4288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A4A03-C143-478B-AC31-7092823F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9D08B-A2A7-4BC2-9D07-65D83FCA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5EA90-998E-422B-ABA7-2C980CAB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D85BE-F8CD-4FA8-9C8B-012B505A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45695-285C-4231-AD07-4FDB22CC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EF4607-45E8-46E4-AC32-43E61558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B15E9-E8EE-4D60-AFD9-B64016D3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6742C6-B537-4EDB-B7F3-A8C036C3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16C58-2044-4766-82C6-851CF4FB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B74CE-EA1B-472A-BBFC-D57047D9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4566-7A37-4929-B724-D9CA8030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9C1BC-6E3E-4C2C-8424-2DE7470B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310F7D-3EFC-4D4B-90C9-3DCC2D2B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ED64D-CDE7-4B85-ADE7-A11247DB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797E6B-2E50-4425-84B4-B5740C0D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91919-2EF7-46DA-B672-20D3B680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DDB16-6EFB-494C-9410-91BEEFB1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B26BE2-94DC-45CA-B2E6-DFD9844A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057AFA-8F2B-43A4-BDA1-DF8DF923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E52A72-7D8A-4D7B-9B58-ADAF896D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6F084A-1D31-4D25-BEC4-FE40FE98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C650-B908-4C89-9B82-D0DBF0EE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4E38A9-05B2-4923-B294-3BBA8583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8B927-4967-4443-A1F9-CA8EC3AF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5EA2D5-379E-45D0-B8F3-D92AF2AB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AC9846-1799-40D6-90BF-8FC3021F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D407B1-0E70-4F16-A259-9EAF4C39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0AB39C-FE3B-44C9-86FD-69AC33E3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80940D-B6D8-4EE7-8292-62A319B5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E1945-5E18-4B9D-8630-718D997F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10DB42-0975-484C-9650-C1FFEDF6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6FFA-14E5-4698-8BEC-055D2956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ECEC-8C14-4A72-B948-986F0D94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A789-195F-4601-8334-727CEBE4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CB1-0001-4F2D-965D-B43FA48F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E746-3547-48A7-AE8A-6A3EFBF6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22E2-1E23-4409-ADF5-0D7EC1D0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31F1-E7F2-48A6-909C-C5525182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B3E5-C67A-4E02-A136-48137951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C3B4-144C-4751-A14B-D6CC1D3F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E5E7E-8452-42C2-AB12-9735CC61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6BC1A-0DE3-44CF-8F9C-85127595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E0549-EE61-4C64-BB4B-177E2A65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F1705-9190-4FCD-B2DD-22BD6648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F7C16-C0A5-4ED8-A03E-06EDB815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DA5-76BD-4527-8A2C-51D9BB8D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4576F-EA4B-421D-A20D-A96F1DDF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F3EE5-26D7-41BF-BDFC-3BCBD189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A18C-8CB1-46E9-A2B2-CBF58C15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0ADFC-4DD1-471E-ABB1-5C9C6BA6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80DF7-19AD-4F99-B6F7-18608A60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0FB80-D64D-4303-A241-0FFD21E5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910F3-D24B-49C8-AB23-A84861D6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2E383-467B-4412-A66A-50794EAE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83208-A0D9-41B6-8963-19EC383F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44F9A-2FAA-4A6B-B205-358CBFD5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AEC-F5F2-4A41-98C4-C7F9C3E2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23BB7-DBBD-49A5-9031-2FBDFD93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BC522-4284-49E5-827B-D9DFF3AD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44085-B33E-46AC-9080-2ABEB7B6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D0639-D691-4E70-9F9D-3B71DFAB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EA888-2EB0-4BDD-82FB-6E223746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11616-81FD-4E61-AB22-DD769034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0BC6C-4D21-48DB-BBB5-2F4B9E4F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1BE73-BE6C-4F96-97AA-62B31E89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50A7C-70B0-4210-AB64-AEE4EC11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826C4-8BA1-44ED-8582-75CA0F26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228-CFEA-4A69-8DDA-29ACF89D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62467-AFEA-4485-BABC-09B9E1D1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4F68F-4959-4D84-9653-0017B21A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1A821-CF8D-4EA4-AB70-F60AD68E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09451-26EF-4115-9E73-2E3C9C37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4F57E-EBAA-4A40-A504-2E4E29E0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E607C-F717-410E-AA87-2F26EE3C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8A27B-6F93-43FD-AEA6-A58BA9E8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253E0-7F83-4947-9DE0-F864EE90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8020D-0444-4052-B28B-B88ADF13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78AF1-79AE-43F2-B9D5-44F49F9C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F0A-59B5-4E31-B0FA-B57BD133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AD0D7-5886-499D-B0CA-6BC11505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740F8-0997-40F6-BA54-EF8EDABF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C4C60-653F-4BEC-A370-01DEEB89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50E1C-B5B3-4360-A521-360B2734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03CFF-FC97-4BA1-B308-D237094D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2A18A-4AE1-4442-AAB4-DFF29579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61963-D09B-4FAA-9D23-9409A2D5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34139-512D-4E5B-AD69-DA8BB8B5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0E8CF-FCC4-4DF1-95CC-6C709C20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8A15E-CD81-49A2-B866-05F6F8BD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9074-30FE-4CB7-8640-0CFC7CE2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CFC86-EC92-4093-9724-57FC84A9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3BDBF-803D-46DD-AC3C-D00EC4DE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4E71D-6C3D-4C9F-873E-65F03E43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504F3-9E61-42F1-B4EC-9A5F141A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E2401-C692-475F-96F8-55E275F4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4AC9A-6208-4251-BD1E-00A535F3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89CA1-B8BA-481F-B736-5B1C7A94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12817-1B46-41E3-8801-5D31309E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A9A48-8EC7-4C41-973A-3D61D948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A6CDE-FED9-4D53-B007-F2363960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5EC-8CA7-4E19-BFF5-478D2E58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C7F1C-2F84-4C0A-8F2B-127D40D3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EF475-15B2-4F00-9089-0079B8BD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DADEA-20FB-431D-9EBD-763F5BF0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0A7CC-4D83-4A35-BD5E-615A4F1C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CD8C9-19CD-4D05-9D75-CBD4E3F7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3CF1F-0B48-4791-8D69-B5C74109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6D0C7-609E-4708-8EB6-B66B029B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1ADA2-7207-4598-9320-4877B51D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7D6B1-3E0D-4A02-BB10-3B633070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28E3F-5FC7-4809-9F4E-BA77ACCF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3F4F-FEEB-47E6-BAB9-D27487FA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B4547-B8A7-4829-9C91-CD32E8F2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548D3-8C8B-492E-A7CD-42915658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F7A65-A9DF-45E1-A40F-EF0DA024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603EE-C39B-4EF4-BB6B-8707FE72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25F51-8770-4F20-B161-469D101F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CA42F-73CA-40BF-94A3-150F77B3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1FE21-47CB-4CEE-846F-F04230A6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1DF4E-2C4D-4DCA-A9BF-EBF00690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9CC48-BBA0-46B5-955E-FD6F1FEB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2BCD9-412F-4732-A1B8-9B12D411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364D-4261-47A2-9E9D-1748829D8D0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5923-3DE4-43B8-AD60-252383A619C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F8CE-D855-4EE9-8EE0-C7C9E4DF392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8CA2-B2EF-4EF4-AC8C-270B8193C40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3267-1F50-49CA-BF9E-DA995D5F650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2"/>
            </a:gs>
            <a:gs pos="100000">
              <a:srgbClr val="ffe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4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B484-FA00-4A46-B08C-8E9F42BB2B99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af2"/>
            </a:gs>
            <a:gs pos="100000">
              <a:srgbClr val="ffe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3EAB-8D91-45EB-B9F1-B475F8B5743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8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6A3D-6B61-4141-AE77-EF10EACDF5C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32E5-A34A-409E-811C-BE7859FD997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7079-E634-4CB0-B362-027E3F0FFBD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33B4-FFB7-41EF-948B-3B608DA3D56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FFD2-FF52-422A-A6FB-1AA617FFC02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F682-9784-4C74-B1F5-097DEF28DA4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ff0"/>
            </a:gs>
            <a:gs pos="100000">
              <a:srgbClr val="e8ff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9E7F-83EA-40DC-8F9D-E6B102CA65A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1476360" y="1484280"/>
            <a:ext cx="589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NGINEER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5"/>
          <p:cNvSpPr/>
          <p:nvPr/>
        </p:nvSpPr>
        <p:spPr>
          <a:xfrm>
            <a:off x="460800" y="1173240"/>
            <a:ext cx="225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agerial Skil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16"/>
          <p:cNvSpPr/>
          <p:nvPr/>
        </p:nvSpPr>
        <p:spPr>
          <a:xfrm>
            <a:off x="332280" y="1981080"/>
            <a:ext cx="429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s need three types of skil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18"/>
          <p:cNvSpPr/>
          <p:nvPr/>
        </p:nvSpPr>
        <p:spPr>
          <a:xfrm>
            <a:off x="714600" y="259380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19"/>
          <p:cNvSpPr/>
          <p:nvPr/>
        </p:nvSpPr>
        <p:spPr>
          <a:xfrm>
            <a:off x="824760" y="2590920"/>
            <a:ext cx="1279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chnic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20"/>
          <p:cNvSpPr/>
          <p:nvPr/>
        </p:nvSpPr>
        <p:spPr>
          <a:xfrm>
            <a:off x="2586600" y="2593800"/>
            <a:ext cx="5988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subject related skills such as engineer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ounting, etc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22"/>
          <p:cNvSpPr/>
          <p:nvPr/>
        </p:nvSpPr>
        <p:spPr>
          <a:xfrm>
            <a:off x="714600" y="341136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23"/>
          <p:cNvSpPr/>
          <p:nvPr/>
        </p:nvSpPr>
        <p:spPr>
          <a:xfrm>
            <a:off x="828000" y="3408480"/>
            <a:ext cx="1893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rpersona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24"/>
          <p:cNvSpPr/>
          <p:nvPr/>
        </p:nvSpPr>
        <p:spPr>
          <a:xfrm>
            <a:off x="2680560" y="3411360"/>
            <a:ext cx="58024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kills related to dealing with others and leadi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ing, or controlling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26"/>
          <p:cNvSpPr/>
          <p:nvPr/>
        </p:nvSpPr>
        <p:spPr>
          <a:xfrm>
            <a:off x="846720" y="4267080"/>
            <a:ext cx="1578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ceptua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27"/>
          <p:cNvSpPr/>
          <p:nvPr/>
        </p:nvSpPr>
        <p:spPr>
          <a:xfrm>
            <a:off x="2631960" y="4267080"/>
            <a:ext cx="65646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discern the critical factors that will deter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organization’s success or failu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ee the forest in spite of the tre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5"/>
          <p:cNvSpPr/>
          <p:nvPr/>
        </p:nvSpPr>
        <p:spPr>
          <a:xfrm>
            <a:off x="1238760" y="1295280"/>
            <a:ext cx="58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agerial Roles (What Managers 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1836720" y="2330280"/>
            <a:ext cx="408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personal r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ormational R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al R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4"/>
          <p:cNvSpPr/>
          <p:nvPr/>
        </p:nvSpPr>
        <p:spPr>
          <a:xfrm>
            <a:off x="708840" y="1981080"/>
            <a:ext cx="38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personal r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680480" y="2743200"/>
            <a:ext cx="73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gurehead role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ward relation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eader role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wnward re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iaison role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rizontal re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"/>
          <p:cNvSpPr/>
          <p:nvPr/>
        </p:nvSpPr>
        <p:spPr>
          <a:xfrm>
            <a:off x="1238760" y="1295280"/>
            <a:ext cx="58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agerial Roles (What Managers 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8"/>
          <p:cNvSpPr/>
          <p:nvPr/>
        </p:nvSpPr>
        <p:spPr>
          <a:xfrm>
            <a:off x="971640" y="4869000"/>
            <a:ext cx="1366920" cy="0"/>
          </a:xfrm>
          <a:prstGeom prst="line">
            <a:avLst/>
          </a:prstGeom>
          <a:ln w="7632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9"/>
          <p:cNvSpPr/>
          <p:nvPr/>
        </p:nvSpPr>
        <p:spPr>
          <a:xfrm>
            <a:off x="900000" y="4941720"/>
            <a:ext cx="0" cy="1571760"/>
          </a:xfrm>
          <a:prstGeom prst="line">
            <a:avLst/>
          </a:prstGeom>
          <a:ln w="7632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Freeform 21"/>
          <p:cNvSpPr/>
          <p:nvPr/>
        </p:nvSpPr>
        <p:spPr>
          <a:xfrm flipH="1" flipV="1" rot="5902200">
            <a:off x="-287640" y="3536280"/>
            <a:ext cx="1798560" cy="718920"/>
          </a:xfrm>
          <a:custGeom>
            <a:avLst/>
            <a:gdLst>
              <a:gd name="textAreaLeft" fmla="*/ 360 w 1798560"/>
              <a:gd name="textAreaRight" fmla="*/ 1799280 w 1798560"/>
              <a:gd name="textAreaTop" fmla="*/ -360 h 718920"/>
              <a:gd name="textAreaBottom" fmla="*/ 718920 h 718920"/>
            </a:gdLst>
            <a:ahLst/>
            <a:rect l="textAreaLeft" t="textAreaTop" r="textAreaRight" b="textAreaBottom"/>
            <a:pathLst>
              <a:path w="1724" h="544">
                <a:moveTo>
                  <a:pt x="0" y="544"/>
                </a:moveTo>
                <a:lnTo>
                  <a:pt x="862" y="0"/>
                </a:lnTo>
                <a:lnTo>
                  <a:pt x="817" y="408"/>
                </a:lnTo>
                <a:lnTo>
                  <a:pt x="1724" y="0"/>
                </a:lnTo>
              </a:path>
            </a:pathLst>
          </a:custGeom>
          <a:noFill/>
          <a:ln w="76320">
            <a:solidFill>
              <a:srgbClr val="cc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2"/>
          <p:cNvSpPr/>
          <p:nvPr/>
        </p:nvSpPr>
        <p:spPr>
          <a:xfrm>
            <a:off x="41400" y="2467080"/>
            <a:ext cx="1247400" cy="4597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Out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3"/>
          <p:cNvSpPr/>
          <p:nvPr/>
        </p:nvSpPr>
        <p:spPr>
          <a:xfrm>
            <a:off x="2317320" y="4627440"/>
            <a:ext cx="1486800" cy="4597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24"/>
          <p:cNvSpPr/>
          <p:nvPr/>
        </p:nvSpPr>
        <p:spPr>
          <a:xfrm>
            <a:off x="1123560" y="6140520"/>
            <a:ext cx="1533960" cy="45972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own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4"/>
          <p:cNvSpPr/>
          <p:nvPr/>
        </p:nvSpPr>
        <p:spPr>
          <a:xfrm>
            <a:off x="709560" y="2209680"/>
            <a:ext cx="41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ormational R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1219320" y="303840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itor Ro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lects information about internal operations and external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seminator Ro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s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ly to everybody in organization (lik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phone switchbo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okesman Ro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6"/>
          <p:cNvSpPr/>
          <p:nvPr/>
        </p:nvSpPr>
        <p:spPr>
          <a:xfrm>
            <a:off x="1238760" y="1295280"/>
            <a:ext cx="58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agerial Roles (What Managers 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reeform 87"/>
          <p:cNvSpPr/>
          <p:nvPr/>
        </p:nvSpPr>
        <p:spPr>
          <a:xfrm>
            <a:off x="1328760" y="3809880"/>
            <a:ext cx="22320" cy="58680"/>
          </a:xfrm>
          <a:custGeom>
            <a:avLst/>
            <a:gdLst>
              <a:gd name="textAreaLeft" fmla="*/ 0 w 22320"/>
              <a:gd name="textAreaRight" fmla="*/ 22680 w 223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9" h="74">
                <a:moveTo>
                  <a:pt x="13" y="69"/>
                </a:moveTo>
                <a:lnTo>
                  <a:pt x="14" y="72"/>
                </a:lnTo>
                <a:lnTo>
                  <a:pt x="16" y="73"/>
                </a:lnTo>
                <a:lnTo>
                  <a:pt x="20" y="74"/>
                </a:lnTo>
                <a:lnTo>
                  <a:pt x="22" y="74"/>
                </a:lnTo>
                <a:lnTo>
                  <a:pt x="25" y="73"/>
                </a:lnTo>
                <a:lnTo>
                  <a:pt x="28" y="71"/>
                </a:lnTo>
                <a:lnTo>
                  <a:pt x="29" y="67"/>
                </a:lnTo>
                <a:lnTo>
                  <a:pt x="29" y="65"/>
                </a:lnTo>
                <a:lnTo>
                  <a:pt x="23" y="45"/>
                </a:lnTo>
                <a:lnTo>
                  <a:pt x="16" y="23"/>
                </a:lnTo>
                <a:lnTo>
                  <a:pt x="8" y="6"/>
                </a:lnTo>
                <a:lnTo>
                  <a:pt x="1" y="0"/>
                </a:lnTo>
                <a:lnTo>
                  <a:pt x="0" y="13"/>
                </a:lnTo>
                <a:lnTo>
                  <a:pt x="2" y="31"/>
                </a:lnTo>
                <a:lnTo>
                  <a:pt x="7" y="51"/>
                </a:lnTo>
                <a:lnTo>
                  <a:pt x="13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4"/>
          <p:cNvSpPr/>
          <p:nvPr/>
        </p:nvSpPr>
        <p:spPr>
          <a:xfrm>
            <a:off x="708840" y="1752480"/>
            <a:ext cx="36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al R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5"/>
          <p:cNvSpPr/>
          <p:nvPr/>
        </p:nvSpPr>
        <p:spPr>
          <a:xfrm>
            <a:off x="1219320" y="2438280"/>
            <a:ext cx="7772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repreneurial Ro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tes changes, assumes risks, transforms ideas into useful produ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turbance Handler Ro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s with unforeseen problems and cris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ource Allocator Ro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ng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gotiator Ro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gains with suppliers, customers etc. in favor of ente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6"/>
          <p:cNvSpPr/>
          <p:nvPr/>
        </p:nvSpPr>
        <p:spPr>
          <a:xfrm>
            <a:off x="1238760" y="1295280"/>
            <a:ext cx="58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agerial Roles (What Managers 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4"/>
          <p:cNvSpPr/>
          <p:nvPr/>
        </p:nvSpPr>
        <p:spPr>
          <a:xfrm>
            <a:off x="685800" y="1268280"/>
            <a:ext cx="7772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lanning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lecting missions and objectives. Requires decision ma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ganizing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ing the structure for the objecti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ffing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ing filled the organizatio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ading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uencing people to achieve the objec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ling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suring and correcting the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2428560" y="692280"/>
            <a:ext cx="35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ctions of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3"/>
          <p:cNvSpPr/>
          <p:nvPr/>
        </p:nvSpPr>
        <p:spPr>
          <a:xfrm>
            <a:off x="684360" y="17683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agement has a body of specialized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knowledge need not to be obtained in form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ciplined pro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1461960" y="990720"/>
            <a:ext cx="54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agement: Is it an art or sci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5"/>
          <p:cNvSpPr/>
          <p:nvPr/>
        </p:nvSpPr>
        <p:spPr>
          <a:xfrm>
            <a:off x="1033560" y="3867120"/>
            <a:ext cx="69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where between art and sci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16"/>
          <p:cNvSpPr/>
          <p:nvPr/>
        </p:nvSpPr>
        <p:spPr>
          <a:xfrm>
            <a:off x="492840" y="4797360"/>
            <a:ext cx="817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gineering Management (Discipline + 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where between art and sci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3"/>
          <p:cNvSpPr/>
          <p:nvPr/>
        </p:nvSpPr>
        <p:spPr>
          <a:xfrm>
            <a:off x="685800" y="1676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is Engineering Manag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5"/>
          <p:cNvSpPr/>
          <p:nvPr/>
        </p:nvSpPr>
        <p:spPr>
          <a:xfrm>
            <a:off x="1066680" y="24526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rrow defini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ng supervision of engineers or of engineering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8"/>
          <p:cNvGrpSpPr/>
          <p:nvPr/>
        </p:nvGrpSpPr>
        <p:grpSpPr>
          <a:xfrm>
            <a:off x="533520" y="3701880"/>
            <a:ext cx="8103960" cy="2592720"/>
            <a:chOff x="533520" y="3701880"/>
            <a:chExt cx="8103960" cy="2592720"/>
          </a:xfrm>
        </p:grpSpPr>
        <p:sp>
          <p:nvSpPr>
            <p:cNvPr id="745" name="Text Box 6"/>
            <p:cNvSpPr/>
            <p:nvPr/>
          </p:nvSpPr>
          <p:spPr>
            <a:xfrm>
              <a:off x="538200" y="3701880"/>
              <a:ext cx="809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roper Definition of Engineering Manager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7"/>
            <p:cNvSpPr/>
            <p:nvPr/>
          </p:nvSpPr>
          <p:spPr>
            <a:xfrm>
              <a:off x="533520" y="4494240"/>
              <a:ext cx="77724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ngineer possessing both abilities to apply engineering principles and skills in organizing and directing people and project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Babcock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gineering Managers are distinguished from other managers because they possess both the ability to apply engineering principles and skill in organizing and directing people and projec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entice Hall, 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5"/>
          <p:cNvGrpSpPr/>
          <p:nvPr/>
        </p:nvGrpSpPr>
        <p:grpSpPr>
          <a:xfrm>
            <a:off x="829080" y="1752480"/>
            <a:ext cx="7781400" cy="1557000"/>
            <a:chOff x="829080" y="1752480"/>
            <a:chExt cx="7781400" cy="1557000"/>
          </a:xfrm>
        </p:grpSpPr>
        <p:sp>
          <p:nvSpPr>
            <p:cNvPr id="750" name="Text Box 6"/>
            <p:cNvSpPr/>
            <p:nvPr/>
          </p:nvSpPr>
          <p:spPr>
            <a:xfrm>
              <a:off x="829080" y="1752480"/>
              <a:ext cx="6973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hy Engineering Manager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etition is global and companies need these peo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 compete successful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7"/>
            <p:cNvSpPr/>
            <p:nvPr/>
          </p:nvSpPr>
          <p:spPr>
            <a:xfrm>
              <a:off x="838080" y="2395440"/>
              <a:ext cx="7772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3"/>
          <p:cNvSpPr/>
          <p:nvPr/>
        </p:nvSpPr>
        <p:spPr>
          <a:xfrm>
            <a:off x="304920" y="78588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gineering as a Prof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353880" y="1643040"/>
            <a:ext cx="885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rt of directing the great sources of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nature, for the use and convenience of m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gineers provide a public service not on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goods and services they create for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tterment of society, but also by placing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fety of the public high on their design cri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3"/>
          <p:cNvSpPr/>
          <p:nvPr/>
        </p:nvSpPr>
        <p:spPr>
          <a:xfrm>
            <a:off x="685800" y="9144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vantages of Understanding Technology in Top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838080" y="2057400"/>
            <a:ext cx="7772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ally understanding th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derstanding technology driving the business today and technology that will change the business in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eating Research and Development as investment not an expense to be minim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nding more time on strategic th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dicating a customer’s problem (true marketing via customer rel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lace a premium on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3"/>
          <p:cNvSpPr/>
          <p:nvPr/>
        </p:nvSpPr>
        <p:spPr>
          <a:xfrm>
            <a:off x="304920" y="990720"/>
            <a:ext cx="81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rn Definition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ngineering By ABET (Accrediting Board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ngineering and Techn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165240" y="2571840"/>
            <a:ext cx="90914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fession in which a knowledge of the mathematical and na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s gained by study, experience, and practice which is applied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dgment to develop ways to utilize, economically, the material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s of the nature for the benefit of manki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er: A person applying his mathematical and sci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properly for mank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1"/>
          <p:cNvSpPr/>
          <p:nvPr/>
        </p:nvSpPr>
        <p:spPr>
          <a:xfrm>
            <a:off x="636480" y="642960"/>
            <a:ext cx="794088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s of engin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ae0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ngineering applications requ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-pollination or integration of multiple discip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 Aerospace Engineers require knowledge of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sci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ion l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st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serv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Engineering Employ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rporations and firms of the past no longer exis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loyment opportunities Lie with companies of all siz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gineers of the future should expect to be Constantly improving their skills and marketabilit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uing  education, flexibility, and a willingness to shift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loyme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 be required of successful engine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32"/>
          <p:cNvSpPr/>
          <p:nvPr/>
        </p:nvSpPr>
        <p:spPr>
          <a:xfrm>
            <a:off x="978840" y="928800"/>
            <a:ext cx="42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Managem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3"/>
          <p:cNvSpPr/>
          <p:nvPr/>
        </p:nvSpPr>
        <p:spPr>
          <a:xfrm>
            <a:off x="1285560" y="4000680"/>
            <a:ext cx="68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recting the actions of a group to achieve a goal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efficient m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4"/>
          <p:cNvSpPr/>
          <p:nvPr/>
        </p:nvSpPr>
        <p:spPr>
          <a:xfrm>
            <a:off x="1290960" y="4686480"/>
            <a:ext cx="47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ting things done through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5"/>
          <p:cNvSpPr/>
          <p:nvPr/>
        </p:nvSpPr>
        <p:spPr>
          <a:xfrm>
            <a:off x="1291680" y="5106960"/>
            <a:ext cx="70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ess of achieving organizational goals by wor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 and through people and organization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7"/>
          <p:cNvSpPr/>
          <p:nvPr/>
        </p:nvSpPr>
        <p:spPr>
          <a:xfrm>
            <a:off x="1094040" y="1571760"/>
            <a:ext cx="647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Farland identifies management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rganizational or administrativ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cience, discipline  or 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oup of people running an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ccupational care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AutoShape 3"/>
          <p:cNvSpPr/>
          <p:nvPr/>
        </p:nvSpPr>
        <p:spPr>
          <a:xfrm>
            <a:off x="685800" y="1905120"/>
            <a:ext cx="3048120" cy="30477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4"/>
          <p:cNvSpPr/>
          <p:nvPr/>
        </p:nvSpPr>
        <p:spPr>
          <a:xfrm>
            <a:off x="1523880" y="3276720"/>
            <a:ext cx="137160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5"/>
          <p:cNvSpPr/>
          <p:nvPr/>
        </p:nvSpPr>
        <p:spPr>
          <a:xfrm>
            <a:off x="1128600" y="4114800"/>
            <a:ext cx="216216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3049920" y="1905120"/>
            <a:ext cx="533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-level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resident, executive vice presid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3190680" y="3048120"/>
            <a:ext cx="51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hief engineer, division head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3543480" y="3962520"/>
            <a:ext cx="533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-line manag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reman, supervisor, section chie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1"/>
          <p:cNvSpPr/>
          <p:nvPr/>
        </p:nvSpPr>
        <p:spPr>
          <a:xfrm>
            <a:off x="1403280" y="84312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agement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96"/>
          <p:cNvGrpSpPr/>
          <p:nvPr/>
        </p:nvGrpSpPr>
        <p:grpSpPr>
          <a:xfrm>
            <a:off x="304920" y="762120"/>
            <a:ext cx="8200440" cy="5701680"/>
            <a:chOff x="304920" y="762120"/>
            <a:chExt cx="8200440" cy="5701680"/>
          </a:xfrm>
        </p:grpSpPr>
        <p:sp>
          <p:nvSpPr>
            <p:cNvPr id="613" name="Rectangle 10"/>
            <p:cNvSpPr/>
            <p:nvPr/>
          </p:nvSpPr>
          <p:spPr>
            <a:xfrm>
              <a:off x="1203480" y="779040"/>
              <a:ext cx="41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ev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5018400" y="779040"/>
              <a:ext cx="90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ype of J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304920" y="762120"/>
              <a:ext cx="756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304920" y="762120"/>
              <a:ext cx="756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14"/>
            <p:cNvSpPr/>
            <p:nvPr/>
          </p:nvSpPr>
          <p:spPr>
            <a:xfrm>
              <a:off x="312480" y="762120"/>
              <a:ext cx="226764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15"/>
            <p:cNvSpPr/>
            <p:nvPr/>
          </p:nvSpPr>
          <p:spPr>
            <a:xfrm>
              <a:off x="2580120" y="762120"/>
              <a:ext cx="756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16"/>
            <p:cNvSpPr/>
            <p:nvPr/>
          </p:nvSpPr>
          <p:spPr>
            <a:xfrm>
              <a:off x="2588040" y="762120"/>
              <a:ext cx="590796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17"/>
            <p:cNvSpPr/>
            <p:nvPr/>
          </p:nvSpPr>
          <p:spPr>
            <a:xfrm>
              <a:off x="8496000" y="762120"/>
              <a:ext cx="936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18"/>
            <p:cNvSpPr/>
            <p:nvPr/>
          </p:nvSpPr>
          <p:spPr>
            <a:xfrm>
              <a:off x="8496000" y="762120"/>
              <a:ext cx="936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19"/>
            <p:cNvSpPr/>
            <p:nvPr/>
          </p:nvSpPr>
          <p:spPr>
            <a:xfrm>
              <a:off x="304920" y="769680"/>
              <a:ext cx="7560" cy="243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20"/>
            <p:cNvSpPr/>
            <p:nvPr/>
          </p:nvSpPr>
          <p:spPr>
            <a:xfrm>
              <a:off x="2580120" y="769680"/>
              <a:ext cx="7560" cy="243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21"/>
            <p:cNvSpPr/>
            <p:nvPr/>
          </p:nvSpPr>
          <p:spPr>
            <a:xfrm>
              <a:off x="8496000" y="769680"/>
              <a:ext cx="9360" cy="243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22"/>
            <p:cNvSpPr/>
            <p:nvPr/>
          </p:nvSpPr>
          <p:spPr>
            <a:xfrm>
              <a:off x="573120" y="1771200"/>
              <a:ext cx="1515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rst-line Manag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23"/>
            <p:cNvSpPr/>
            <p:nvPr/>
          </p:nvSpPr>
          <p:spPr>
            <a:xfrm>
              <a:off x="2764800" y="101988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24"/>
            <p:cNvSpPr/>
            <p:nvPr/>
          </p:nvSpPr>
          <p:spPr>
            <a:xfrm>
              <a:off x="2853720" y="1041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25"/>
            <p:cNvSpPr/>
            <p:nvPr/>
          </p:nvSpPr>
          <p:spPr>
            <a:xfrm>
              <a:off x="2939760" y="1041120"/>
              <a:ext cx="241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irectly supervise non-manager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26"/>
            <p:cNvSpPr/>
            <p:nvPr/>
          </p:nvSpPr>
          <p:spPr>
            <a:xfrm>
              <a:off x="2764800" y="127440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27"/>
            <p:cNvSpPr/>
            <p:nvPr/>
          </p:nvSpPr>
          <p:spPr>
            <a:xfrm>
              <a:off x="2853720" y="1293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28"/>
            <p:cNvSpPr/>
            <p:nvPr/>
          </p:nvSpPr>
          <p:spPr>
            <a:xfrm>
              <a:off x="2931840" y="1293120"/>
              <a:ext cx="4534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arry out the plans and objectives of higher management u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29"/>
            <p:cNvSpPr/>
            <p:nvPr/>
          </p:nvSpPr>
          <p:spPr>
            <a:xfrm>
              <a:off x="2935800" y="1536120"/>
              <a:ext cx="369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e personnel and other resources assigned to them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30"/>
            <p:cNvSpPr/>
            <p:nvPr/>
          </p:nvSpPr>
          <p:spPr>
            <a:xfrm>
              <a:off x="2764800" y="176760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31"/>
            <p:cNvSpPr/>
            <p:nvPr/>
          </p:nvSpPr>
          <p:spPr>
            <a:xfrm>
              <a:off x="2853720" y="1788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32"/>
            <p:cNvSpPr/>
            <p:nvPr/>
          </p:nvSpPr>
          <p:spPr>
            <a:xfrm>
              <a:off x="2931120" y="1788120"/>
              <a:ext cx="408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hort-range operating plans governing what will be d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Rectangle 33"/>
            <p:cNvSpPr/>
            <p:nvPr/>
          </p:nvSpPr>
          <p:spPr>
            <a:xfrm>
              <a:off x="2933280" y="2029320"/>
              <a:ext cx="4560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morrow or next week, assign tasks to their workers, supervi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Rectangle 34"/>
            <p:cNvSpPr/>
            <p:nvPr/>
          </p:nvSpPr>
          <p:spPr>
            <a:xfrm>
              <a:off x="2930760" y="2272320"/>
              <a:ext cx="4671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e work that is done, and evaluate the performance of i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35"/>
            <p:cNvSpPr/>
            <p:nvPr/>
          </p:nvSpPr>
          <p:spPr>
            <a:xfrm>
              <a:off x="2945520" y="2514600"/>
              <a:ext cx="6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orker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36"/>
            <p:cNvSpPr/>
            <p:nvPr/>
          </p:nvSpPr>
          <p:spPr>
            <a:xfrm>
              <a:off x="304920" y="1012680"/>
              <a:ext cx="7560" cy="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37"/>
            <p:cNvSpPr/>
            <p:nvPr/>
          </p:nvSpPr>
          <p:spPr>
            <a:xfrm>
              <a:off x="312480" y="1012680"/>
              <a:ext cx="2267640" cy="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38"/>
            <p:cNvSpPr/>
            <p:nvPr/>
          </p:nvSpPr>
          <p:spPr>
            <a:xfrm>
              <a:off x="2580120" y="1012680"/>
              <a:ext cx="7560" cy="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Rectangle 39"/>
            <p:cNvSpPr/>
            <p:nvPr/>
          </p:nvSpPr>
          <p:spPr>
            <a:xfrm>
              <a:off x="2588040" y="1012680"/>
              <a:ext cx="5907960" cy="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Rectangle 40"/>
            <p:cNvSpPr/>
            <p:nvPr/>
          </p:nvSpPr>
          <p:spPr>
            <a:xfrm>
              <a:off x="8496000" y="1012680"/>
              <a:ext cx="9360" cy="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41"/>
            <p:cNvSpPr/>
            <p:nvPr/>
          </p:nvSpPr>
          <p:spPr>
            <a:xfrm>
              <a:off x="304920" y="1019880"/>
              <a:ext cx="7560" cy="172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42"/>
            <p:cNvSpPr/>
            <p:nvPr/>
          </p:nvSpPr>
          <p:spPr>
            <a:xfrm>
              <a:off x="2580120" y="1019880"/>
              <a:ext cx="7560" cy="172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43"/>
            <p:cNvSpPr/>
            <p:nvPr/>
          </p:nvSpPr>
          <p:spPr>
            <a:xfrm>
              <a:off x="8496000" y="1019880"/>
              <a:ext cx="9360" cy="1725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44"/>
            <p:cNvSpPr/>
            <p:nvPr/>
          </p:nvSpPr>
          <p:spPr>
            <a:xfrm>
              <a:off x="529560" y="3745800"/>
              <a:ext cx="159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iddle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Rectangle 45"/>
            <p:cNvSpPr/>
            <p:nvPr/>
          </p:nvSpPr>
          <p:spPr>
            <a:xfrm>
              <a:off x="2764800" y="275400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Rectangle 46"/>
            <p:cNvSpPr/>
            <p:nvPr/>
          </p:nvSpPr>
          <p:spPr>
            <a:xfrm>
              <a:off x="2853720" y="2774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Rectangle 47"/>
            <p:cNvSpPr/>
            <p:nvPr/>
          </p:nvSpPr>
          <p:spPr>
            <a:xfrm>
              <a:off x="2940480" y="2774520"/>
              <a:ext cx="236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nage through other manager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Rectangle 48"/>
            <p:cNvSpPr/>
            <p:nvPr/>
          </p:nvSpPr>
          <p:spPr>
            <a:xfrm>
              <a:off x="2764800" y="300816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Rectangle 49"/>
            <p:cNvSpPr/>
            <p:nvPr/>
          </p:nvSpPr>
          <p:spPr>
            <a:xfrm>
              <a:off x="2853720" y="3028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Rectangle 50"/>
            <p:cNvSpPr/>
            <p:nvPr/>
          </p:nvSpPr>
          <p:spPr>
            <a:xfrm>
              <a:off x="2932560" y="3028680"/>
              <a:ext cx="4691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ke plans of intermediate range to achieve the long-range go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51"/>
            <p:cNvSpPr/>
            <p:nvPr/>
          </p:nvSpPr>
          <p:spPr>
            <a:xfrm>
              <a:off x="2932920" y="3271680"/>
              <a:ext cx="4305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t by top management, establish departmental policies,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52"/>
            <p:cNvSpPr/>
            <p:nvPr/>
          </p:nvSpPr>
          <p:spPr>
            <a:xfrm>
              <a:off x="2931840" y="3510720"/>
              <a:ext cx="436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aluate the performance of subordinate work units and the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53"/>
            <p:cNvSpPr/>
            <p:nvPr/>
          </p:nvSpPr>
          <p:spPr>
            <a:xfrm>
              <a:off x="2945880" y="3751560"/>
              <a:ext cx="73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nager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54"/>
            <p:cNvSpPr/>
            <p:nvPr/>
          </p:nvSpPr>
          <p:spPr>
            <a:xfrm>
              <a:off x="2764800" y="398484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55"/>
            <p:cNvSpPr/>
            <p:nvPr/>
          </p:nvSpPr>
          <p:spPr>
            <a:xfrm>
              <a:off x="2853720" y="4005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56"/>
            <p:cNvSpPr/>
            <p:nvPr/>
          </p:nvSpPr>
          <p:spPr>
            <a:xfrm>
              <a:off x="2927880" y="4005720"/>
              <a:ext cx="436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vide and integrating and coordinating function so that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57"/>
            <p:cNvSpPr/>
            <p:nvPr/>
          </p:nvSpPr>
          <p:spPr>
            <a:xfrm>
              <a:off x="2928960" y="4246560"/>
              <a:ext cx="4266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hort-range decisions and activities of first-line supervis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58"/>
            <p:cNvSpPr/>
            <p:nvPr/>
          </p:nvSpPr>
          <p:spPr>
            <a:xfrm>
              <a:off x="2932560" y="4487400"/>
              <a:ext cx="4685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roups can be orchestrated toward achievement of the long-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59"/>
            <p:cNvSpPr/>
            <p:nvPr/>
          </p:nvSpPr>
          <p:spPr>
            <a:xfrm>
              <a:off x="2941560" y="4730400"/>
              <a:ext cx="163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oals of the enterpri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60"/>
            <p:cNvSpPr/>
            <p:nvPr/>
          </p:nvSpPr>
          <p:spPr>
            <a:xfrm>
              <a:off x="304920" y="2746080"/>
              <a:ext cx="756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61"/>
            <p:cNvSpPr/>
            <p:nvPr/>
          </p:nvSpPr>
          <p:spPr>
            <a:xfrm>
              <a:off x="312480" y="2746080"/>
              <a:ext cx="226764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62"/>
            <p:cNvSpPr/>
            <p:nvPr/>
          </p:nvSpPr>
          <p:spPr>
            <a:xfrm>
              <a:off x="2580120" y="2746080"/>
              <a:ext cx="756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63"/>
            <p:cNvSpPr/>
            <p:nvPr/>
          </p:nvSpPr>
          <p:spPr>
            <a:xfrm>
              <a:off x="2588040" y="2746080"/>
              <a:ext cx="5907960" cy="7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64"/>
            <p:cNvSpPr/>
            <p:nvPr/>
          </p:nvSpPr>
          <p:spPr>
            <a:xfrm>
              <a:off x="8496000" y="2746080"/>
              <a:ext cx="9360" cy="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65"/>
            <p:cNvSpPr/>
            <p:nvPr/>
          </p:nvSpPr>
          <p:spPr>
            <a:xfrm>
              <a:off x="304920" y="2754000"/>
              <a:ext cx="7560" cy="2207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66"/>
            <p:cNvSpPr/>
            <p:nvPr/>
          </p:nvSpPr>
          <p:spPr>
            <a:xfrm>
              <a:off x="2580120" y="2754000"/>
              <a:ext cx="7560" cy="2207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67"/>
            <p:cNvSpPr/>
            <p:nvPr/>
          </p:nvSpPr>
          <p:spPr>
            <a:xfrm>
              <a:off x="8496000" y="2754000"/>
              <a:ext cx="9360" cy="2207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68"/>
            <p:cNvSpPr/>
            <p:nvPr/>
          </p:nvSpPr>
          <p:spPr>
            <a:xfrm>
              <a:off x="666000" y="5602680"/>
              <a:ext cx="1353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op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69"/>
            <p:cNvSpPr/>
            <p:nvPr/>
          </p:nvSpPr>
          <p:spPr>
            <a:xfrm>
              <a:off x="2764800" y="497124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70"/>
            <p:cNvSpPr/>
            <p:nvPr/>
          </p:nvSpPr>
          <p:spPr>
            <a:xfrm>
              <a:off x="2853720" y="49942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71"/>
            <p:cNvSpPr/>
            <p:nvPr/>
          </p:nvSpPr>
          <p:spPr>
            <a:xfrm>
              <a:off x="2930760" y="4994280"/>
              <a:ext cx="469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ponsible for defining the character, mission, and objectives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Rectangle 72"/>
            <p:cNvSpPr/>
            <p:nvPr/>
          </p:nvSpPr>
          <p:spPr>
            <a:xfrm>
              <a:off x="2944440" y="5232960"/>
              <a:ext cx="1015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e enterpris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73"/>
            <p:cNvSpPr/>
            <p:nvPr/>
          </p:nvSpPr>
          <p:spPr>
            <a:xfrm>
              <a:off x="2764800" y="546804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74"/>
            <p:cNvSpPr/>
            <p:nvPr/>
          </p:nvSpPr>
          <p:spPr>
            <a:xfrm>
              <a:off x="2853720" y="5487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75"/>
            <p:cNvSpPr/>
            <p:nvPr/>
          </p:nvSpPr>
          <p:spPr>
            <a:xfrm>
              <a:off x="2934720" y="5487120"/>
              <a:ext cx="358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stablish criteria for and review long-range plan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76"/>
            <p:cNvSpPr/>
            <p:nvPr/>
          </p:nvSpPr>
          <p:spPr>
            <a:xfrm>
              <a:off x="2764800" y="5718600"/>
              <a:ext cx="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77"/>
            <p:cNvSpPr/>
            <p:nvPr/>
          </p:nvSpPr>
          <p:spPr>
            <a:xfrm>
              <a:off x="2853720" y="5739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78"/>
            <p:cNvSpPr/>
            <p:nvPr/>
          </p:nvSpPr>
          <p:spPr>
            <a:xfrm>
              <a:off x="2932920" y="5739480"/>
              <a:ext cx="475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valuate the performance of major departments, and they evalu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79"/>
            <p:cNvSpPr/>
            <p:nvPr/>
          </p:nvSpPr>
          <p:spPr>
            <a:xfrm>
              <a:off x="2933280" y="5980320"/>
              <a:ext cx="4225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eading management personnel to gauge their readiness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80"/>
            <p:cNvSpPr/>
            <p:nvPr/>
          </p:nvSpPr>
          <p:spPr>
            <a:xfrm>
              <a:off x="2935440" y="6222960"/>
              <a:ext cx="2707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motion to key executive position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81"/>
            <p:cNvSpPr/>
            <p:nvPr/>
          </p:nvSpPr>
          <p:spPr>
            <a:xfrm>
              <a:off x="304920" y="4961880"/>
              <a:ext cx="756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82"/>
            <p:cNvSpPr/>
            <p:nvPr/>
          </p:nvSpPr>
          <p:spPr>
            <a:xfrm>
              <a:off x="312480" y="4961880"/>
              <a:ext cx="22676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83"/>
            <p:cNvSpPr/>
            <p:nvPr/>
          </p:nvSpPr>
          <p:spPr>
            <a:xfrm>
              <a:off x="2580120" y="4961880"/>
              <a:ext cx="756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84"/>
            <p:cNvSpPr/>
            <p:nvPr/>
          </p:nvSpPr>
          <p:spPr>
            <a:xfrm>
              <a:off x="2588040" y="4961880"/>
              <a:ext cx="590796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85"/>
            <p:cNvSpPr/>
            <p:nvPr/>
          </p:nvSpPr>
          <p:spPr>
            <a:xfrm>
              <a:off x="8496000" y="496188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Rectangle 86"/>
            <p:cNvSpPr/>
            <p:nvPr/>
          </p:nvSpPr>
          <p:spPr>
            <a:xfrm>
              <a:off x="304920" y="4971240"/>
              <a:ext cx="7560" cy="148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87"/>
            <p:cNvSpPr/>
            <p:nvPr/>
          </p:nvSpPr>
          <p:spPr>
            <a:xfrm>
              <a:off x="304920" y="6454440"/>
              <a:ext cx="756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88"/>
            <p:cNvSpPr/>
            <p:nvPr/>
          </p:nvSpPr>
          <p:spPr>
            <a:xfrm>
              <a:off x="304920" y="6454440"/>
              <a:ext cx="756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89"/>
            <p:cNvSpPr/>
            <p:nvPr/>
          </p:nvSpPr>
          <p:spPr>
            <a:xfrm>
              <a:off x="312480" y="6454440"/>
              <a:ext cx="22676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Rectangle 90"/>
            <p:cNvSpPr/>
            <p:nvPr/>
          </p:nvSpPr>
          <p:spPr>
            <a:xfrm>
              <a:off x="2580120" y="4971240"/>
              <a:ext cx="7560" cy="148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Rectangle 91"/>
            <p:cNvSpPr/>
            <p:nvPr/>
          </p:nvSpPr>
          <p:spPr>
            <a:xfrm>
              <a:off x="2580120" y="6454440"/>
              <a:ext cx="756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Rectangle 92"/>
            <p:cNvSpPr/>
            <p:nvPr/>
          </p:nvSpPr>
          <p:spPr>
            <a:xfrm>
              <a:off x="2588040" y="6454440"/>
              <a:ext cx="590796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93"/>
            <p:cNvSpPr/>
            <p:nvPr/>
          </p:nvSpPr>
          <p:spPr>
            <a:xfrm>
              <a:off x="8496000" y="4971240"/>
              <a:ext cx="9360" cy="1482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Rectangle 94"/>
            <p:cNvSpPr/>
            <p:nvPr/>
          </p:nvSpPr>
          <p:spPr>
            <a:xfrm>
              <a:off x="8496000" y="645444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95"/>
            <p:cNvSpPr/>
            <p:nvPr/>
          </p:nvSpPr>
          <p:spPr>
            <a:xfrm>
              <a:off x="8496000" y="645444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"/>
          <p:cNvSpPr/>
          <p:nvPr/>
        </p:nvSpPr>
        <p:spPr>
          <a:xfrm>
            <a:off x="1981080" y="2362320"/>
            <a:ext cx="4267440" cy="32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ebeb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4"/>
          <p:cNvSpPr/>
          <p:nvPr/>
        </p:nvSpPr>
        <p:spPr>
          <a:xfrm>
            <a:off x="1913760" y="1843200"/>
            <a:ext cx="43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st         Middle       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2808720" y="1295280"/>
            <a:ext cx="27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9900"/>
                </a:solidFill>
                <a:latin typeface="Times New Roman"/>
              </a:rPr>
              <a:t>Manageri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6"/>
          <p:cNvSpPr/>
          <p:nvPr/>
        </p:nvSpPr>
        <p:spPr>
          <a:xfrm rot="20624400">
            <a:off x="2604600" y="373356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7"/>
          <p:cNvSpPr/>
          <p:nvPr/>
        </p:nvSpPr>
        <p:spPr>
          <a:xfrm flipV="1">
            <a:off x="1981080" y="2895120"/>
            <a:ext cx="426744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8"/>
          <p:cNvSpPr/>
          <p:nvPr/>
        </p:nvSpPr>
        <p:spPr>
          <a:xfrm flipV="1">
            <a:off x="1981080" y="3962160"/>
            <a:ext cx="426744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9"/>
          <p:cNvSpPr/>
          <p:nvPr/>
        </p:nvSpPr>
        <p:spPr>
          <a:xfrm rot="20554800">
            <a:off x="2890440" y="4662000"/>
            <a:ext cx="27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ptual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0"/>
          <p:cNvSpPr/>
          <p:nvPr/>
        </p:nvSpPr>
        <p:spPr>
          <a:xfrm rot="20624400">
            <a:off x="2438640" y="2757600"/>
            <a:ext cx="24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Box 10"/>
          <p:cNvSpPr/>
          <p:nvPr/>
        </p:nvSpPr>
        <p:spPr>
          <a:xfrm>
            <a:off x="1802160" y="578628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 required versus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9:37:56Z</dcterms:created>
  <dc:creator>Gultekin</dc:creator>
  <dc:description/>
  <dc:language>en-US</dc:language>
  <cp:lastModifiedBy>Zeyad Al-Obaidi</cp:lastModifiedBy>
  <dcterms:modified xsi:type="dcterms:W3CDTF">2019-10-21T08:00:34Z</dcterms:modified>
  <cp:revision>106</cp:revision>
  <dc:subject/>
  <dc:title>PowerPoint Presentation</dc:title>
</cp:coreProperties>
</file>