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567-1B79-4767-BEC9-88F36D34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0E9-D1D3-4290-8551-6FFCA989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9AECE-EB16-4265-AFF8-8A4316AA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51D80-6F10-4A42-9B83-B0A24D1B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97B2F-9576-4FF0-82D3-FCD9A2F2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8E3E9-1CFA-4419-88E3-34355C5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2B2F6-7376-425F-AD77-EFC6CD92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BCA29-77F5-4CFD-89E5-B029BFCF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D5F32-A722-428E-AB97-8400A916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E229E-44FB-4759-9260-693B6F53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B8450-C100-4F32-91B6-A90FC87C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12926-CDA9-4D2C-B35D-CC45EB65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26A-A97C-4298-95E4-2D1A0AE1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89747-32DD-4B1D-B7E0-E07EF0E8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93B95-366D-4D71-9CAA-562CE084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3F0F4-8A47-41F9-8FBA-03C24EA8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12444-13E8-4883-A5BC-68F29BFD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11C10-CFA0-4540-BF57-9E97A726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7F636-E100-49BE-9E88-24A6587D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FD007-52D8-461A-B38E-5DC191B1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B88E1-0137-426D-8C22-CC62567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6942C-1264-46C6-A6E2-D0497DE1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EA4A9-D968-410A-9BD6-67EE358B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93B-2DF7-4A25-9100-1E341A0B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8D808-797F-4E6D-9B95-A466768F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12B50-6452-484F-ACC3-DD4380E3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43555-A9FA-48CD-A2B5-631A39C3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CC4D0-E2D9-4CAE-93D8-FA0BD897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8D90B-BF7E-44CB-8AC1-CA4553ED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ECA93-B158-441E-AC89-2F8159C5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A2A5D-E052-4C51-B44F-BAEB5A61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2315E-9E74-4FC9-8EFE-4B8C1633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53681-9B57-4A19-95AD-43FDDA6D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8A63A-AF7B-4E5D-872E-C33A41C8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4128-4642-4EED-8613-1F9B798B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6B66D-8ABB-4800-A1B2-26CF50B1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AA6A2-E951-4758-89D3-2C170BBF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13A4F-E3C5-4F7B-A70F-4D209B0E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6C320-BD59-45C9-BBA9-FADA3DF1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C5D29-A2FF-4D38-B6F5-D923D0D3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B8860-4897-4252-B7CF-6A8815B3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B5A4E-527B-4E70-A8D7-E281FE34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08DBB-0021-4C6D-B70E-CD0E7A3C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7646E-2835-46A5-BDA0-5367FEA7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A9A1C-68B0-4BC8-ACF3-58DAE19B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4472-93D5-47E4-8083-5E38F9E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47893-9291-457F-85F3-203E10AC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9E65A-6D8B-4381-AB78-7F9E405C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4EAF6-EF80-4704-9AD2-1B120D4D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63886-4A8A-4DA6-BBDB-D8808689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C6E8F-C050-4D76-9E92-2A5522BB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91E8C-0E5F-4E0B-809D-848CB19C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96008-33D6-4FF4-A364-24DB1C62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F64E1-949E-4240-B969-0EEC7630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60E7B-1D8C-4399-94EE-3303711B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10734-FB35-40DB-8327-885A76EC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BE6E-1C28-4A88-A65B-776F54BC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55B2C-AA51-426F-B31E-5219E56C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7723F-CB60-4CF5-A27C-8814DB70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A243F-C372-4FC0-AEF9-269D83A2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E5082-8DC3-43C2-9087-E37662F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76AE4-9EC0-4790-8BE5-631EC64D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612B1-F84C-47BD-866B-DF41F247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9E156-CD9A-44BC-B652-7E7E9B57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FB116-A18D-4ACE-B75E-AC0261CC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F5B32-0E51-4B8D-815D-FC314C72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311E54-51E7-4B03-B129-B167F2E0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A885-B752-4368-84DA-2512F6A5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3446D-0A17-401F-8677-2216DF10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F2F0E-DE55-4B3B-9EE0-FC37B1AB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3CE82-6D3F-428D-9C72-36E0539B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70A51-0548-471D-820C-7B2C96DE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35326-AF89-431C-B621-BDF33FD8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DCC33-63F1-41C1-9F44-38F4C98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08D1ED-7F34-4A81-9B47-F6C22A10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67613-9A4C-438A-804E-D5E2D8E6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03E52-61B0-4786-B468-7659E327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443A-73D2-4994-91FF-BF6466EB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5F18-9BC7-470E-BB07-CC29B799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5EC8-80B1-46BA-9F62-230A5BE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794-3520-4F8C-8398-B9E74D63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4724-D8C4-4FF4-8BA6-6B55FDCB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209C-80CE-4FEF-991C-D2D43BF6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605D-8087-46CA-BA5B-696E3F18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3D23-C209-4AB0-96A4-ADDD331F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3C74-3243-4AA0-BB63-4D0F5F23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2B4F3-93D8-46C3-9B57-CCD4BC73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9455D-4021-4EC3-A26E-4B72E687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F278-1288-4FB7-8B2D-E341E767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D890E-ED53-42ED-A577-FA77BC9B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8CD10-E435-4DC8-A392-BC837434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9D6-76B2-4EFD-8DBB-A5F0B1B0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4D53-5C27-4A8A-8060-56BA9AD2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8B77-AEBB-4FAB-A6E8-299CC107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C556-E4DE-4D7B-ADF5-F9EA2BC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2C9C4-60C0-4D42-8E11-BF8913A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9EF8-A0C0-41E8-8D51-4F893281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A694-1860-4C5C-B7FA-E042299E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54076-BFB2-4B0F-82B5-6F28D8CD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CD48E-F794-4D71-A173-7B70233F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03BB-EF3C-4CE3-956B-A108A01C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42C99-F1E1-442B-99AF-7B45FCB0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29E-9AF0-4E88-A458-B491CA82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EB1C-0D94-4A9C-B848-75016EED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6FB3F-66DC-4047-A14D-C8FC9165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9A6F-78FD-4582-B6D3-F579BFB8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353D-514A-4E96-9423-F6AB1360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1CBF0-6A72-4550-8261-1A80698A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78CF6-A844-4B3D-924A-F190752C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89FF8-5DA6-47DD-B8E1-E7F909FE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2F4E7-A069-4E95-9562-34AFF59E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E270-FD80-462A-99F9-6ECB53A0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F83C8-EB3A-4B79-AE95-851D1B0A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57F-567C-4870-9D27-5DFA5B60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DA4C4-2B50-49C9-B007-4AB3A129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AB63-F0AA-41AA-82D6-E2F28212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9EC4-8783-45B4-A825-F8C1FA95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9E7FF-27C4-490F-9264-F027C990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12897-E490-4798-BD0D-341A2D15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09B7F-47BA-4703-A740-C3D097ED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19BEB-39C7-4832-A218-F988B993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795F6-93E4-48D3-B185-99C5CE18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3BA14-263D-4224-8C30-2B3BAF44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6F1BC-384F-4784-8FEF-363284B2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016-E86D-4689-884A-08FD102A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82B25-BC8B-4E9F-9AA4-B7C462BA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CE4F4-832F-4A70-9282-0D4578A7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036F9-0829-47E7-A79B-7DB4BECA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5EF02-A286-4B33-8E6F-4D4B6925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F0AD3-84E1-4317-9848-7A4903B3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CD87D-CD63-4B8E-BC2E-06716870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AEE41-C1B1-4CBE-B76F-5C521F93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545E3-B5A1-4013-B458-248CE8E5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50ADF-A964-4A62-8EF2-D27F3AE8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50CB0-32DD-4A1E-ADF9-503AD54A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8B5-55A3-4AA7-B261-9447E43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C4DCC-91E6-4809-A34E-C66FE308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4BE0-5A7B-440F-ACA0-70E3142E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E7C04-8BB3-47B2-92D6-916E2FF4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97C79-21D7-4611-B61B-6427A464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F8EE-F887-4DAF-9802-13C10FA4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0A002-5FC7-4A10-B756-FD75D5B3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A57EF-A321-4BDE-AAC0-E4D9769A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434C7-38F5-4F13-B2CF-ABFC8A43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1FCCB-811A-4C4B-8F6D-87E280DB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FC643-1BE0-4431-B93A-448C007A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AE5-E00A-4EA6-BB60-786214A9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01A26-5DC9-401B-8D04-ADD06C36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87E6B-9F03-4D9F-A6B3-918DE6C3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00C68-6215-413E-8FD2-74A5E44D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575B2-6562-4CE6-89E9-35133D3F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15BCE-9B16-4EA6-97DB-242FEDC1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80438-3992-4CE9-B8CD-DA08F0B7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A90B5-336A-499A-B092-DA766777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CD578-FFFB-4090-B6CF-8DD6F2F1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5B201-DD37-4257-A3A1-C9F869B1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D08F8-8E55-4E25-8737-6ADD68E7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A84-9DBC-4CD8-AE40-3EDDB691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63BA2-4181-412C-A02B-77F99A35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5A930-CF99-4D1B-85F9-B2E4EA98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650BE-AA99-48D2-9B14-C85931D2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10B75-5E2C-423D-9510-4375DDF6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AAC6E-B3D7-442D-B641-A15783DC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90615-3EC4-476A-B841-0098F972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6A78C-99C7-4FB8-9B74-0DB25262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ABE28-0D91-443F-B342-11BCA894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D859D-FC13-4A37-9D89-4F6E81DF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AF173-91CA-45C8-AEAF-6BE29B77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29EF-DDC8-40CA-B67B-0FC2A967AC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18ED-C4C7-485C-B7A4-8BD5BB0CB1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9784-C1CA-4123-85F0-F162A144BE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4FEF-394C-425F-B55F-BB84E266C5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23BA-2E5B-412D-A75D-DD2902992D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2"/>
            </a:gs>
            <a:gs pos="100000">
              <a:srgbClr val="ffe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4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14DA-9B97-4484-A943-803225F5E2A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2"/>
            </a:gs>
            <a:gs pos="100000">
              <a:srgbClr val="ffe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1493-EEB3-4FB9-BD91-E94111D184E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DF2A-6BA6-45F5-8339-8B485F4546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5FA7-C88C-41AF-B57D-AA25A66985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666D-C94C-4C83-B815-12370F0456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90FD-0978-456D-A691-03327AD292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738E-4557-4E71-8DED-022573F5A8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AB2B-9CD5-4925-A0B9-6F0D339E08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BC0B-6412-4B6A-B208-362B20B814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1476360" y="1484280"/>
            <a:ext cx="589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GINEER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5"/>
          <p:cNvSpPr/>
          <p:nvPr/>
        </p:nvSpPr>
        <p:spPr>
          <a:xfrm>
            <a:off x="460800" y="1173240"/>
            <a:ext cx="22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agerial Skil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6"/>
          <p:cNvSpPr/>
          <p:nvPr/>
        </p:nvSpPr>
        <p:spPr>
          <a:xfrm>
            <a:off x="332280" y="1981080"/>
            <a:ext cx="42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s need three types of skil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8"/>
          <p:cNvSpPr/>
          <p:nvPr/>
        </p:nvSpPr>
        <p:spPr>
          <a:xfrm>
            <a:off x="714600" y="259380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19"/>
          <p:cNvSpPr/>
          <p:nvPr/>
        </p:nvSpPr>
        <p:spPr>
          <a:xfrm>
            <a:off x="824760" y="2590920"/>
            <a:ext cx="127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chnic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20"/>
          <p:cNvSpPr/>
          <p:nvPr/>
        </p:nvSpPr>
        <p:spPr>
          <a:xfrm>
            <a:off x="2586600" y="2593800"/>
            <a:ext cx="598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subject related skills such as engineer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ounting, et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2"/>
          <p:cNvSpPr/>
          <p:nvPr/>
        </p:nvSpPr>
        <p:spPr>
          <a:xfrm>
            <a:off x="714600" y="341136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23"/>
          <p:cNvSpPr/>
          <p:nvPr/>
        </p:nvSpPr>
        <p:spPr>
          <a:xfrm>
            <a:off x="828000" y="3408480"/>
            <a:ext cx="189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persona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2680560" y="3411360"/>
            <a:ext cx="5802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ills related to dealing with others and lead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ing, or controlli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26"/>
          <p:cNvSpPr/>
          <p:nvPr/>
        </p:nvSpPr>
        <p:spPr>
          <a:xfrm>
            <a:off x="846720" y="4267080"/>
            <a:ext cx="1578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ceptua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27"/>
          <p:cNvSpPr/>
          <p:nvPr/>
        </p:nvSpPr>
        <p:spPr>
          <a:xfrm>
            <a:off x="2631960" y="4267080"/>
            <a:ext cx="65646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discern the critical factors that will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organization’s success or fail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ee the forest in spite of the t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5"/>
          <p:cNvSpPr/>
          <p:nvPr/>
        </p:nvSpPr>
        <p:spPr>
          <a:xfrm>
            <a:off x="1238760" y="1295280"/>
            <a:ext cx="58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rial Roles (What Managers 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1836720" y="2330280"/>
            <a:ext cx="408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pers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ti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4"/>
          <p:cNvSpPr/>
          <p:nvPr/>
        </p:nvSpPr>
        <p:spPr>
          <a:xfrm>
            <a:off x="708840" y="1981080"/>
            <a:ext cx="38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pers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680480" y="2743200"/>
            <a:ext cx="73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gurehead role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ward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eader role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wnward 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iaison role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rizontal 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238760" y="1295280"/>
            <a:ext cx="58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rial Roles (What Managers 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8"/>
          <p:cNvSpPr/>
          <p:nvPr/>
        </p:nvSpPr>
        <p:spPr>
          <a:xfrm>
            <a:off x="971640" y="4869000"/>
            <a:ext cx="1366920" cy="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9"/>
          <p:cNvSpPr/>
          <p:nvPr/>
        </p:nvSpPr>
        <p:spPr>
          <a:xfrm>
            <a:off x="900000" y="4941720"/>
            <a:ext cx="0" cy="157176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reeform 21"/>
          <p:cNvSpPr/>
          <p:nvPr/>
        </p:nvSpPr>
        <p:spPr>
          <a:xfrm flipH="1" flipV="1" rot="5902200">
            <a:off x="-287640" y="3536280"/>
            <a:ext cx="1798560" cy="718920"/>
          </a:xfrm>
          <a:custGeom>
            <a:avLst/>
            <a:gdLst>
              <a:gd name="textAreaLeft" fmla="*/ 360 w 1798560"/>
              <a:gd name="textAreaRight" fmla="*/ 1799280 w 1798560"/>
              <a:gd name="textAreaTop" fmla="*/ -360 h 718920"/>
              <a:gd name="textAreaBottom" fmla="*/ 718920 h 718920"/>
            </a:gdLst>
            <a:ahLst/>
            <a:rect l="textAreaLeft" t="textAreaTop" r="textAreaRight" b="textAreaBottom"/>
            <a:pathLst>
              <a:path w="1724" h="544">
                <a:moveTo>
                  <a:pt x="0" y="544"/>
                </a:moveTo>
                <a:lnTo>
                  <a:pt x="862" y="0"/>
                </a:lnTo>
                <a:lnTo>
                  <a:pt x="817" y="408"/>
                </a:lnTo>
                <a:lnTo>
                  <a:pt x="1724" y="0"/>
                </a:lnTo>
              </a:path>
            </a:pathLst>
          </a:custGeom>
          <a:noFill/>
          <a:ln w="76320">
            <a:solidFill>
              <a:srgbClr val="cc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2"/>
          <p:cNvSpPr/>
          <p:nvPr/>
        </p:nvSpPr>
        <p:spPr>
          <a:xfrm>
            <a:off x="41400" y="2467080"/>
            <a:ext cx="1247400" cy="4597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Out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3"/>
          <p:cNvSpPr/>
          <p:nvPr/>
        </p:nvSpPr>
        <p:spPr>
          <a:xfrm>
            <a:off x="2317320" y="4627440"/>
            <a:ext cx="1486800" cy="4597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4"/>
          <p:cNvSpPr/>
          <p:nvPr/>
        </p:nvSpPr>
        <p:spPr>
          <a:xfrm>
            <a:off x="1123560" y="6140520"/>
            <a:ext cx="1533960" cy="4597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4"/>
          <p:cNvSpPr/>
          <p:nvPr/>
        </p:nvSpPr>
        <p:spPr>
          <a:xfrm>
            <a:off x="709560" y="2209680"/>
            <a:ext cx="41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ti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1219320" y="303840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itor Ro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lects information about internal operations and external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seminator Ro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ly to everybody in organization (lik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switchbo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okesman Ro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1238760" y="1295280"/>
            <a:ext cx="58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rial Roles (What Managers 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328760" y="3809880"/>
            <a:ext cx="22320" cy="58680"/>
          </a:xfrm>
          <a:custGeom>
            <a:avLst/>
            <a:gdLst>
              <a:gd name="textAreaLeft" fmla="*/ 0 w 22320"/>
              <a:gd name="textAreaRight" fmla="*/ 22680 w 223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9" h="74">
                <a:moveTo>
                  <a:pt x="13" y="69"/>
                </a:moveTo>
                <a:lnTo>
                  <a:pt x="14" y="72"/>
                </a:lnTo>
                <a:lnTo>
                  <a:pt x="16" y="73"/>
                </a:lnTo>
                <a:lnTo>
                  <a:pt x="20" y="74"/>
                </a:lnTo>
                <a:lnTo>
                  <a:pt x="22" y="74"/>
                </a:lnTo>
                <a:lnTo>
                  <a:pt x="25" y="73"/>
                </a:lnTo>
                <a:lnTo>
                  <a:pt x="28" y="71"/>
                </a:lnTo>
                <a:lnTo>
                  <a:pt x="29" y="67"/>
                </a:lnTo>
                <a:lnTo>
                  <a:pt x="29" y="65"/>
                </a:lnTo>
                <a:lnTo>
                  <a:pt x="23" y="45"/>
                </a:lnTo>
                <a:lnTo>
                  <a:pt x="16" y="23"/>
                </a:lnTo>
                <a:lnTo>
                  <a:pt x="8" y="6"/>
                </a:lnTo>
                <a:lnTo>
                  <a:pt x="1" y="0"/>
                </a:lnTo>
                <a:lnTo>
                  <a:pt x="0" y="13"/>
                </a:lnTo>
                <a:lnTo>
                  <a:pt x="2" y="31"/>
                </a:lnTo>
                <a:lnTo>
                  <a:pt x="7" y="51"/>
                </a:lnTo>
                <a:lnTo>
                  <a:pt x="13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4"/>
          <p:cNvSpPr/>
          <p:nvPr/>
        </p:nvSpPr>
        <p:spPr>
          <a:xfrm>
            <a:off x="708840" y="1752480"/>
            <a:ext cx="36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1219320" y="243828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repreneurial Ro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tes changes, assumes risks, transforms ideas into useful produ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turbance Handler Ro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s with unforeseen problems and cris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urce Allocator Ro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ng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gotiator Ro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gains with suppliers, customers etc. in favor of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1238760" y="1295280"/>
            <a:ext cx="58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rial Roles (What Managers 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4"/>
          <p:cNvSpPr/>
          <p:nvPr/>
        </p:nvSpPr>
        <p:spPr>
          <a:xfrm>
            <a:off x="685800" y="126828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n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lecting missions and objectives. Requires decision ma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ganizing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ing the structure for the object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ffing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filled the organiza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ading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ing people to achieve the objec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l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suring and correcting the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2428560" y="69228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s of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3"/>
          <p:cNvSpPr/>
          <p:nvPr/>
        </p:nvSpPr>
        <p:spPr>
          <a:xfrm>
            <a:off x="684360" y="17683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ment has a body of specialized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knowledge need not to be obtained in form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ciplined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1461960" y="990720"/>
            <a:ext cx="54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ment: Is it an art or sc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1033560" y="386712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where between art and sci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16"/>
          <p:cNvSpPr/>
          <p:nvPr/>
        </p:nvSpPr>
        <p:spPr>
          <a:xfrm>
            <a:off x="492840" y="4797360"/>
            <a:ext cx="81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gineering Management (Discipline + 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where between art and sci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3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is Engineering 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1066680" y="24526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rrow defini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ng supervision of engineers or of engineering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8"/>
          <p:cNvGrpSpPr/>
          <p:nvPr/>
        </p:nvGrpSpPr>
        <p:grpSpPr>
          <a:xfrm>
            <a:off x="533520" y="3701880"/>
            <a:ext cx="8103960" cy="2592720"/>
            <a:chOff x="533520" y="3701880"/>
            <a:chExt cx="8103960" cy="2592720"/>
          </a:xfrm>
        </p:grpSpPr>
        <p:sp>
          <p:nvSpPr>
            <p:cNvPr id="745" name="Text Box 6"/>
            <p:cNvSpPr/>
            <p:nvPr/>
          </p:nvSpPr>
          <p:spPr>
            <a:xfrm>
              <a:off x="538200" y="3701880"/>
              <a:ext cx="809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roper Definition of Engineering Manager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7"/>
            <p:cNvSpPr/>
            <p:nvPr/>
          </p:nvSpPr>
          <p:spPr>
            <a:xfrm>
              <a:off x="533520" y="4494240"/>
              <a:ext cx="77724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ngineer possessing both abilities to apply engineering principles and skills in organizing and directing people and project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Babcock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ineering Managers are distinguished from other managers because they possess both the ability to apply engineering principles and skill in organizing and directing people and proje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entice Hall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5"/>
          <p:cNvGrpSpPr/>
          <p:nvPr/>
        </p:nvGrpSpPr>
        <p:grpSpPr>
          <a:xfrm>
            <a:off x="829080" y="1752480"/>
            <a:ext cx="7781400" cy="1557000"/>
            <a:chOff x="829080" y="1752480"/>
            <a:chExt cx="7781400" cy="1557000"/>
          </a:xfrm>
        </p:grpSpPr>
        <p:sp>
          <p:nvSpPr>
            <p:cNvPr id="750" name="Text Box 6"/>
            <p:cNvSpPr/>
            <p:nvPr/>
          </p:nvSpPr>
          <p:spPr>
            <a:xfrm>
              <a:off x="829080" y="1752480"/>
              <a:ext cx="6973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hy Engineering Manager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etition is global and companies need these peo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 compete successfu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838080" y="2395440"/>
              <a:ext cx="777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3"/>
          <p:cNvSpPr/>
          <p:nvPr/>
        </p:nvSpPr>
        <p:spPr>
          <a:xfrm>
            <a:off x="304920" y="7858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gineering as a Prof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353880" y="1643040"/>
            <a:ext cx="885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rt of directing the great sources of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nature, for the use and convenience of m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gineers provide a public service not on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goods and services they create for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tterment of society, but also by placing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fety of the public high on their design cri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3"/>
          <p:cNvSpPr/>
          <p:nvPr/>
        </p:nvSpPr>
        <p:spPr>
          <a:xfrm>
            <a:off x="685800" y="914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vantages of Understanding Technology in Top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838080" y="205740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ly understanding th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derstanding technology driving the business today and technology that will change the business in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eating Research and Development as investment not an expense to be minim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nding more time on strategic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dicating a customer’s problem (true marketing via customer rel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ce a premium on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3"/>
          <p:cNvSpPr/>
          <p:nvPr/>
        </p:nvSpPr>
        <p:spPr>
          <a:xfrm>
            <a:off x="304920" y="99072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rn Definition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ngineering By ABET (Accrediting Boar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ngineering and Techn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165240" y="2571840"/>
            <a:ext cx="90914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fession in which a knowledge of the mathematical and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s gained by study, experience, and practice which is appli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dgment to develop ways to utilize, economically, the material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s of the nature for the benefit of mank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: A person applying his mathematical and sc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properly for mank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1"/>
          <p:cNvSpPr/>
          <p:nvPr/>
        </p:nvSpPr>
        <p:spPr>
          <a:xfrm>
            <a:off x="636480" y="642960"/>
            <a:ext cx="794088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ae0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ngineering applications requ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pollination or integration of multiple discip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 Aerospace Engineers require knowledge 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sc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 l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st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serv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ngineering Employ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rporations and firms of the past no longer exis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loyment opportunities Lie with companies of all siz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ineers of the future should expect to be Constantly improving their skills and marketabilit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ing  education, flexibility, and a willingness to shift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loy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 be required of successful engine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32"/>
          <p:cNvSpPr/>
          <p:nvPr/>
        </p:nvSpPr>
        <p:spPr>
          <a:xfrm>
            <a:off x="978840" y="928800"/>
            <a:ext cx="42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anage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3"/>
          <p:cNvSpPr/>
          <p:nvPr/>
        </p:nvSpPr>
        <p:spPr>
          <a:xfrm>
            <a:off x="1285560" y="4000680"/>
            <a:ext cx="68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ecting the actions of a group to achieve a goa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efficient 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4"/>
          <p:cNvSpPr/>
          <p:nvPr/>
        </p:nvSpPr>
        <p:spPr>
          <a:xfrm>
            <a:off x="1290960" y="4686480"/>
            <a:ext cx="47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ting things done through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5"/>
          <p:cNvSpPr/>
          <p:nvPr/>
        </p:nvSpPr>
        <p:spPr>
          <a:xfrm>
            <a:off x="1291680" y="5106960"/>
            <a:ext cx="70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ss of achieving organizational goals by wor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 and through people and organiz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7"/>
          <p:cNvSpPr/>
          <p:nvPr/>
        </p:nvSpPr>
        <p:spPr>
          <a:xfrm>
            <a:off x="1094040" y="1571760"/>
            <a:ext cx="647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Farland identifies managemen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rganizational or administrativ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ience, discipline  or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oup of people running an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ccupational car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3"/>
          <p:cNvSpPr/>
          <p:nvPr/>
        </p:nvSpPr>
        <p:spPr>
          <a:xfrm>
            <a:off x="685800" y="1905120"/>
            <a:ext cx="3048120" cy="3047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523880" y="3276720"/>
            <a:ext cx="1371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5"/>
          <p:cNvSpPr/>
          <p:nvPr/>
        </p:nvSpPr>
        <p:spPr>
          <a:xfrm>
            <a:off x="1128600" y="4114800"/>
            <a:ext cx="21621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3049920" y="1905120"/>
            <a:ext cx="533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-leve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esident, executive vice presid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190680" y="3048120"/>
            <a:ext cx="51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ief engineer, division head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3543480" y="3962520"/>
            <a:ext cx="53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-line manag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eman, supervisor, section chi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1403280" y="84312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agement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96"/>
          <p:cNvGrpSpPr/>
          <p:nvPr/>
        </p:nvGrpSpPr>
        <p:grpSpPr>
          <a:xfrm>
            <a:off x="304920" y="762120"/>
            <a:ext cx="8200440" cy="5701680"/>
            <a:chOff x="304920" y="762120"/>
            <a:chExt cx="8200440" cy="5701680"/>
          </a:xfrm>
        </p:grpSpPr>
        <p:sp>
          <p:nvSpPr>
            <p:cNvPr id="613" name="Rectangle 10"/>
            <p:cNvSpPr/>
            <p:nvPr/>
          </p:nvSpPr>
          <p:spPr>
            <a:xfrm>
              <a:off x="1203480" y="77904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5018400" y="779040"/>
              <a:ext cx="90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ype of J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304920" y="762120"/>
              <a:ext cx="75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304920" y="762120"/>
              <a:ext cx="75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14"/>
            <p:cNvSpPr/>
            <p:nvPr/>
          </p:nvSpPr>
          <p:spPr>
            <a:xfrm>
              <a:off x="312480" y="762120"/>
              <a:ext cx="226764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15"/>
            <p:cNvSpPr/>
            <p:nvPr/>
          </p:nvSpPr>
          <p:spPr>
            <a:xfrm>
              <a:off x="2580120" y="762120"/>
              <a:ext cx="75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6"/>
            <p:cNvSpPr/>
            <p:nvPr/>
          </p:nvSpPr>
          <p:spPr>
            <a:xfrm>
              <a:off x="2588040" y="762120"/>
              <a:ext cx="59079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8496000" y="762120"/>
              <a:ext cx="93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18"/>
            <p:cNvSpPr/>
            <p:nvPr/>
          </p:nvSpPr>
          <p:spPr>
            <a:xfrm>
              <a:off x="8496000" y="762120"/>
              <a:ext cx="93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19"/>
            <p:cNvSpPr/>
            <p:nvPr/>
          </p:nvSpPr>
          <p:spPr>
            <a:xfrm>
              <a:off x="304920" y="769680"/>
              <a:ext cx="7560" cy="2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0"/>
            <p:cNvSpPr/>
            <p:nvPr/>
          </p:nvSpPr>
          <p:spPr>
            <a:xfrm>
              <a:off x="2580120" y="769680"/>
              <a:ext cx="7560" cy="2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21"/>
            <p:cNvSpPr/>
            <p:nvPr/>
          </p:nvSpPr>
          <p:spPr>
            <a:xfrm>
              <a:off x="8496000" y="769680"/>
              <a:ext cx="9360" cy="2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22"/>
            <p:cNvSpPr/>
            <p:nvPr/>
          </p:nvSpPr>
          <p:spPr>
            <a:xfrm>
              <a:off x="573120" y="1771200"/>
              <a:ext cx="151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rst-line Mana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23"/>
            <p:cNvSpPr/>
            <p:nvPr/>
          </p:nvSpPr>
          <p:spPr>
            <a:xfrm>
              <a:off x="2764800" y="101988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24"/>
            <p:cNvSpPr/>
            <p:nvPr/>
          </p:nvSpPr>
          <p:spPr>
            <a:xfrm>
              <a:off x="2853720" y="1041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25"/>
            <p:cNvSpPr/>
            <p:nvPr/>
          </p:nvSpPr>
          <p:spPr>
            <a:xfrm>
              <a:off x="2939760" y="1041120"/>
              <a:ext cx="241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rectly supervise non-manag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6"/>
            <p:cNvSpPr/>
            <p:nvPr/>
          </p:nvSpPr>
          <p:spPr>
            <a:xfrm>
              <a:off x="2764800" y="12744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27"/>
            <p:cNvSpPr/>
            <p:nvPr/>
          </p:nvSpPr>
          <p:spPr>
            <a:xfrm>
              <a:off x="2853720" y="129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28"/>
            <p:cNvSpPr/>
            <p:nvPr/>
          </p:nvSpPr>
          <p:spPr>
            <a:xfrm>
              <a:off x="2931840" y="1293120"/>
              <a:ext cx="4534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ry out the plans and objectives of higher management u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29"/>
            <p:cNvSpPr/>
            <p:nvPr/>
          </p:nvSpPr>
          <p:spPr>
            <a:xfrm>
              <a:off x="2935800" y="1536120"/>
              <a:ext cx="369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personnel and other resources assigned to the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30"/>
            <p:cNvSpPr/>
            <p:nvPr/>
          </p:nvSpPr>
          <p:spPr>
            <a:xfrm>
              <a:off x="2764800" y="17676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31"/>
            <p:cNvSpPr/>
            <p:nvPr/>
          </p:nvSpPr>
          <p:spPr>
            <a:xfrm>
              <a:off x="2853720" y="178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32"/>
            <p:cNvSpPr/>
            <p:nvPr/>
          </p:nvSpPr>
          <p:spPr>
            <a:xfrm>
              <a:off x="2931120" y="1788120"/>
              <a:ext cx="408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hort-range operating plans governing what will be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33"/>
            <p:cNvSpPr/>
            <p:nvPr/>
          </p:nvSpPr>
          <p:spPr>
            <a:xfrm>
              <a:off x="2933280" y="2029320"/>
              <a:ext cx="456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morrow or next week, assign tasks to their workers, superv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34"/>
            <p:cNvSpPr/>
            <p:nvPr/>
          </p:nvSpPr>
          <p:spPr>
            <a:xfrm>
              <a:off x="2930760" y="2272320"/>
              <a:ext cx="467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work that is done, and evaluate the performance of 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35"/>
            <p:cNvSpPr/>
            <p:nvPr/>
          </p:nvSpPr>
          <p:spPr>
            <a:xfrm>
              <a:off x="2945520" y="2514600"/>
              <a:ext cx="6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ork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36"/>
            <p:cNvSpPr/>
            <p:nvPr/>
          </p:nvSpPr>
          <p:spPr>
            <a:xfrm>
              <a:off x="304920" y="1012680"/>
              <a:ext cx="7560" cy="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37"/>
            <p:cNvSpPr/>
            <p:nvPr/>
          </p:nvSpPr>
          <p:spPr>
            <a:xfrm>
              <a:off x="312480" y="1012680"/>
              <a:ext cx="2267640" cy="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38"/>
            <p:cNvSpPr/>
            <p:nvPr/>
          </p:nvSpPr>
          <p:spPr>
            <a:xfrm>
              <a:off x="2580120" y="1012680"/>
              <a:ext cx="7560" cy="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39"/>
            <p:cNvSpPr/>
            <p:nvPr/>
          </p:nvSpPr>
          <p:spPr>
            <a:xfrm>
              <a:off x="2588040" y="1012680"/>
              <a:ext cx="5907960" cy="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40"/>
            <p:cNvSpPr/>
            <p:nvPr/>
          </p:nvSpPr>
          <p:spPr>
            <a:xfrm>
              <a:off x="8496000" y="1012680"/>
              <a:ext cx="9360" cy="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41"/>
            <p:cNvSpPr/>
            <p:nvPr/>
          </p:nvSpPr>
          <p:spPr>
            <a:xfrm>
              <a:off x="304920" y="1019880"/>
              <a:ext cx="7560" cy="172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42"/>
            <p:cNvSpPr/>
            <p:nvPr/>
          </p:nvSpPr>
          <p:spPr>
            <a:xfrm>
              <a:off x="2580120" y="1019880"/>
              <a:ext cx="7560" cy="172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43"/>
            <p:cNvSpPr/>
            <p:nvPr/>
          </p:nvSpPr>
          <p:spPr>
            <a:xfrm>
              <a:off x="8496000" y="1019880"/>
              <a:ext cx="9360" cy="172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44"/>
            <p:cNvSpPr/>
            <p:nvPr/>
          </p:nvSpPr>
          <p:spPr>
            <a:xfrm>
              <a:off x="529560" y="374580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iddle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45"/>
            <p:cNvSpPr/>
            <p:nvPr/>
          </p:nvSpPr>
          <p:spPr>
            <a:xfrm>
              <a:off x="2764800" y="27540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46"/>
            <p:cNvSpPr/>
            <p:nvPr/>
          </p:nvSpPr>
          <p:spPr>
            <a:xfrm>
              <a:off x="2853720" y="2774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47"/>
            <p:cNvSpPr/>
            <p:nvPr/>
          </p:nvSpPr>
          <p:spPr>
            <a:xfrm>
              <a:off x="2940480" y="2774520"/>
              <a:ext cx="236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 through other manag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48"/>
            <p:cNvSpPr/>
            <p:nvPr/>
          </p:nvSpPr>
          <p:spPr>
            <a:xfrm>
              <a:off x="2764800" y="300816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49"/>
            <p:cNvSpPr/>
            <p:nvPr/>
          </p:nvSpPr>
          <p:spPr>
            <a:xfrm>
              <a:off x="2853720" y="3028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50"/>
            <p:cNvSpPr/>
            <p:nvPr/>
          </p:nvSpPr>
          <p:spPr>
            <a:xfrm>
              <a:off x="2932560" y="3028680"/>
              <a:ext cx="4691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ke plans of intermediate range to achieve the long-range 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51"/>
            <p:cNvSpPr/>
            <p:nvPr/>
          </p:nvSpPr>
          <p:spPr>
            <a:xfrm>
              <a:off x="2932920" y="3271680"/>
              <a:ext cx="430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t by top management, establish departmental policies,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52"/>
            <p:cNvSpPr/>
            <p:nvPr/>
          </p:nvSpPr>
          <p:spPr>
            <a:xfrm>
              <a:off x="2931840" y="3510720"/>
              <a:ext cx="436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aluate the performance of subordinate work units and th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53"/>
            <p:cNvSpPr/>
            <p:nvPr/>
          </p:nvSpPr>
          <p:spPr>
            <a:xfrm>
              <a:off x="2945880" y="3751560"/>
              <a:ext cx="73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2764800" y="398484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2853720" y="4005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2927880" y="4005720"/>
              <a:ext cx="436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vide and integrating and coordinating function so that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57"/>
            <p:cNvSpPr/>
            <p:nvPr/>
          </p:nvSpPr>
          <p:spPr>
            <a:xfrm>
              <a:off x="2928960" y="4246560"/>
              <a:ext cx="426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hort-range decisions and activities of first-line supervis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58"/>
            <p:cNvSpPr/>
            <p:nvPr/>
          </p:nvSpPr>
          <p:spPr>
            <a:xfrm>
              <a:off x="2932560" y="4487400"/>
              <a:ext cx="468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roups can be orchestrated toward achievement of the long-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59"/>
            <p:cNvSpPr/>
            <p:nvPr/>
          </p:nvSpPr>
          <p:spPr>
            <a:xfrm>
              <a:off x="2941560" y="4730400"/>
              <a:ext cx="163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oals of the enterpri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60"/>
            <p:cNvSpPr/>
            <p:nvPr/>
          </p:nvSpPr>
          <p:spPr>
            <a:xfrm>
              <a:off x="304920" y="2746080"/>
              <a:ext cx="75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61"/>
            <p:cNvSpPr/>
            <p:nvPr/>
          </p:nvSpPr>
          <p:spPr>
            <a:xfrm>
              <a:off x="312480" y="2746080"/>
              <a:ext cx="226764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62"/>
            <p:cNvSpPr/>
            <p:nvPr/>
          </p:nvSpPr>
          <p:spPr>
            <a:xfrm>
              <a:off x="2580120" y="2746080"/>
              <a:ext cx="75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63"/>
            <p:cNvSpPr/>
            <p:nvPr/>
          </p:nvSpPr>
          <p:spPr>
            <a:xfrm>
              <a:off x="2588040" y="2746080"/>
              <a:ext cx="59079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64"/>
            <p:cNvSpPr/>
            <p:nvPr/>
          </p:nvSpPr>
          <p:spPr>
            <a:xfrm>
              <a:off x="8496000" y="2746080"/>
              <a:ext cx="9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65"/>
            <p:cNvSpPr/>
            <p:nvPr/>
          </p:nvSpPr>
          <p:spPr>
            <a:xfrm>
              <a:off x="304920" y="2754000"/>
              <a:ext cx="7560" cy="220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66"/>
            <p:cNvSpPr/>
            <p:nvPr/>
          </p:nvSpPr>
          <p:spPr>
            <a:xfrm>
              <a:off x="2580120" y="2754000"/>
              <a:ext cx="7560" cy="220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67"/>
            <p:cNvSpPr/>
            <p:nvPr/>
          </p:nvSpPr>
          <p:spPr>
            <a:xfrm>
              <a:off x="8496000" y="2754000"/>
              <a:ext cx="9360" cy="220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68"/>
            <p:cNvSpPr/>
            <p:nvPr/>
          </p:nvSpPr>
          <p:spPr>
            <a:xfrm>
              <a:off x="666000" y="5602680"/>
              <a:ext cx="1353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op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69"/>
            <p:cNvSpPr/>
            <p:nvPr/>
          </p:nvSpPr>
          <p:spPr>
            <a:xfrm>
              <a:off x="2764800" y="497124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70"/>
            <p:cNvSpPr/>
            <p:nvPr/>
          </p:nvSpPr>
          <p:spPr>
            <a:xfrm>
              <a:off x="2853720" y="4994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71"/>
            <p:cNvSpPr/>
            <p:nvPr/>
          </p:nvSpPr>
          <p:spPr>
            <a:xfrm>
              <a:off x="2930760" y="4994280"/>
              <a:ext cx="469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ponsible for defining the character, mission, and objective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72"/>
            <p:cNvSpPr/>
            <p:nvPr/>
          </p:nvSpPr>
          <p:spPr>
            <a:xfrm>
              <a:off x="2944440" y="5232960"/>
              <a:ext cx="101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enterpri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73"/>
            <p:cNvSpPr/>
            <p:nvPr/>
          </p:nvSpPr>
          <p:spPr>
            <a:xfrm>
              <a:off x="2764800" y="546804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74"/>
            <p:cNvSpPr/>
            <p:nvPr/>
          </p:nvSpPr>
          <p:spPr>
            <a:xfrm>
              <a:off x="2853720" y="5487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75"/>
            <p:cNvSpPr/>
            <p:nvPr/>
          </p:nvSpPr>
          <p:spPr>
            <a:xfrm>
              <a:off x="2934720" y="5487120"/>
              <a:ext cx="358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tablish criteria for and review long-range pla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76"/>
            <p:cNvSpPr/>
            <p:nvPr/>
          </p:nvSpPr>
          <p:spPr>
            <a:xfrm>
              <a:off x="2764800" y="57186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77"/>
            <p:cNvSpPr/>
            <p:nvPr/>
          </p:nvSpPr>
          <p:spPr>
            <a:xfrm>
              <a:off x="2853720" y="5739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78"/>
            <p:cNvSpPr/>
            <p:nvPr/>
          </p:nvSpPr>
          <p:spPr>
            <a:xfrm>
              <a:off x="2932920" y="5739480"/>
              <a:ext cx="475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aluate the performance of major departments, and they evalu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79"/>
            <p:cNvSpPr/>
            <p:nvPr/>
          </p:nvSpPr>
          <p:spPr>
            <a:xfrm>
              <a:off x="2933280" y="5980320"/>
              <a:ext cx="422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ading management personnel to gauge their readines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80"/>
            <p:cNvSpPr/>
            <p:nvPr/>
          </p:nvSpPr>
          <p:spPr>
            <a:xfrm>
              <a:off x="2935440" y="6222960"/>
              <a:ext cx="270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motion to key executive positio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81"/>
            <p:cNvSpPr/>
            <p:nvPr/>
          </p:nvSpPr>
          <p:spPr>
            <a:xfrm>
              <a:off x="304920" y="4961880"/>
              <a:ext cx="75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82"/>
            <p:cNvSpPr/>
            <p:nvPr/>
          </p:nvSpPr>
          <p:spPr>
            <a:xfrm>
              <a:off x="312480" y="4961880"/>
              <a:ext cx="22676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83"/>
            <p:cNvSpPr/>
            <p:nvPr/>
          </p:nvSpPr>
          <p:spPr>
            <a:xfrm>
              <a:off x="2580120" y="4961880"/>
              <a:ext cx="75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84"/>
            <p:cNvSpPr/>
            <p:nvPr/>
          </p:nvSpPr>
          <p:spPr>
            <a:xfrm>
              <a:off x="2588040" y="4961880"/>
              <a:ext cx="59079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85"/>
            <p:cNvSpPr/>
            <p:nvPr/>
          </p:nvSpPr>
          <p:spPr>
            <a:xfrm>
              <a:off x="8496000" y="49618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86"/>
            <p:cNvSpPr/>
            <p:nvPr/>
          </p:nvSpPr>
          <p:spPr>
            <a:xfrm>
              <a:off x="304920" y="4971240"/>
              <a:ext cx="7560" cy="148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87"/>
            <p:cNvSpPr/>
            <p:nvPr/>
          </p:nvSpPr>
          <p:spPr>
            <a:xfrm>
              <a:off x="304920" y="6454440"/>
              <a:ext cx="75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88"/>
            <p:cNvSpPr/>
            <p:nvPr/>
          </p:nvSpPr>
          <p:spPr>
            <a:xfrm>
              <a:off x="304920" y="6454440"/>
              <a:ext cx="75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89"/>
            <p:cNvSpPr/>
            <p:nvPr/>
          </p:nvSpPr>
          <p:spPr>
            <a:xfrm>
              <a:off x="312480" y="6454440"/>
              <a:ext cx="22676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90"/>
            <p:cNvSpPr/>
            <p:nvPr/>
          </p:nvSpPr>
          <p:spPr>
            <a:xfrm>
              <a:off x="2580120" y="4971240"/>
              <a:ext cx="7560" cy="148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Rectangle 91"/>
            <p:cNvSpPr/>
            <p:nvPr/>
          </p:nvSpPr>
          <p:spPr>
            <a:xfrm>
              <a:off x="2580120" y="6454440"/>
              <a:ext cx="75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92"/>
            <p:cNvSpPr/>
            <p:nvPr/>
          </p:nvSpPr>
          <p:spPr>
            <a:xfrm>
              <a:off x="2588040" y="6454440"/>
              <a:ext cx="59079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93"/>
            <p:cNvSpPr/>
            <p:nvPr/>
          </p:nvSpPr>
          <p:spPr>
            <a:xfrm>
              <a:off x="8496000" y="4971240"/>
              <a:ext cx="9360" cy="148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94"/>
            <p:cNvSpPr/>
            <p:nvPr/>
          </p:nvSpPr>
          <p:spPr>
            <a:xfrm>
              <a:off x="8496000" y="64544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95"/>
            <p:cNvSpPr/>
            <p:nvPr/>
          </p:nvSpPr>
          <p:spPr>
            <a:xfrm>
              <a:off x="8496000" y="64544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1981080" y="2362320"/>
            <a:ext cx="4267440" cy="32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ebe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1913760" y="1843200"/>
            <a:ext cx="43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st         Middle       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2808720" y="1295280"/>
            <a:ext cx="27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9900"/>
                </a:solidFill>
                <a:latin typeface="Times New Roman"/>
              </a:rPr>
              <a:t>Manageri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"/>
          <p:cNvSpPr/>
          <p:nvPr/>
        </p:nvSpPr>
        <p:spPr>
          <a:xfrm rot="20624400">
            <a:off x="2604600" y="37335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7"/>
          <p:cNvSpPr/>
          <p:nvPr/>
        </p:nvSpPr>
        <p:spPr>
          <a:xfrm flipV="1">
            <a:off x="1981080" y="2895120"/>
            <a:ext cx="426744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8"/>
          <p:cNvSpPr/>
          <p:nvPr/>
        </p:nvSpPr>
        <p:spPr>
          <a:xfrm flipV="1">
            <a:off x="1981080" y="3962160"/>
            <a:ext cx="426744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9"/>
          <p:cNvSpPr/>
          <p:nvPr/>
        </p:nvSpPr>
        <p:spPr>
          <a:xfrm rot="20554800">
            <a:off x="2890440" y="466200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u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0"/>
          <p:cNvSpPr/>
          <p:nvPr/>
        </p:nvSpPr>
        <p:spPr>
          <a:xfrm rot="20624400">
            <a:off x="2438640" y="275760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Box 10"/>
          <p:cNvSpPr/>
          <p:nvPr/>
        </p:nvSpPr>
        <p:spPr>
          <a:xfrm>
            <a:off x="1802160" y="578628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 required versus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9:37:56Z</dcterms:created>
  <dc:creator>Gultekin</dc:creator>
  <dc:description/>
  <dc:language>en-US</dc:language>
  <cp:lastModifiedBy>Zeyad Al-Obaidi</cp:lastModifiedBy>
  <dcterms:modified xsi:type="dcterms:W3CDTF">2019-10-21T08:00:34Z</dcterms:modified>
  <cp:revision>106</cp:revision>
  <dc:subject/>
  <dc:title>PowerPoint Presentation</dc:title>
</cp:coreProperties>
</file>