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move the slid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6813-1157-48E5-87FF-E9D998A87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EB12-CC3B-472D-AC88-1117C5975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CCFE-40A4-4458-9204-ECEE17F74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43C7-222C-430F-9F32-35DA563DA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458D-C47B-4065-A869-65DEA9832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DBF9-6B66-4F06-9000-572AC76FD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CD01-B35B-4BC8-B714-21B2BBA3C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9C3D-F616-4173-A9A0-7EFD3E05D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5E29-38DE-467C-98A6-31D7F1BC2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A699-3210-4FFE-A40A-FD088F4A6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DE27-EACC-49D7-B52E-46F2F59B1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45BD-1C73-45EC-8DF4-2D06D2E2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DC0-22DC-4624-99F5-4EEFEFC0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9FBE2-8754-4BD1-95A0-EA999024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1B9F4-CDFF-475E-8AAD-4C24CEB5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25949-4CB4-471D-A823-53BA838D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55B96-0DB5-4911-9039-D40F05CF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8CC9B-EB48-47C8-BEB6-DE1EA31B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3521B-4469-429C-A9C5-811029DC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0250F-C69A-414A-890B-C3134B5F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CF36C-C70E-439C-AAD6-F4C21FB3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8B31C-C035-40FD-8F45-1B1D7303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A12C5-7EEE-4AFA-BE85-F4BB8730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614B-F58E-4665-9644-781D3F8F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35601-FE97-4AD0-BB05-6461B083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FC413-1494-48D4-B146-28CF7B23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9E192-8B26-4B39-BC05-6482D2DD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A5782-3C59-4D29-B2D1-ED13AED2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63692-C625-48D9-B479-565DBDE5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18B65-BDBD-4FF9-BAFF-8D9E4A6D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5B4F6-FEC9-4B2F-964C-B4D0441E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ED7E6-8B2E-4AF4-A07F-8A245AC1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79B42-72C7-4763-8082-B4C43188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24230-76DA-43CD-B9AF-0BC4309D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7B7-DCDF-402B-A4E8-5CECF44B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CA334-1C49-40EE-BEA0-BFDBC5FC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6405C-4A60-468E-B388-46E159B3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4878B-D27E-41E2-B41C-7B90A558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09FD1-2A14-4E34-9F9A-0E9FFA73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F171F-1936-42CE-86FC-5F0AE410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A3D4F-7F81-4020-9185-07AA7E43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9ECB7-6FA6-4C29-8FC1-AC14FDA7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B0224-8DE9-4B71-828B-E20023AC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B9D8F-C310-419A-B29E-75312DCA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BB262-F673-4908-9762-A9AF7718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93DE-9105-442A-969E-9BADD086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AF6BD-4226-44D4-9835-9D81DF5D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6FA7F-4759-467B-B7C9-01807D1C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1E64B-9626-4C2F-B75B-688786E6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1C8DB-904D-4E5C-BC97-CEADF3A9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CA151-73C4-4506-BEC5-E4ADC795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DBA5A-5E69-442D-9163-21369CE3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9545D-8E9D-4285-A44E-9C22EBDE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A17B5-01E5-4F95-918A-00772FF9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0538D-FA9A-47DC-978A-278B29D9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E860B-B204-4B84-AC76-C0E94560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C7D1-0A0F-4809-9DBA-6F0B5F92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20F22-A907-44CE-B321-66EE05AC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F4E2C-5F51-4B27-8525-8A7F7707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03346-4C0B-4636-904D-3A293A32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1AB7C-86D5-4E59-BC76-F1FDA790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9784C-8B75-409E-BB03-782A66A7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DBFB-9BDE-4532-8D3C-EAAA6F7D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8810-9B94-48F9-9F10-14D47429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686A-B43C-414B-9115-DB567C78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159E-3D05-4879-BC20-71250618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45A5-C60D-4566-8AAF-E7E8D91A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43A-AF4D-485E-BEE6-3CBCCDE2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473F-489A-44C5-882A-1C33ABF4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88AB-7534-4583-BDA2-5F6FD7FD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267B-FE5D-46CC-8D4D-28F7F2F6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6626-D197-4F7D-9547-1262E4F7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AECF-11E3-42F9-B708-9EC58AF3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92093-3CAD-4836-B5DE-04EE4154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1F350-B22F-40AC-A0D6-4DF8692D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3F5B6-7A11-4C2A-9D12-502134CF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D8BEC-B707-4AF4-A8D2-D9818605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8E68E-A4D1-4B92-ABEB-B0AE6BEB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EF85-3C66-4CE7-8350-C34E28D9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F2334-722C-45F4-8B3D-00928CA2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BDEE0-70B4-4F47-AFDB-10F7C0D4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C8161-72E5-4DC1-890E-7C75C37D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53C98-5BC1-4E9E-8442-FCEF52FC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1E5FA-2C48-4934-BC02-B478B9A6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3BF77-E042-47F2-9CF1-CB453F2C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7AF80-7D41-4CBD-8337-838C9599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54572-5FB2-479D-BF79-47B78431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C4E39-20F0-463E-9C45-976BA726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D6B64-D7C4-4A93-B79D-102EB38C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E7C4-2615-4460-8B48-4A337F4F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367D4-1942-45A3-B21B-E5A33B88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90E2A-BF8E-45A2-B939-42B5301E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64FD4-A25C-4326-AB2C-EFF95CD5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CA955-658E-4108-8DF1-B6DBFDE3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DAB19-5521-4186-885E-E5CBB211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1231C-25A0-430A-BEEE-C6BCD056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D13F4-39E7-4920-8965-B92F5467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049DD-A851-4852-823F-2D11CDB5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93966-223D-46FC-9F8F-476345DA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D935F-FAC4-4EDA-8CB4-4A9E60F8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691-2F4B-4A49-8011-457CEFC0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8A8DD-9A8A-4E73-9926-9845B2CD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3328C-3632-4B22-9B5A-8155B96D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63871-45E7-4F09-B135-C81690C4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2500C-B5C7-48B7-8C1A-6B0204C6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5C870-9E3F-4E4B-88DC-F242525E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A30E2-CCCA-4C52-A160-98591329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A96B2-B27E-4CD9-8DD0-C98BD2A9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C8720-26B2-4BB4-9C0E-B2783F57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45C43-77FB-411F-9594-B9D4FBC7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36076-1C48-41DA-B85B-7CDA1987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DEF-2583-499D-8CD8-D30316CF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D00DB-C178-47DB-94E0-14AB65A4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5D3B4-EDBA-449D-8658-B1D1A658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F4A62-2761-4975-A068-5C33183C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A1A9B-4A73-400E-AD80-8CBA461B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C4F45-7982-4694-90FC-A4728AA5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46678-D722-4C44-8063-5557267F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F24E6-022E-4565-9AD2-1D1A593B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94F01-6F4B-4244-A145-44CFEB2B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6DF1A-E61E-42DC-9A51-E70BDA77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826DC-0D14-4EC1-AA35-E72965C3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3F69-0A98-4629-A3D7-67EA620C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0B4A0-CA15-47BB-83DB-AC20F575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1E1E8-36E0-462F-A893-5754B9FA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E1FFE-1577-421C-9E0A-CA74F480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B797D-8B73-4F77-A225-14F79F3F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60C2E-8275-4242-A1D8-70812C4B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95EE0-E7B4-4367-B828-8A440740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9AB05-0580-479B-B6AF-757530D7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C19BB-2A17-4269-9E77-10C4D599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CD3B4-A4F8-4F86-89B9-3344FA51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10822-4391-48E2-A614-51768F6A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978-C4EF-4815-904C-682A06D5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C4457-111E-427D-BA6F-419BA67A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FEC06-3B27-40E8-9A30-228044C9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2AD06-904F-4015-9BD6-773696D6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E8EC1-A0D5-4DC9-A949-EE27CFC0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80A62-54E2-479B-B398-688381E8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2AD54-EE90-49B7-B2C3-9B35E447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FF744-142A-4475-BBA4-EF6B32E8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9D5F2-D6BF-48AB-B380-C6CCBA0B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BB3D3-2DD9-413D-86B8-5AD9B2E5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B7443-969E-4798-A950-1917385A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177A-6D00-48BC-A7BE-1CB77426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8EF08-0CE1-459E-96E8-00E4EE65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109C5-17E3-466F-B0B6-BF845F45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FF60F-DA6F-4230-9AB8-6CA6E05E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51B12-A312-424B-A201-C2799BC5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F7FCB-1992-4961-872B-2DF45679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9ABEC-E9D4-4A27-A20E-0DCD3D9B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935E7-1580-47FE-9F5E-507902AF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EA0D3-08E8-4A07-B2A5-2AB4F87B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98F8B-3EDA-4734-8BED-9A8AED20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D8D66-1AE5-4B9E-8B7F-23DFFF48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80880" y="1066680"/>
            <a:ext cx="8305920" cy="182520"/>
            <a:chOff x="380880" y="1066680"/>
            <a:chExt cx="8305920" cy="182520"/>
          </a:xfrm>
        </p:grpSpPr>
        <p:sp>
          <p:nvSpPr>
            <p:cNvPr id="2" name="Rectangle 4"/>
            <p:cNvSpPr/>
            <p:nvPr/>
          </p:nvSpPr>
          <p:spPr>
            <a:xfrm>
              <a:off x="6858000" y="1066680"/>
              <a:ext cx="182880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380880" y="1143000"/>
              <a:ext cx="830592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27DE-8CF2-4B44-AC33-8A37ECDE87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2" descr=""/>
          <p:cNvPicPr/>
          <p:nvPr/>
        </p:nvPicPr>
        <p:blipFill>
          <a:blip r:embed="rId2"/>
          <a:srcRect l="0" t="5102" r="0" b="6261"/>
          <a:stretch/>
        </p:blipFill>
        <p:spPr>
          <a:xfrm>
            <a:off x="7696080" y="76320"/>
            <a:ext cx="1028880" cy="9111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3" descr="logo_small2"/>
          <p:cNvPicPr/>
          <p:nvPr/>
        </p:nvPicPr>
        <p:blipFill>
          <a:blip r:embed="rId3"/>
          <a:stretch/>
        </p:blipFill>
        <p:spPr>
          <a:xfrm>
            <a:off x="7162920" y="6324480"/>
            <a:ext cx="1523880" cy="32400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14"/>
          <p:cNvSpPr/>
          <p:nvPr/>
        </p:nvSpPr>
        <p:spPr>
          <a:xfrm>
            <a:off x="812880" y="65530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0BCF-9281-4F13-925F-81F5CF949D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E40A-0B15-4F17-B1EC-6BE1C6AD05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FBED-0FF0-4346-BC7B-178FE6071D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8763120" cy="5943240"/>
            <a:chOff x="0" y="0"/>
            <a:chExt cx="8763120" cy="594324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4"/>
            <p:cNvGrpSpPr/>
            <p:nvPr/>
          </p:nvGrpSpPr>
          <p:grpSpPr>
            <a:xfrm>
              <a:off x="0" y="3048120"/>
              <a:ext cx="8763120" cy="2895120"/>
              <a:chOff x="0" y="3048120"/>
              <a:chExt cx="8763120" cy="2895120"/>
            </a:xfrm>
          </p:grpSpPr>
          <p:sp>
            <p:nvSpPr>
              <p:cNvPr id="52" name="Rectangle 5"/>
              <p:cNvSpPr/>
              <p:nvPr/>
            </p:nvSpPr>
            <p:spPr>
              <a:xfrm>
                <a:off x="990720" y="3048120"/>
                <a:ext cx="7772400" cy="289512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6"/>
              <p:cNvSpPr/>
              <p:nvPr/>
            </p:nvSpPr>
            <p:spPr>
              <a:xfrm>
                <a:off x="1038240" y="3319560"/>
                <a:ext cx="7648560" cy="253908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6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8" name="Picture 16" descr="logo_small2"/>
          <p:cNvPicPr/>
          <p:nvPr/>
        </p:nvPicPr>
        <p:blipFill>
          <a:blip r:embed="rId2"/>
          <a:stretch/>
        </p:blipFill>
        <p:spPr>
          <a:xfrm>
            <a:off x="7162920" y="6400800"/>
            <a:ext cx="1523880" cy="324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8961-8C23-4FC2-9902-34632D37BF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D3A8-C603-4799-85AB-FB350FC1CC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14CD-7981-4DFB-9B2E-C52FCAB5BA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9731-10AE-472A-8EAD-94B2722C31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2BB6-E98D-4462-AAD5-4E9A50E14E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DE65-3A12-493C-97BB-3AA33DCE56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FE37-1399-4153-8B4C-812C3170D5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67DB-57A2-447B-AAC2-E5E1445323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Project Management</a:t>
            </a:r>
            <a:br>
              <a:rPr sz="3400"/>
            </a:br>
            <a:endParaRPr b="0" lang="en-US" sz="3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application of knowledge, skills, tools and techniques to project activities to meet project requiremen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Knowledge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Project Procurement Management</a:t>
            </a:r>
            <a:endParaRPr b="0" lang="en-US" sz="3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quisition and contract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Integration Managemen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ting everything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Scope Managemen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scope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scope cr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Time Managemen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and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Cost Managemen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of you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Quality Managemen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ing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16524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Project Human Resource Management</a:t>
            </a:r>
            <a:endParaRPr b="0" lang="en-US" sz="3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ff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a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165240"/>
            <a:ext cx="7620120" cy="14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Project Communications Management</a:t>
            </a:r>
            <a:endParaRPr b="0" lang="en-US" sz="3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3276360"/>
            <a:ext cx="777240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Risk Managemen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managemen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8:23:30Z</dcterms:created>
  <dc:creator>Judy Forest</dc:creator>
  <dc:description/>
  <dc:language>en-US</dc:language>
  <cp:lastModifiedBy>Zeyad Al-Obaidi</cp:lastModifiedBy>
  <dcterms:modified xsi:type="dcterms:W3CDTF">2019-10-21T08:21:04Z</dcterms:modified>
  <cp:revision>24</cp:revision>
  <dc:subject/>
  <dc:title>Project Management Principles and Practises</dc:title>
</cp:coreProperties>
</file>