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C1AE-58A9-413B-8A34-F589322BC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E4C3-6218-4D78-A596-7B86B86D2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748E-B964-4C92-932B-4F873877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E358-BCD2-42CC-A372-FC0BA985A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F7B3-DCF2-4C0A-AECB-B0D5B914C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C2D6-D384-4719-B278-C003C5CF2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889B-655D-481B-A703-97D9B760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7FC3-00E4-4031-BAF6-F1B4E6FA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CCA5-B9C1-45F9-AD23-0BED126BB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D279-6916-4EB6-BBE4-BE98F4A1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63B7-D8CD-4D8A-A5FA-0404F9FB6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07C-97D9-4D17-AD20-0BF5D5D9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BEB-6A14-4FAF-8B3B-4ECC521F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C3D68-914A-4A1E-B5C7-527D71AA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D17FD-A515-4A2C-8A00-7077035A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80552-EECA-4E2F-B083-23F9EB26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3135B-8C69-4F5D-AE32-BFC8E917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264C0-78B3-4901-BDE2-257E46A1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0FE85-D494-4921-80B3-BCA7E66D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75E8D-B390-413B-94F8-C6BAA3E5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0F8D4-5706-4ACF-BEED-DC9493B6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9E819-F9B1-4071-9419-E57B1498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7F00B-7860-455B-830A-C5289430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4AE-378D-495E-977D-4AF53AF8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BD22B-CBB3-4F9E-B8EA-DD3EC04F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5344B-3901-46FA-9AEB-405A3267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14C20-3035-41BE-9AF5-5BF4039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378B0-5ABF-4780-A6D7-FCD45878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F22DF-53CE-46AC-AE0B-1C233EE4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53E87-4824-4FE5-A1C8-6315C37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7CA6F-8DEA-442F-87C3-D11D012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540A2-BCC6-4641-8908-14FD2F14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56C90-BE66-4851-A5A2-664FA9FD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14DAE-AF0F-4A36-B933-8FA0C4DA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B3E-245F-4A17-93AE-FD6EF458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3E9D4-3AAB-423D-AC9F-818042AE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929F6-9975-4D47-B6C7-D5202257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BD12F-66D4-4DC5-AF7C-7B1BED7A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6CDC4-CA0B-4AD8-B17B-19497F7B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A6E4A-2FD4-4553-80F1-D16EC1CB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AD77B-9014-4147-B6C6-2325FF54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A2B52-5AF8-4A77-90CD-9C5C4052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1D906-FBE2-4E36-A6DA-653AD538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CB66F-3FE0-4984-B58A-5619261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1C7B3-3169-42D0-BABB-97BA9D9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04F0-4F93-4CF5-B07B-20696B9F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1FBB1-1086-41F8-816C-643CEE5F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9881A-06E1-47DD-8CAE-EAA53AD5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F0F23-D74B-4E19-8AD8-36020749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389E9-6E4D-4028-9984-5FA6E2AC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561A2-2521-4862-8D71-EBAD0ACC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CD3C6-16AF-403B-950E-F83118B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F69AB-84A8-4203-8078-922F1CD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83289-3C38-4F5A-A59B-4F7A230D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2E042-166C-4FA3-9BEF-741EB610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93609-A2DF-4140-B35B-0841C76F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38E2-9741-4875-802A-60ECE6C4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F4912-2D73-4374-8D02-E50BF65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8FA43-DED1-4C8B-A984-9548447B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34782-708A-44AB-8E84-DEF2D2DA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663AE-AB2C-4B3A-904D-0294F6D1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CEFB9-C426-4AF8-880E-3B42BE28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505D-99D4-4523-969C-002011DB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3B01-0586-4F68-A65A-44C2CE6C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2423-733B-46E7-8664-E7CC6BCB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C0CA-081C-4EC6-8077-DDE9C910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8AB1-2C2E-4455-894B-71632BD9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620-9002-4E27-857A-FEBA87E8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EE83-385F-4DF0-9179-44339A7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7F6D-59E3-45B8-BE2F-DF4A8DE9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0A8E-5F2E-4418-96C3-E3A172BD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9BEA-E028-4D68-8F49-53F92CFD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9A18-C76D-430A-BD57-B1C8ED72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E289-ED1F-45F4-9287-92903DED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2D26-3BD5-4A81-856B-47EC764C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0888-FAFF-4BD6-ABB6-807BF072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78D6-2A00-4027-8936-6039B198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2B16-D90D-4DFD-AFCE-55A922F1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B17-0028-49F1-BC4C-E61E946F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93C9-488F-4F20-AE8F-D8A4820E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3721-0244-4CDA-BDD3-4D864386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96AB-3D6F-4969-B917-4C62D679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F6E7-E4DC-4625-9D98-7AF50E3E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43FF5-81B9-460F-A041-43DB675E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42D6-80F4-4150-9390-4517220D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9C42-4659-4461-B2E1-CBB70189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E821-99FF-4509-BCB7-51C39396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AB6B7-21BA-4D0E-9A6B-48FA0F40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600F-2D2B-4D9B-AC2E-D01E03C6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1BD-2BF3-48DC-B585-0E5825A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084D-BF08-496C-B4BD-1F629DE9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7C45-3C81-4267-8F5A-648E3AF7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45D6-A252-4C65-9238-C095B2D5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6399-7261-4101-8B01-0361C40D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C1DE0-F648-4C53-806E-D1AF0CB8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51B2E-0192-4611-B46D-2C2E27D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7955-BC8A-456D-88EA-ABADA5EE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D4C3-7E78-45BC-885D-00F018A6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4DEE5-A88C-495B-8FCC-02A8FBD1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2DF40-8152-48CF-8F3E-D0ECFEC1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8D4-86F5-4D65-A7EA-1ECD1464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5F0E5-8A52-4CD1-8081-0E340C0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8126-6E60-4968-8080-80DCD3CA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365D-034D-48F2-B054-7A8A3A7E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1AB8F-04C4-4F9D-80E3-582CFEF2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791BA-AAB9-48D4-999B-03DF36D2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E1AB3-68DC-44C0-A7CC-FB4BA1D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C8A3F-48A7-43A6-B4FF-1D16E89F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FB3D-E8CD-462B-9F28-299E5EEA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542C4-436E-4F2B-A9B3-58C6432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73F23-E86A-4536-A01C-48C3CC33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EA3-AE45-4C82-927F-83ADCD09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1454B-18D4-4645-AF6C-97BB28D9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517D6-2DF0-42DD-B34D-631A866A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4A492-7085-4E11-89D4-7293F5DC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91BCC-4C1A-4610-B238-AD38A9EE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0BBF-543C-4EA8-950A-3868E8D7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06463-8A6D-4B18-AF1F-DC14D8A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8061C-5667-4E9F-B264-F988730A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D24A-C70A-4A69-83CB-D7C31085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9019D-D0D8-4A90-94EF-A8BE7ED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CBFA5-98B8-4100-968E-68FC6CD8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B89-A0A4-419A-95CB-AEEFD12E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81D2-6CFC-453A-816E-A5FC66E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5DC18-8277-418B-AB5D-D7005CA9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99C2-F955-434E-A72A-42D6EB4C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E1DF3-E334-4676-BAC5-2AE9CDFE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AA42-FE11-4F0B-9AB8-1A34F3FC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AB4C-A387-423D-94E5-0A5DA04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68E43-9997-44B7-A8D2-C1FC945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FC509-A3EC-4605-8956-4F72DBF4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7F6F4-3ECB-4552-982B-D49EEB05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C4D3A-F6E6-4B67-8C35-0E02B309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379-B8CC-4C8B-869F-B59BADF2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0852-F321-40EE-B389-B8959022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125CA-804E-44F6-A8A5-728ABDFD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3A887-86D6-4DF9-9B06-B037A7DC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F2E33-78D2-4E7E-9194-3A200683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31C95-4B72-43FE-8E9F-303F035A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BF931-344F-4FE5-A7CB-E61A694C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FCDD-DD08-4707-B125-3AB332A7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1EE8E-66A5-40B8-8B66-624BD13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43417-FE78-4259-B410-2B449521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A4941-527E-4228-B688-4AD93757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7F8-EB6E-4802-BCD0-E400D33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FBF12-66AE-48FE-A9E6-FF4A9771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C389F-1B06-4E36-B971-06B80193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49DB4-B703-4D80-A57C-75A60F47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95080-3A47-4965-8296-CB2B4E6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92C5C-CF26-4676-B03B-615CCD9A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B09A9-4664-4727-9158-D8465554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6B078-3386-4773-9CC0-C5887F06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299CE-ADCA-4D64-9052-3A98B6C0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DB6A6-81C7-4E59-AC51-F96A15E6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524BC-EDA2-4A6C-B599-E7F68C42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80880" y="1066680"/>
            <a:ext cx="8305920" cy="182520"/>
            <a:chOff x="380880" y="1066680"/>
            <a:chExt cx="8305920" cy="182520"/>
          </a:xfrm>
        </p:grpSpPr>
        <p:sp>
          <p:nvSpPr>
            <p:cNvPr id="2" name="Rectangle 4"/>
            <p:cNvSpPr/>
            <p:nvPr/>
          </p:nvSpPr>
          <p:spPr>
            <a:xfrm>
              <a:off x="6858000" y="106668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380880" y="114300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10FE-068D-4FB4-B6B4-EF0B49F443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"/>
          <p:cNvPicPr/>
          <p:nvPr/>
        </p:nvPicPr>
        <p:blipFill>
          <a:blip r:embed="rId2"/>
          <a:srcRect l="0" t="5102" r="0" b="6261"/>
          <a:stretch/>
        </p:blipFill>
        <p:spPr>
          <a:xfrm>
            <a:off x="7696080" y="76320"/>
            <a:ext cx="1028880" cy="911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logo_small2"/>
          <p:cNvPicPr/>
          <p:nvPr/>
        </p:nvPicPr>
        <p:blipFill>
          <a:blip r:embed="rId3"/>
          <a:stretch/>
        </p:blipFill>
        <p:spPr>
          <a:xfrm>
            <a:off x="7162920" y="632448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4"/>
          <p:cNvSpPr/>
          <p:nvPr/>
        </p:nvSpPr>
        <p:spPr>
          <a:xfrm>
            <a:off x="81288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DC66-C3F3-45A9-A98B-BEE514FC8D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B78F-3274-48A9-84AF-BC8457F0FF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F6E9-F2B5-47C0-83E1-D7B9947E73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8763120" cy="5943240"/>
            <a:chOff x="0" y="0"/>
            <a:chExt cx="8763120" cy="594324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3048120"/>
              <a:ext cx="8763120" cy="2895120"/>
              <a:chOff x="0" y="3048120"/>
              <a:chExt cx="8763120" cy="2895120"/>
            </a:xfrm>
          </p:grpSpPr>
          <p:sp>
            <p:nvSpPr>
              <p:cNvPr id="52" name="Rectangle 5"/>
              <p:cNvSpPr/>
              <p:nvPr/>
            </p:nvSpPr>
            <p:spPr>
              <a:xfrm>
                <a:off x="990720" y="3048120"/>
                <a:ext cx="7772400" cy="28951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1038240" y="3319560"/>
                <a:ext cx="7648560" cy="2539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16" descr="logo_small2"/>
          <p:cNvPicPr/>
          <p:nvPr/>
        </p:nvPicPr>
        <p:blipFill>
          <a:blip r:embed="rId2"/>
          <a:stretch/>
        </p:blipFill>
        <p:spPr>
          <a:xfrm>
            <a:off x="7162920" y="640080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C525-409B-4EF0-95E2-96CAFD2FE0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47E4-0D05-4A4E-A361-F358E333CA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B8B8-1D56-4184-AE6C-3D89DBE0EE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66B6-5849-4A7E-89D7-0CCFB11A7F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EF4A-5DD2-4C5B-865C-0D58EF9781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EEC2-F85E-4846-998B-35BECB0C2D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2A8A-FE4C-41A3-BC95-EC08A45458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DAF8-11E7-4F8F-9A28-45A3E427D0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Management</a:t>
            </a:r>
            <a:br>
              <a:rPr sz="3400"/>
            </a:b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application of knowledge, skills, tools and techniques to project activities to meet project requi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Knowledg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Procurement Management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sition and contract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Integration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ing everything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Scope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scop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scope c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Time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and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Cost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you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Quality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ing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Human Resource Management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165240"/>
            <a:ext cx="762012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Communications Management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3276360"/>
            <a:ext cx="77724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Risk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anage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8:23:30Z</dcterms:created>
  <dc:creator>Judy Forest</dc:creator>
  <dc:description/>
  <dc:language>en-US</dc:language>
  <cp:lastModifiedBy>Zeyad Al-Obaidi</cp:lastModifiedBy>
  <dcterms:modified xsi:type="dcterms:W3CDTF">2019-10-21T08:21:04Z</dcterms:modified>
  <cp:revision>24</cp:revision>
  <dc:subject/>
  <dc:title>Project Management Principles and Practises</dc:title>
</cp:coreProperties>
</file>