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move the slide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8068-D710-4B0E-8AA5-87279BA8F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0560-4EFD-499F-B915-7B19C3280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03C1-49FE-45A5-B05A-7DD3E0665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FB6C-50E4-4EE0-A83A-5745132BA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3AA5-37A9-4D61-ABFD-8AFEB0097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7053-D58D-42A2-9622-E573FF04E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AD9B-3F5D-4B5A-8A82-0A82B3A21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375B-4E05-4336-BB8C-C6FA551B9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A1E9-5A15-41B8-94A0-20732EBB9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153B-A98D-4EAB-B113-EB70F9170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4880-0C3C-4ACD-B138-3B9A43317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C23C-4E30-474F-B11F-FD8BFAC12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053D-7234-4E5A-B44C-F443E99EF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2A0C-75FA-4691-954A-C0521928A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A1EC-4509-4AF1-9E37-2B2254669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5F76-6D19-4B94-BFD6-8849E27AE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277C-CA91-4868-976B-C6986C119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7572-C835-4449-9A42-1C6BA386A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6A0F-8352-4716-8932-A0DE4E127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95D3-A4F7-410E-9504-1160F8C1F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9E3D-6A30-43F9-A1E1-6576064EB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FFB8-13D4-40AB-9F0B-D8E57865F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601D-9841-4399-B80B-67D70D3B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1EF40-C06E-4CC6-B4F4-17749311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E8935-41CA-4CF0-AD1F-59E1DD83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9D5F9-A7B3-46AB-BFE1-425AB12D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60149-91F8-41A5-A93C-9267C31C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86260-0571-453B-8587-6F0A3A5B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0C90A-F869-4279-8239-8A562F59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7E017-0A88-40F4-8C62-147E7D6B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BB394-C054-45EF-A529-8850E46A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23648-F980-41DD-89E4-94FAC409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25FC5-A4DD-4943-9F50-06D4EA48C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123D-78A7-4ECE-9A91-D8D8BF60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7BFEBA-759E-4CB5-B9AE-E0210784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827BF9-DF81-45FD-B8E0-0490C99D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22FD9-F1E2-41C8-B0BD-53C7FF24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A63E9-A60E-4DC4-8AFA-934A10DA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784806-CF22-4E30-8DF2-7490C27D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75441-B889-4DF7-B006-E02E80ED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AC7A0-4070-4F95-B345-25B86AC4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A2759A-2EA5-405E-B11F-201A00B4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AC4147-A4C7-4E05-8C03-453258CF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E2247-7D1E-475C-8ED2-9C4CB3B75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63A2-B11C-4BBF-BB21-7B70EBBAD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74D13-192A-4D76-8A1F-1E634D2AF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16B65-74DA-4A3E-8B07-BCD88509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9B01B-42E1-4B17-B297-FC1E5391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0F71F-D3E1-46A2-B8B0-654C3D1C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5E463-4041-4621-9C94-9E7B8E59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93078-3301-42F9-9EE3-C758C223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E79D0-5EE4-4E0C-83D3-05C1B9C9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274AE-3728-443D-8502-01BCE36E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B5F0C-3266-4764-81FA-D3F4E13C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12B94-636B-41B5-8125-D13E91F2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7EF0-31FD-49A3-8E2C-1AED4A51B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F14DC-FDB0-438B-99BC-A15C48D2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060DA-1F7F-41E4-8A11-796DAD7D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A80E2-869E-4780-8FF5-CCF996FEC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34211-76B7-4603-98E2-8913D97D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B50E7-3C33-400A-9A5F-705D6D5A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AB56C-4D0E-4416-AAB9-1143235A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82653F-7BE9-4F31-8D33-F34C53D1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E42308-E7F0-491D-8A9A-F6568398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FEFCB-27DB-4332-A699-E84DA54C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FBDE7-BA02-432D-95CF-F4082D21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8436-9198-47A9-BD43-5B2A944F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90554-0284-431E-BA29-10AAC34E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39A9E-BD57-4D01-9964-3FC87E60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44D0DE-8B78-4320-A6E7-DF43FA1F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700D08-C3CB-47AF-843F-2431F34D7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924AFC-31F1-46EB-982E-6E919D97F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C86B-76B8-42ED-8A66-17EFFFF0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8E10-7430-4A94-80D6-294490D5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5F35-F9F0-4649-93AB-1CBEDA65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6D5B-1AF9-4754-AAAC-F10DCA05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F0F0-9843-42CF-8101-09E65BCD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F655-7265-4E5B-A251-20CAE48A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94A2-C81D-4C57-8BF8-C25A2205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3E67-69F0-4A00-A62B-EBDC626A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3515-0F0F-4D03-A1CD-41C911A4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AED7-7C7E-4A0E-BFF9-32A821C93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68A1-4BF0-46E9-85EC-3E7BBBA58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54A61-AA83-43F2-BD19-A0678C31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0B28E-6EEA-468F-BB5D-50A24B76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B51A1-240C-4256-A331-DD57BF1F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7C167-4C86-4F0A-9524-C8BD3AFF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9F74E-6337-4C15-9B97-5E21507F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522A-87B8-4DA6-B5D0-A710EB70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A97FC-AB02-4498-B1A5-E9E3551B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4C309-2332-4706-A09B-8A515011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020B0-959E-4F2F-A82B-10519E9E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08453-11E3-4885-AA98-845977F1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F7681-8E31-4834-AF20-A8D28D1F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8E212-519A-4F78-8CE1-5B68A249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F3466-7D61-4DD5-A8CC-1B4BED002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EF77F-2A53-4705-BB0A-E156BFD7F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8ACEB-5854-4A34-83DE-C4BA5E53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FD103-270F-47CC-AA2E-544C45D4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FF93-B349-4C68-B679-18AB83BC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11830-4428-4FC5-A35B-26FE3374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392DE-E8F1-4EC6-9619-BFCD08CC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58202-3534-43E6-9B1A-B42B3E3B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FB1D1-E7EC-4A2D-8368-06DF4D97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87F3C-C305-4348-8DE3-1F12C002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54DDD-EA7F-43E3-B54A-DE2FC94C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A380F-8DB2-4350-B4F9-75D7FA65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E479C-67CA-4275-8A39-5B1288BA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96D5B-7742-49C3-9D2C-1F5BCC07F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D1101-59B0-45D5-A775-D585324AD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A1ED-B890-4829-84EB-375C06EA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284BE-C2FC-4CCE-9F5C-F6970646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E42AC-E7E5-4C54-8E45-FA6A7D08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45B24-7766-41A3-9585-D2605CB7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1D525-450C-4710-A189-3CCA644A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C5516-26D7-4D32-AA9F-8BC67529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9704E-887C-42C7-A1FC-AD84303A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C27CC-4384-46C3-8C50-DA6A9FF4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B9EDF-45B9-474C-AD47-55182426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1687D-A672-4B8C-A826-4C42B879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419AD-294F-4357-BC38-B806E679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571A-2BFD-4DDA-9D82-86D6DBE4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05BE5-7CC1-4979-859D-852A697F5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828B1-430D-420F-9DB2-E8B0C780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329C1-2F69-4F09-BF93-D4103C39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302BB-D070-4745-A8DE-3AC48BDA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6CBED-181A-4146-90D0-CBDB7FCC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7C1DE-3949-4B99-B0BF-22CF90BB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C4B4E-2938-4699-A741-5C224676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B4B42-ECE3-4A6F-979E-5AC77CBD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EB881-924B-4426-BEA9-90D8A641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36493-B9C3-4862-ABB0-6F3C4826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09DE-55E1-430D-869A-F00A9C00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9F192-5998-4162-90B2-C298037C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ECD9C-5EED-47DA-92C2-1DE4EDAE6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36B07-F2D9-4079-89A5-15EBCE26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AB7B2-4261-4C34-A3AF-B7980251E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20D81-31B7-4798-B043-42A34DE7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B7643-0305-438E-9443-5F299056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78004-28E8-4A2F-9F9D-C76CBC39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9B128-FC7F-416A-A59D-CB59B201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B39DA-C8A3-4D61-A619-93B2B0ED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53CF0-B276-4D9E-8B59-4841F96F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FD58-BAF7-4540-8BCD-10AA909E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F6ED5-D4A2-41CF-96E2-E42967A5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A9773-EB2D-462F-8822-FB3AF66B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DC1A2-112D-4BE5-B39F-D083517B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4B2B0-CFBA-4222-8CF5-9D24A853D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B026D-CC82-4FD0-8BFE-3A3A3DBA4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9923A-E307-4DCF-BF3B-D5F9AB2BD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B3906-1255-403C-BC99-60CB09A4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BE30A-20CA-40A6-89D6-88024228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DE29B-A418-4145-9053-68098A8A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AD28E-C8A6-4053-A0E6-5EB45F4E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3C54-B732-4D3A-A5B4-72318407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33041-16F8-4A65-8899-ED4C4F29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35AF1-05DF-4411-8F32-DF1D477C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1F403-DF7E-44E4-84AB-21EEDEE0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55E39-0E3E-4EE8-B106-540E5625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AF4A9-60F7-41A0-B567-2C01C662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B5515-1F28-4E91-90ED-EC195D00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45354-ECB3-443B-B436-61D5D1E3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FD528-FD1E-474B-9718-2B205AE9C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B6328-40D5-499C-A75A-6FD349F3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EAD88-FD76-4955-AFEC-F2CD9861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80880" y="1066680"/>
            <a:ext cx="8305920" cy="182520"/>
            <a:chOff x="380880" y="1066680"/>
            <a:chExt cx="8305920" cy="182520"/>
          </a:xfrm>
        </p:grpSpPr>
        <p:sp>
          <p:nvSpPr>
            <p:cNvPr id="2" name="Rectangle 4"/>
            <p:cNvSpPr/>
            <p:nvPr/>
          </p:nvSpPr>
          <p:spPr>
            <a:xfrm>
              <a:off x="6858000" y="1066680"/>
              <a:ext cx="1828800" cy="1825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380880" y="1143000"/>
              <a:ext cx="8305920" cy="0"/>
            </a:xfrm>
            <a:prstGeom prst="line">
              <a:avLst/>
            </a:prstGeom>
            <a:ln w="1908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48DF-C444-4F69-B707-37D1885BED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1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12" descr=""/>
          <p:cNvPicPr/>
          <p:nvPr/>
        </p:nvPicPr>
        <p:blipFill>
          <a:blip r:embed="rId2"/>
          <a:srcRect l="0" t="5102" r="0" b="6261"/>
          <a:stretch/>
        </p:blipFill>
        <p:spPr>
          <a:xfrm>
            <a:off x="7696080" y="76320"/>
            <a:ext cx="1028880" cy="91116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3" descr="logo_small2"/>
          <p:cNvPicPr/>
          <p:nvPr/>
        </p:nvPicPr>
        <p:blipFill>
          <a:blip r:embed="rId3"/>
          <a:stretch/>
        </p:blipFill>
        <p:spPr>
          <a:xfrm>
            <a:off x="7162920" y="6324480"/>
            <a:ext cx="1523880" cy="324000"/>
          </a:xfrm>
          <a:prstGeom prst="rect">
            <a:avLst/>
          </a:prstGeom>
          <a:ln w="0">
            <a:noFill/>
          </a:ln>
        </p:spPr>
      </p:pic>
      <p:sp>
        <p:nvSpPr>
          <p:cNvPr id="12" name="Rectangle 14"/>
          <p:cNvSpPr/>
          <p:nvPr/>
        </p:nvSpPr>
        <p:spPr>
          <a:xfrm>
            <a:off x="812880" y="65530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B91C-E08A-4173-9F1B-C4A37FCF54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3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780D-9D62-435F-B9E7-DC68433701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20B5-3306-4181-8666-C1759D7316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8763120" cy="5943240"/>
            <a:chOff x="0" y="0"/>
            <a:chExt cx="8763120" cy="5943240"/>
          </a:xfrm>
        </p:grpSpPr>
        <p:sp>
          <p:nvSpPr>
            <p:cNvPr id="50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Group 4"/>
            <p:cNvGrpSpPr/>
            <p:nvPr/>
          </p:nvGrpSpPr>
          <p:grpSpPr>
            <a:xfrm>
              <a:off x="0" y="3048120"/>
              <a:ext cx="8763120" cy="2895120"/>
              <a:chOff x="0" y="3048120"/>
              <a:chExt cx="8763120" cy="2895120"/>
            </a:xfrm>
          </p:grpSpPr>
          <p:sp>
            <p:nvSpPr>
              <p:cNvPr id="52" name="Rectangle 5"/>
              <p:cNvSpPr/>
              <p:nvPr/>
            </p:nvSpPr>
            <p:spPr>
              <a:xfrm>
                <a:off x="990720" y="3048120"/>
                <a:ext cx="7772400" cy="289512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6"/>
              <p:cNvSpPr/>
              <p:nvPr/>
            </p:nvSpPr>
            <p:spPr>
              <a:xfrm>
                <a:off x="1038240" y="3319560"/>
                <a:ext cx="7648560" cy="253908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7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6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8" name="Picture 16" descr="logo_small2"/>
          <p:cNvPicPr/>
          <p:nvPr/>
        </p:nvPicPr>
        <p:blipFill>
          <a:blip r:embed="rId2"/>
          <a:stretch/>
        </p:blipFill>
        <p:spPr>
          <a:xfrm>
            <a:off x="7162920" y="6400800"/>
            <a:ext cx="1523880" cy="324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48B6-10FF-48F6-AEA9-C83F077505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07D8-3E32-41CB-8CC0-2B2AFC8FF0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3B39-895B-4FF7-9536-FB4CFAA974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C8C4-D432-459F-A9EF-5FCD2E2A6F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4ACE-5722-4614-B41C-EEE8F0814B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36CE-5EFE-485E-A8CD-EB918EAFC3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B84A-3BAA-4940-85FD-177BB140DB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BEA7-195C-4D5F-A138-00DBE4CCBD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Project Life Cycle</a:t>
            </a:r>
            <a:endParaRPr b="0" lang="en-US" sz="3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5" descr="project-lifecycle-v2"/>
          <p:cNvPicPr/>
          <p:nvPr/>
        </p:nvPicPr>
        <p:blipFill>
          <a:blip r:embed="rId1"/>
          <a:stretch/>
        </p:blipFill>
        <p:spPr>
          <a:xfrm>
            <a:off x="1378080" y="1295280"/>
            <a:ext cx="5535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takeholder Identification</a:t>
            </a:r>
            <a:endParaRPr b="0" lang="en-US" sz="3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keholder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stakeholders to 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spon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mana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e with every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 conflicts in pri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The Customer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the product or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internal or exte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have multiple categ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Project Sponsor</a:t>
            </a: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shares responsibility for project suc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uthority to make decisions and may provide f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come political and organizational obsta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teering Committee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of stakeholders who approve and agree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Working Committee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 managers who are responsible for delivering business results once the project is comple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Functional Managers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manage or supply people that work on the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be communicated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heir commitment to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Activity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as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stake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spon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Mana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ering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Business Case</a:t>
            </a:r>
            <a:endParaRPr b="0" lang="en-US" sz="3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s why the project is undert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that were consi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 that are hoped to be re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-level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-level costs &amp; 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/benefit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Feasibility Study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eneral estimate used to determine whether a particular project should be pursu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Business Goals &amp; Objectives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understa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 (the need for the project and the measurable benef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to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s of timeline, resource requirements and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Project Definition Phase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Project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the Project Ch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 a Feasibility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Planning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 off on the Project Ch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MART goals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–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– Measu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– Agreed 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– Rea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– Time re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Project Planning Phase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 and staff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 Project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 off on the Project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Project Execution Phase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e the Project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 the Project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the project’s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 off on project’s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Project Close-out Phase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the lessons learned during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-implementation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performanc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-out con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administrative close-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 project completion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Project Life Cycle Flow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Group 37"/>
          <p:cNvGrpSpPr/>
          <p:nvPr/>
        </p:nvGrpSpPr>
        <p:grpSpPr>
          <a:xfrm>
            <a:off x="595080" y="1600200"/>
            <a:ext cx="8091720" cy="4559400"/>
            <a:chOff x="595080" y="1600200"/>
            <a:chExt cx="8091720" cy="4559400"/>
          </a:xfrm>
        </p:grpSpPr>
        <p:sp>
          <p:nvSpPr>
            <p:cNvPr id="531" name="Text Box 18"/>
            <p:cNvSpPr/>
            <p:nvPr/>
          </p:nvSpPr>
          <p:spPr>
            <a:xfrm>
              <a:off x="6784200" y="541008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n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Group 36"/>
            <p:cNvGrpSpPr/>
            <p:nvPr/>
          </p:nvGrpSpPr>
          <p:grpSpPr>
            <a:xfrm>
              <a:off x="595080" y="1600200"/>
              <a:ext cx="8091720" cy="4559400"/>
              <a:chOff x="595080" y="1600200"/>
              <a:chExt cx="8091720" cy="4559400"/>
            </a:xfrm>
          </p:grpSpPr>
          <p:sp>
            <p:nvSpPr>
              <p:cNvPr id="533" name="Rectangle 5"/>
              <p:cNvSpPr/>
              <p:nvPr/>
            </p:nvSpPr>
            <p:spPr>
              <a:xfrm>
                <a:off x="2819520" y="3429000"/>
                <a:ext cx="2895480" cy="17524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4" name="Group 19"/>
              <p:cNvGrpSpPr/>
              <p:nvPr/>
            </p:nvGrpSpPr>
            <p:grpSpPr>
              <a:xfrm>
                <a:off x="2819520" y="1600200"/>
                <a:ext cx="5867280" cy="3581280"/>
                <a:chOff x="2819520" y="1600200"/>
                <a:chExt cx="5867280" cy="3581280"/>
              </a:xfrm>
            </p:grpSpPr>
            <p:sp>
              <p:nvSpPr>
                <p:cNvPr id="535" name="Rectangle 6"/>
                <p:cNvSpPr/>
                <p:nvPr/>
              </p:nvSpPr>
              <p:spPr>
                <a:xfrm>
                  <a:off x="5715000" y="3429000"/>
                  <a:ext cx="2971800" cy="175248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Text Box 8"/>
                <p:cNvSpPr/>
                <p:nvPr/>
              </p:nvSpPr>
              <p:spPr>
                <a:xfrm>
                  <a:off x="3505320" y="3962520"/>
                  <a:ext cx="12189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roblem Spac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Text Box 9"/>
                <p:cNvSpPr/>
                <p:nvPr/>
              </p:nvSpPr>
              <p:spPr>
                <a:xfrm>
                  <a:off x="6553080" y="4038480"/>
                  <a:ext cx="12193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artial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nswer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Rectangle 10"/>
                <p:cNvSpPr/>
                <p:nvPr/>
              </p:nvSpPr>
              <p:spPr>
                <a:xfrm>
                  <a:off x="2819520" y="1600200"/>
                  <a:ext cx="2895480" cy="182880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Rectangle 11"/>
                <p:cNvSpPr/>
                <p:nvPr/>
              </p:nvSpPr>
              <p:spPr>
                <a:xfrm>
                  <a:off x="5715000" y="1600200"/>
                  <a:ext cx="2971800" cy="182880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Text Box 12"/>
                <p:cNvSpPr/>
                <p:nvPr/>
              </p:nvSpPr>
              <p:spPr>
                <a:xfrm>
                  <a:off x="3505320" y="2057400"/>
                  <a:ext cx="12189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artial Answer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Text Box 14"/>
                <p:cNvSpPr/>
                <p:nvPr/>
              </p:nvSpPr>
              <p:spPr>
                <a:xfrm>
                  <a:off x="6553080" y="2209680"/>
                  <a:ext cx="12193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Solution Spac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" name="Text Box 15"/>
              <p:cNvSpPr/>
              <p:nvPr/>
            </p:nvSpPr>
            <p:spPr>
              <a:xfrm>
                <a:off x="3584160" y="5334120"/>
                <a:ext cx="134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on’t Kno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Text Box 16"/>
              <p:cNvSpPr/>
              <p:nvPr/>
            </p:nvSpPr>
            <p:spPr>
              <a:xfrm>
                <a:off x="1298160" y="4114800"/>
                <a:ext cx="134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on’t Kno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Text Box 17"/>
              <p:cNvSpPr/>
              <p:nvPr/>
            </p:nvSpPr>
            <p:spPr>
              <a:xfrm>
                <a:off x="1755000" y="2438280"/>
                <a:ext cx="750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Kno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Text Box 21"/>
              <p:cNvSpPr/>
              <p:nvPr/>
            </p:nvSpPr>
            <p:spPr>
              <a:xfrm>
                <a:off x="595080" y="2932200"/>
                <a:ext cx="74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HO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Text Box 22"/>
              <p:cNvSpPr/>
              <p:nvPr/>
            </p:nvSpPr>
            <p:spPr>
              <a:xfrm>
                <a:off x="5335560" y="5791320"/>
                <a:ext cx="86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HA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7" name="Group 25"/>
          <p:cNvGrpSpPr/>
          <p:nvPr/>
        </p:nvGrpSpPr>
        <p:grpSpPr>
          <a:xfrm>
            <a:off x="4114800" y="4648320"/>
            <a:ext cx="2514600" cy="520560"/>
            <a:chOff x="4114800" y="4648320"/>
            <a:chExt cx="2514600" cy="520560"/>
          </a:xfrm>
        </p:grpSpPr>
        <p:sp>
          <p:nvSpPr>
            <p:cNvPr id="548" name="Line 23"/>
            <p:cNvSpPr/>
            <p:nvPr/>
          </p:nvSpPr>
          <p:spPr>
            <a:xfrm>
              <a:off x="4114800" y="4648320"/>
              <a:ext cx="251460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24"/>
            <p:cNvSpPr/>
            <p:nvPr/>
          </p:nvSpPr>
          <p:spPr>
            <a:xfrm>
              <a:off x="4386600" y="4800600"/>
              <a:ext cx="197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ct Defini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Group 32"/>
          <p:cNvGrpSpPr/>
          <p:nvPr/>
        </p:nvGrpSpPr>
        <p:grpSpPr>
          <a:xfrm>
            <a:off x="4343400" y="2495160"/>
            <a:ext cx="2522520" cy="1619640"/>
            <a:chOff x="4343400" y="2495160"/>
            <a:chExt cx="2522520" cy="1619640"/>
          </a:xfrm>
        </p:grpSpPr>
        <p:sp>
          <p:nvSpPr>
            <p:cNvPr id="551" name="Line 30"/>
            <p:cNvSpPr/>
            <p:nvPr/>
          </p:nvSpPr>
          <p:spPr>
            <a:xfrm flipH="1" flipV="1">
              <a:off x="4343400" y="2743200"/>
              <a:ext cx="2286000" cy="13716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31"/>
            <p:cNvSpPr/>
            <p:nvPr/>
          </p:nvSpPr>
          <p:spPr>
            <a:xfrm rot="1901400">
              <a:off x="4723560" y="304812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ct Plan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33"/>
          <p:cNvGrpSpPr/>
          <p:nvPr/>
        </p:nvGrpSpPr>
        <p:grpSpPr>
          <a:xfrm>
            <a:off x="4343400" y="1905120"/>
            <a:ext cx="2819520" cy="520560"/>
            <a:chOff x="4343400" y="1905120"/>
            <a:chExt cx="2819520" cy="520560"/>
          </a:xfrm>
        </p:grpSpPr>
        <p:sp>
          <p:nvSpPr>
            <p:cNvPr id="554" name="Line 34"/>
            <p:cNvSpPr/>
            <p:nvPr/>
          </p:nvSpPr>
          <p:spPr>
            <a:xfrm>
              <a:off x="4343400" y="1905120"/>
              <a:ext cx="28195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35"/>
            <p:cNvSpPr/>
            <p:nvPr/>
          </p:nvSpPr>
          <p:spPr>
            <a:xfrm>
              <a:off x="4648320" y="205740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ec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Unit 1 Review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Project Manag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Functional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ife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057040" y="1142640"/>
            <a:ext cx="6629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Unit 2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1371600" y="3451320"/>
            <a:ext cx="6858000" cy="22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Project Definition 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keholder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8:23:30Z</dcterms:created>
  <dc:creator>Judy Forest</dc:creator>
  <dc:description/>
  <dc:language>en-US</dc:language>
  <cp:lastModifiedBy>Zeyad Al-Obaidi</cp:lastModifiedBy>
  <dcterms:modified xsi:type="dcterms:W3CDTF">2019-10-21T08:22:11Z</dcterms:modified>
  <cp:revision>25</cp:revision>
  <dc:subject/>
  <dc:title>Project Management Principles and Practises</dc:title>
</cp:coreProperties>
</file>