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move the slid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65F9-5959-478D-B8B9-721C24A34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6B36-EF31-4F7B-BCEC-7F339F9FA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AF39-44E3-4DCC-94E2-13E7B70E3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8511-0142-4D12-AD3F-110EAF96A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3730-F02E-41FA-BF4C-476FFE085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DFF0-7610-4A9B-B923-68F305985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583A-6C04-49AE-BE40-6E4A4B80F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EAC5-32E7-49CA-ADFA-BBEDF9FE1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0A73-CAEA-4A28-855B-D8E52B3C0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0626-BF8F-4AD4-B726-E9A1CD645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8292-A8E2-4941-947C-EDB61FF1A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E497-D888-42F8-A6C7-652B4805E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FEB6-4B03-48E7-8AF1-AD403F30A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2A7B-9BEC-4BD0-97D2-D70112B49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94E8-9A09-48CE-BA49-DE7501E2E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B1D4-C844-4F00-8E22-1D340C5B0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DCA5-5EC8-4882-BD40-2456DD81C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1BE9-E9CF-4367-B8A3-7C975BF2C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7E2E-EC04-4B04-871A-6910854F2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2F03-1737-41ED-839C-94D66E5D2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7507-759C-4A40-B531-E5D73BC87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C2B-CEAE-4A39-A94D-88DECF0C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4391-8987-435E-AD8D-E9860BA7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0457C-B56D-4E10-8E3F-79FAB0E3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A39AC-96E0-4B89-9F32-AEA8B1A8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5911E-EB6A-4A4D-ADAD-DB927F59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55BEE-2159-4CEB-A9FD-3050A6AE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05620-30E8-4374-9EC8-D27B81BE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B5D59-1FBF-4345-AF06-D945C160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C05A3-2C1B-461E-B5E2-DE5C2CF2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7C760-B6EA-4EF0-AFEF-3AD7171E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B2DF8-7C12-4FCF-AC3A-5A15B68D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3C280-8C65-496C-B71A-BD9E41A7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49A-6181-4DC0-8239-45A5E083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E2AB7-E704-44C8-B5F7-D5A9629C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13454-A295-445C-A37F-110CFA46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39FA6-93DE-4497-A7CE-D88B1E3A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C6AF4-7DC5-4345-97A8-1E5E6C39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A0E22-F3D2-499A-BB43-FF5CD95A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57C22-0697-4C45-986E-DEE5B88B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EC956-9187-4E19-A453-D227446E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BEC50-32E1-45B3-8AC2-43C2E280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76062-B227-4CA6-B718-222710E3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9134F-9305-4B8C-BCC2-283DDE7E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6859-A1A1-4977-835A-CAB82BCC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01BA9-8903-41F5-8FF0-72FF8737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7097F-9CC6-4D2A-91F6-1E4F03F3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D3AE8-C48F-4886-A675-3F31FC4C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A2903-5D4C-42C5-BF31-652952BE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B448B-74B0-4F4D-AB09-BCE55EC6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A3084-3101-418E-9301-4F95DBDE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1E604-BFB1-4353-B37D-94D04F01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6CE04-6D50-4A9C-A2BA-9DFFF4BB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2168E-1EA7-4D46-BA79-1B4BCEAA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EBF0F-840A-4DE4-8C4C-06361E98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3851-D51E-43DC-9F4C-02CE5B04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93F36-F3F6-4314-B260-F527E88F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81FD1-3E3E-478A-A904-B30A99EF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FD715-EAE1-491F-A652-95FBFD31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353AC-1665-42F1-9DB1-0A30CF4B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58E92-547A-42F0-97E9-CD287A6F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46A04-2712-421C-B3E4-382D6220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8FC70-10BC-452B-844F-702461DF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09C7E-B9B7-484B-A809-0B623829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47C78-CBDB-49D3-9701-82A746E4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4421B-6D63-4F7A-A857-165B9FF1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9F7D-7E1A-4147-8462-BBE41903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F596C-7BE1-4D06-8D2D-BFD1B0CA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121F6-238F-43AB-95AB-512A06EB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C7F3B-F543-41F8-9A2B-016348C1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F5BC2-8848-4311-B5F7-065E6CCB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33AE8-F165-4A58-9EFF-0189687A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1149-A081-439B-B62C-1538F7E2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0B64-993F-4F29-8556-1FD470C5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74EA-DAC5-4DCF-92F5-1C380909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C05B-F797-4EE2-8E92-491B0AB6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30EA-AE7C-4295-82F9-84092AF6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440-60D0-4ACB-9209-49FA79AD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1BED-9EAD-4881-A944-ADA52D49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6367-CC33-4B17-ADFB-0AB5851F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E294-83D6-4034-BE97-AE526FA7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E764-FE51-4839-993A-3A99CEA4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28E5-8E3A-4B4D-B756-C13531A4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5CCC5-05BC-4818-B332-FACFE691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0A8D7-D1A6-4B84-8C83-434F9816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D1358-F5D3-418F-97A6-94CDAB89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37D12-43B6-47E6-8703-2A7DBBF8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891B1-B584-4A56-8C78-EABCCE77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ABF-6B3B-4ACB-A888-686C6D14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9945F-B41A-4726-B3E2-C8A0FEF7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B215D-591B-435D-9EB7-2D455FB7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32B60-8245-442A-87BB-4A231EA5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EE54C-887E-44F6-8B9E-32E01742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67809-7B88-44F9-9B74-C8C6CF2E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C7FD9-E156-4A6B-86FB-7910D9D1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AB56C-416F-41E1-A551-E913E178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6F012-60FB-4A2B-A8CF-3DB1CBCD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614A4-3E29-429A-9D85-D9A4CE69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B10C0-833D-4D8D-AFD9-814269DF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461C-BBA8-4A9E-9A6B-1B3A6209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33335-C161-4799-8DFE-28C2F872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4FD13-7FA0-472F-BA29-EC1522F1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334E9-E611-49DB-AFCD-DB93A354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2178C-9203-44B5-9C23-F7D73194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552BD-0057-4F45-9C03-098CE79B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9175C-CF71-4D72-8CF8-B690F9BE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F3A6B-C796-4426-B3A3-5060B56A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B0438-E6C7-4F1D-8AFF-744E17E4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DDCBF-07B2-4D11-8527-2EB2B2AF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F267E-4060-4ADA-A037-4BEA311A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603-1313-48B8-9E20-18E07246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F180B-627F-46AC-88FF-814FEAD4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7B125-E166-471D-A777-1A19D973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CE9D2-FC68-479F-AFC5-6331AD30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D49CB-6F5F-438E-9E03-B76EA609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44B29-015B-4B13-8235-67FAB540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03011-D414-4652-AFF6-A2B53402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B8100-D5AE-43E0-B19E-FDD6A1B6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0A1CB-1873-4FC6-88F9-CA0541F7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D998F-4A43-4507-86DE-7089B876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F2612-548D-4C32-B15E-40F1E905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8AD-99B5-4338-AF2C-8DE41C70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10593-AD12-40E0-811A-D0A87CEE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2AE90-B2A4-453C-8800-A226F0B6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018EF-3A34-4BDE-8C9B-63D7C33C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2151E-925F-47BC-BC98-9F4BDECA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D7C65-754B-468A-BDD2-E2D29F6C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4202D-7856-44BA-8AE0-1196F53A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D78B9-E45F-4DA7-ACF7-26540BF1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EA697-2B34-4B83-9F14-552E3809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5608B-5B37-4536-9C2B-EC7E55C2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703C2-52D2-4D43-9937-5F9A1008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0FB3-E4A1-40C5-9157-6F2EAE3B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0BB01-B893-42AB-9644-FAA75599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FE940-C9F4-43E0-B088-08A8532A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65FE4-1941-4049-9A1E-381D4B1F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E04D6-ADF4-4698-A8E3-6A868858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E8C34-C34B-42FF-BEBB-D11892E3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DAB3C-4A41-4C9D-94EB-55C9A13A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C97DE-6A9E-43C4-801D-85771FE0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0121E-8D9A-431D-8BEF-7C5E758F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035AD-086B-4522-8F36-E5EEB7E6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F0208-33F9-4DB6-ACE7-A2604664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EFE-73E8-4954-A3CB-0F651545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B610F-0856-4BCB-9199-F175D201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3360C-FF41-4214-9BC4-D9DE8060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5BAC1-0B56-4828-92FF-65D78FC9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0EE6C-F758-4492-A62B-D0F296E2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2A468-2EC3-4DAD-8516-9BF05FF9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62A32-E190-4924-9FB5-4F0E069C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0CB06-07E0-4680-B031-941AC553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4EC4A-1FA1-4C2F-A28A-5E192DFC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E4D1E-DEB9-4E70-9551-B3A1FF40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70336-0B33-486D-9710-B861EA55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C3A-7F78-41E7-B04D-43B054A7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3A420-05F8-4A64-94A0-8911A6FB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540C0-4CD5-4FB7-A26E-FD08029E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D0A33-B9B7-4B10-91AB-A4E7ED62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AEAA2-905A-4A35-9CA3-47B268B3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84B58-D1F9-40CB-8F4C-7819A3FD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D3800-9557-45C5-9220-5FE1299F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49B1E-78C3-43DD-914D-895AE4BD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68A2D-22BD-496D-B366-9F6139AE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5A5D7-5EF1-4AE0-8381-6286B3C3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A9B3D-CB44-4F4C-91D4-DC3AB18B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80880" y="1066680"/>
            <a:ext cx="8305920" cy="182520"/>
            <a:chOff x="380880" y="1066680"/>
            <a:chExt cx="8305920" cy="182520"/>
          </a:xfrm>
        </p:grpSpPr>
        <p:sp>
          <p:nvSpPr>
            <p:cNvPr id="2" name="Rectangle 4"/>
            <p:cNvSpPr/>
            <p:nvPr/>
          </p:nvSpPr>
          <p:spPr>
            <a:xfrm>
              <a:off x="6858000" y="1066680"/>
              <a:ext cx="182880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380880" y="1143000"/>
              <a:ext cx="830592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AE62-E911-4FF4-A94E-1CB77CC820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2" descr=""/>
          <p:cNvPicPr/>
          <p:nvPr/>
        </p:nvPicPr>
        <p:blipFill>
          <a:blip r:embed="rId2"/>
          <a:srcRect l="0" t="5102" r="0" b="6261"/>
          <a:stretch/>
        </p:blipFill>
        <p:spPr>
          <a:xfrm>
            <a:off x="7696080" y="76320"/>
            <a:ext cx="1028880" cy="9111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3" descr="logo_small2"/>
          <p:cNvPicPr/>
          <p:nvPr/>
        </p:nvPicPr>
        <p:blipFill>
          <a:blip r:embed="rId3"/>
          <a:stretch/>
        </p:blipFill>
        <p:spPr>
          <a:xfrm>
            <a:off x="7162920" y="6324480"/>
            <a:ext cx="1523880" cy="32400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14"/>
          <p:cNvSpPr/>
          <p:nvPr/>
        </p:nvSpPr>
        <p:spPr>
          <a:xfrm>
            <a:off x="812880" y="65530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6208-0272-43CE-8C52-C5622DEDE6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0FD6-E778-4324-9DAE-1B758F6C99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D1AC-E241-4B5F-ACD1-AF669A1F97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8763120" cy="5943240"/>
            <a:chOff x="0" y="0"/>
            <a:chExt cx="8763120" cy="594324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4"/>
            <p:cNvGrpSpPr/>
            <p:nvPr/>
          </p:nvGrpSpPr>
          <p:grpSpPr>
            <a:xfrm>
              <a:off x="0" y="3048120"/>
              <a:ext cx="8763120" cy="2895120"/>
              <a:chOff x="0" y="3048120"/>
              <a:chExt cx="8763120" cy="2895120"/>
            </a:xfrm>
          </p:grpSpPr>
          <p:sp>
            <p:nvSpPr>
              <p:cNvPr id="52" name="Rectangle 5"/>
              <p:cNvSpPr/>
              <p:nvPr/>
            </p:nvSpPr>
            <p:spPr>
              <a:xfrm>
                <a:off x="990720" y="3048120"/>
                <a:ext cx="7772400" cy="289512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6"/>
              <p:cNvSpPr/>
              <p:nvPr/>
            </p:nvSpPr>
            <p:spPr>
              <a:xfrm>
                <a:off x="1038240" y="3319560"/>
                <a:ext cx="7648560" cy="253908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6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8" name="Picture 16" descr="logo_small2"/>
          <p:cNvPicPr/>
          <p:nvPr/>
        </p:nvPicPr>
        <p:blipFill>
          <a:blip r:embed="rId2"/>
          <a:stretch/>
        </p:blipFill>
        <p:spPr>
          <a:xfrm>
            <a:off x="7162920" y="6400800"/>
            <a:ext cx="1523880" cy="324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CCB0-8291-4790-8EDF-8DA122E76F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18A6-1EA3-498E-99F5-7CD3C9AA28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A5AE-B591-4C4E-B863-A1138AFC83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D775-8A2A-4515-88DA-5DECEE5B04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68D2-5680-4B15-9EE5-FF8DE1F852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3325-EFB8-487D-B83E-0020BB7B5D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231B-B335-4EA8-A740-11F8998B95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DD5D-0106-4EBB-8A1A-D401AA543E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Project Life Cycle</a:t>
            </a:r>
            <a:endParaRPr b="0" lang="en-US" sz="3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5" descr="project-lifecycle-v2"/>
          <p:cNvPicPr/>
          <p:nvPr/>
        </p:nvPicPr>
        <p:blipFill>
          <a:blip r:embed="rId1"/>
          <a:stretch/>
        </p:blipFill>
        <p:spPr>
          <a:xfrm>
            <a:off x="1378080" y="1295280"/>
            <a:ext cx="5535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takeholder Identification</a:t>
            </a:r>
            <a:endParaRPr b="0" lang="en-US" sz="3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keholder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stakeholders to 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spon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e with every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 conflicts in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The Customer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the product o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internal or ex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have multiple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Sponsor</a:t>
            </a: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hares responsibility for project suc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uthority to make decisions and may provide 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come political and organizational obsta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teering Committe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of stakeholders who approve and agree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Working Committe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managers who are responsible for delivering business results once the project is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unctional Managers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manage or supply people that work on the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be communicat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heir commitment to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Activity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spon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Business Case</a:t>
            </a:r>
            <a:endParaRPr b="0" lang="en-US" sz="3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why the project is under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that were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that are hoped to be re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level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level costs &amp;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/benefit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easibility Study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ral estimate used to determine whether a particular project should be pursu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Business Goals &amp; Objectives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underst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(the need for the project and the measurable benef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s of timeline, resource requirements an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Definition Phas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Project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the Project 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a Feasibility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Planning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off on the Project 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MART goals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–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– Meas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– Agreed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–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– Time 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Planning Phas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and staf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Projec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off on the Projec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Execution Phas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e the Projec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 the Projec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the project’s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off on project’s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Close-out Phas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the lessons learned during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-implementation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performanc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-out 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dministrative close-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 project complet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Life Cycle Flow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37"/>
          <p:cNvGrpSpPr/>
          <p:nvPr/>
        </p:nvGrpSpPr>
        <p:grpSpPr>
          <a:xfrm>
            <a:off x="595080" y="1600200"/>
            <a:ext cx="8091720" cy="4559400"/>
            <a:chOff x="595080" y="1600200"/>
            <a:chExt cx="8091720" cy="4559400"/>
          </a:xfrm>
        </p:grpSpPr>
        <p:sp>
          <p:nvSpPr>
            <p:cNvPr id="531" name="Text Box 18"/>
            <p:cNvSpPr/>
            <p:nvPr/>
          </p:nvSpPr>
          <p:spPr>
            <a:xfrm>
              <a:off x="6784200" y="541008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n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36"/>
            <p:cNvGrpSpPr/>
            <p:nvPr/>
          </p:nvGrpSpPr>
          <p:grpSpPr>
            <a:xfrm>
              <a:off x="595080" y="1600200"/>
              <a:ext cx="8091720" cy="4559400"/>
              <a:chOff x="595080" y="1600200"/>
              <a:chExt cx="8091720" cy="4559400"/>
            </a:xfrm>
          </p:grpSpPr>
          <p:sp>
            <p:nvSpPr>
              <p:cNvPr id="533" name="Rectangle 5"/>
              <p:cNvSpPr/>
              <p:nvPr/>
            </p:nvSpPr>
            <p:spPr>
              <a:xfrm>
                <a:off x="2819520" y="3429000"/>
                <a:ext cx="2895480" cy="1752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" name="Group 19"/>
              <p:cNvGrpSpPr/>
              <p:nvPr/>
            </p:nvGrpSpPr>
            <p:grpSpPr>
              <a:xfrm>
                <a:off x="2819520" y="1600200"/>
                <a:ext cx="5867280" cy="3581280"/>
                <a:chOff x="2819520" y="1600200"/>
                <a:chExt cx="5867280" cy="3581280"/>
              </a:xfrm>
            </p:grpSpPr>
            <p:sp>
              <p:nvSpPr>
                <p:cNvPr id="535" name="Rectangle 6"/>
                <p:cNvSpPr/>
                <p:nvPr/>
              </p:nvSpPr>
              <p:spPr>
                <a:xfrm>
                  <a:off x="5715000" y="3429000"/>
                  <a:ext cx="2971800" cy="17524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Text Box 8"/>
                <p:cNvSpPr/>
                <p:nvPr/>
              </p:nvSpPr>
              <p:spPr>
                <a:xfrm>
                  <a:off x="3505320" y="3962520"/>
                  <a:ext cx="1218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roblem Spac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Text Box 9"/>
                <p:cNvSpPr/>
                <p:nvPr/>
              </p:nvSpPr>
              <p:spPr>
                <a:xfrm>
                  <a:off x="6553080" y="4038480"/>
                  <a:ext cx="1219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artial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sw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Rectangle 10"/>
                <p:cNvSpPr/>
                <p:nvPr/>
              </p:nvSpPr>
              <p:spPr>
                <a:xfrm>
                  <a:off x="2819520" y="1600200"/>
                  <a:ext cx="2895480" cy="182880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Rectangle 11"/>
                <p:cNvSpPr/>
                <p:nvPr/>
              </p:nvSpPr>
              <p:spPr>
                <a:xfrm>
                  <a:off x="5715000" y="1600200"/>
                  <a:ext cx="2971800" cy="18288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Text Box 12"/>
                <p:cNvSpPr/>
                <p:nvPr/>
              </p:nvSpPr>
              <p:spPr>
                <a:xfrm>
                  <a:off x="3505320" y="2057400"/>
                  <a:ext cx="1218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artial Answ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Text Box 14"/>
                <p:cNvSpPr/>
                <p:nvPr/>
              </p:nvSpPr>
              <p:spPr>
                <a:xfrm>
                  <a:off x="6553080" y="2209680"/>
                  <a:ext cx="1219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olution Spac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Text Box 15"/>
              <p:cNvSpPr/>
              <p:nvPr/>
            </p:nvSpPr>
            <p:spPr>
              <a:xfrm>
                <a:off x="3584160" y="5334120"/>
                <a:ext cx="134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on’t Kn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16"/>
              <p:cNvSpPr/>
              <p:nvPr/>
            </p:nvSpPr>
            <p:spPr>
              <a:xfrm>
                <a:off x="1298160" y="4114800"/>
                <a:ext cx="134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on’t Kn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17"/>
              <p:cNvSpPr/>
              <p:nvPr/>
            </p:nvSpPr>
            <p:spPr>
              <a:xfrm>
                <a:off x="1755000" y="2438280"/>
                <a:ext cx="75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Kn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Text Box 21"/>
              <p:cNvSpPr/>
              <p:nvPr/>
            </p:nvSpPr>
            <p:spPr>
              <a:xfrm>
                <a:off x="595080" y="2932200"/>
                <a:ext cx="74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22"/>
              <p:cNvSpPr/>
              <p:nvPr/>
            </p:nvSpPr>
            <p:spPr>
              <a:xfrm>
                <a:off x="5335560" y="579132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H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7" name="Group 25"/>
          <p:cNvGrpSpPr/>
          <p:nvPr/>
        </p:nvGrpSpPr>
        <p:grpSpPr>
          <a:xfrm>
            <a:off x="4114800" y="4648320"/>
            <a:ext cx="2514600" cy="520560"/>
            <a:chOff x="4114800" y="4648320"/>
            <a:chExt cx="2514600" cy="520560"/>
          </a:xfrm>
        </p:grpSpPr>
        <p:sp>
          <p:nvSpPr>
            <p:cNvPr id="548" name="Line 23"/>
            <p:cNvSpPr/>
            <p:nvPr/>
          </p:nvSpPr>
          <p:spPr>
            <a:xfrm>
              <a:off x="4114800" y="4648320"/>
              <a:ext cx="25146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24"/>
            <p:cNvSpPr/>
            <p:nvPr/>
          </p:nvSpPr>
          <p:spPr>
            <a:xfrm>
              <a:off x="4386600" y="4800600"/>
              <a:ext cx="19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Defin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32"/>
          <p:cNvGrpSpPr/>
          <p:nvPr/>
        </p:nvGrpSpPr>
        <p:grpSpPr>
          <a:xfrm>
            <a:off x="4343400" y="2495160"/>
            <a:ext cx="2522520" cy="1619640"/>
            <a:chOff x="4343400" y="2495160"/>
            <a:chExt cx="2522520" cy="1619640"/>
          </a:xfrm>
        </p:grpSpPr>
        <p:sp>
          <p:nvSpPr>
            <p:cNvPr id="551" name="Line 30"/>
            <p:cNvSpPr/>
            <p:nvPr/>
          </p:nvSpPr>
          <p:spPr>
            <a:xfrm flipH="1" flipV="1">
              <a:off x="4343400" y="2743200"/>
              <a:ext cx="2286000" cy="1371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31"/>
            <p:cNvSpPr/>
            <p:nvPr/>
          </p:nvSpPr>
          <p:spPr>
            <a:xfrm rot="1901400">
              <a:off x="4723560" y="304812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3"/>
          <p:cNvGrpSpPr/>
          <p:nvPr/>
        </p:nvGrpSpPr>
        <p:grpSpPr>
          <a:xfrm>
            <a:off x="4343400" y="1905120"/>
            <a:ext cx="2819520" cy="520560"/>
            <a:chOff x="4343400" y="1905120"/>
            <a:chExt cx="2819520" cy="520560"/>
          </a:xfrm>
        </p:grpSpPr>
        <p:sp>
          <p:nvSpPr>
            <p:cNvPr id="554" name="Line 34"/>
            <p:cNvSpPr/>
            <p:nvPr/>
          </p:nvSpPr>
          <p:spPr>
            <a:xfrm>
              <a:off x="4343400" y="1905120"/>
              <a:ext cx="28195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35"/>
            <p:cNvSpPr/>
            <p:nvPr/>
          </p:nvSpPr>
          <p:spPr>
            <a:xfrm>
              <a:off x="4648320" y="205740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ec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Unit 1 Review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roject Manag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Functiona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if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057040" y="11426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Unit 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371600" y="3451320"/>
            <a:ext cx="6858000" cy="22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Definition 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keholder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8:23:30Z</dcterms:created>
  <dc:creator>Judy Forest</dc:creator>
  <dc:description/>
  <dc:language>en-US</dc:language>
  <cp:lastModifiedBy>Zeyad Al-Obaidi</cp:lastModifiedBy>
  <dcterms:modified xsi:type="dcterms:W3CDTF">2019-10-21T08:22:11Z</dcterms:modified>
  <cp:revision>25</cp:revision>
  <dc:subject/>
  <dc:title>Project Management Principles and Practises</dc:title>
</cp:coreProperties>
</file>