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045E-B40D-4498-9D9B-9AD58D9E3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17D3-C54B-4970-8CE2-DA9AC55B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756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DBE4-8970-49B2-9386-0578F4C6B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D7B8-2A2F-4A38-BB9E-4D205DC4D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A206-1C8A-4975-816B-B80C338DD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17A4-73E2-4B3F-8826-6067E890E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BC1A1-77D9-4E74-909A-2C98D007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15E66-3346-40A7-88C7-A9EDB483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91A4-3C49-4061-B6AF-0E9B77B9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AF109-99E6-4242-8A23-DB25D91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4A979-B7A4-4AEA-BE24-C8516F96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42577-338E-4E26-9D71-19790128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961C9-BEE3-483F-B89B-6048F4F5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5A4A-04B0-4F87-BACB-CB7162F1A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A86FB-7319-41ED-9449-D6EE5D4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D5AEE-A7CE-4148-AB97-797C606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BDF5E-9FA8-4D3E-88EA-04B653DD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7C663-FC76-4D74-ADBF-1C1C87FA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DBD3D-AF50-41FB-BD02-7623CABC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C0E5-F4D7-47B1-BEAF-0AEA7F83C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8ADA-F411-4F2D-90B1-93F486AFC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EC2A-08DB-4E78-9962-AD51F5C23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FC0F-E20A-45E2-8081-B84468D5B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7D13-E98D-4AF7-9444-7AD376F19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F0B4-A8D5-403B-B008-8703712E1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D8B9-C0C2-4C11-8439-C43AE47CD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53320" y="4680"/>
            <a:ext cx="57312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E278-64FC-4893-A98F-34C00C06CC6D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Rectangle 7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5" name="Footer Placeholder 3"/>
          <p:cNvSpPr/>
          <p:nvPr/>
        </p:nvSpPr>
        <p:spPr>
          <a:xfrm>
            <a:off x="622440" y="6526080"/>
            <a:ext cx="2349360" cy="331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ltan Noori AL-Ga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tangle 9" descr=""/>
          <p:cNvPicPr/>
          <p:nvPr/>
        </p:nvPicPr>
        <p:blipFill>
          <a:blip r:embed="rId3"/>
          <a:stretch/>
        </p:blipFill>
        <p:spPr>
          <a:xfrm>
            <a:off x="255600" y="-23760"/>
            <a:ext cx="8132760" cy="72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7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3"/>
          <p:cNvSpPr/>
          <p:nvPr/>
        </p:nvSpPr>
        <p:spPr>
          <a:xfrm>
            <a:off x="622440" y="6526080"/>
            <a:ext cx="2349360" cy="331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ltan Noori AL-Ga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9" descr=""/>
          <p:cNvPicPr/>
          <p:nvPr/>
        </p:nvPicPr>
        <p:blipFill>
          <a:blip r:embed="rId3"/>
          <a:stretch/>
        </p:blipFill>
        <p:spPr>
          <a:xfrm>
            <a:off x="255600" y="-23760"/>
            <a:ext cx="8132760" cy="7254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10" descr=""/>
          <p:cNvPicPr/>
          <p:nvPr/>
        </p:nvPicPr>
        <p:blipFill>
          <a:blip r:embed="rId4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87D4-4F4B-4773-A7E5-640977AC7DE3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BF6A-7175-48AE-AB7C-DE692630121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066680" y="685800"/>
            <a:ext cx="6629400" cy="55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Diya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. of  Civil E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S. Sultan N. Al-Ga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>
            <a:lum bright="70000" contrast="-70000"/>
          </a:blip>
          <a:srcRect l="41265" t="11708" r="25624" b="27879"/>
          <a:stretch/>
        </p:blipFill>
        <p:spPr>
          <a:xfrm>
            <a:off x="6934320" y="3705120"/>
            <a:ext cx="2133360" cy="290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7F85-C587-490F-9202-46A0898C525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16399" t="5468" r="19473" b="11718"/>
          <a:stretch/>
        </p:blipFill>
        <p:spPr>
          <a:xfrm>
            <a:off x="685800" y="609480"/>
            <a:ext cx="83440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892-2EE1-4E31-8475-E9AE8D54DA7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685800" y="685800"/>
            <a:ext cx="7696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 work Assignment #6:  Concrete Foundatio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a PDM diagram for the following activity data and determine the project duration in days.  Identify the critical path and show ES, EF, LS, LF, and TF on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DDFC-4ECA-4B22-A77D-B10DDC6946B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38280" y="685800"/>
          <a:ext cx="5639040" cy="5715000"/>
        </p:xfrm>
        <a:graphic>
          <a:graphicData uri="http://schemas.openxmlformats.org/drawingml/2006/table">
            <a:tbl>
              <a:tblPr/>
              <a:tblGrid>
                <a:gridCol w="884520"/>
                <a:gridCol w="2352600"/>
                <a:gridCol w="772920"/>
                <a:gridCol w="816120"/>
                <a:gridCol w="812880"/>
              </a:tblGrid>
              <a:tr h="2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ty 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ces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ice To Proc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av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S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all Form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e Rebar Shop Dw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ar Shop Dwgs Rvw &amp; Aprv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S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ar Fabrication &amp;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all Reb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mit Mix 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ve Mix 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Concr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S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y for Steel Er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648E-F1F8-4DBD-B99D-924E895BDC2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685800"/>
            <a:ext cx="809316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hedule 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ine the crit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ctivities that can be com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ctivities that can be overl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 work on week ends and/or add additional shi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construction method, e.g. precast instead of cast-in-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5191-A46A-4AC6-80AB-1195391CDD0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14202" t="6772" r="16253" b="4168"/>
          <a:stretch/>
        </p:blipFill>
        <p:spPr>
          <a:xfrm>
            <a:off x="76320" y="0"/>
            <a:ext cx="90486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F68-46C7-4D29-B3AC-7DED2AA0000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12885" t="5468" r="13179" b="24739"/>
          <a:stretch/>
        </p:blipFill>
        <p:spPr>
          <a:xfrm>
            <a:off x="38160" y="762120"/>
            <a:ext cx="910584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6D70-13F3-42AF-A5F3-67A70E3BAF8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2739" t="5989" r="12885" b="26821"/>
          <a:stretch/>
        </p:blipFill>
        <p:spPr>
          <a:xfrm>
            <a:off x="19080" y="91908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678-968C-4609-8913-92B3E44D40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13322" t="5728" r="13179" b="23696"/>
          <a:stretch/>
        </p:blipFill>
        <p:spPr>
          <a:xfrm>
            <a:off x="19080" y="914400"/>
            <a:ext cx="9139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614F-B535-4D68-B920-7B3CFB1F364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91920" y="762120"/>
            <a:ext cx="72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ing Activity Du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5800" y="216072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Unit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ega pro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h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ceptual estim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e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ceptual estim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proce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274F-61AA-4CB4-82CD-9B3EB4B0B9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28560" y="609480"/>
            <a:ext cx="81345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ductivity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atur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repetitive tasks increase produ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abo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training and skills increase produ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easonal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weather: reduced produ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Work restric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shutdown periods, security iss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lity of 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tight tolerances: reduced produ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ncurrent activ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too many people working at the s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ime: reduced produ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AB5B-6302-4B19-AECA-0613733AD99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85345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M Network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ity I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r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o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                       Found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3857760" y="3657600"/>
            <a:ext cx="4599360" cy="2971800"/>
            <a:chOff x="3857760" y="3657600"/>
            <a:chExt cx="4599360" cy="2971800"/>
          </a:xfrm>
        </p:grpSpPr>
        <p:sp>
          <p:nvSpPr>
            <p:cNvPr id="101" name="Rectangle 5"/>
            <p:cNvSpPr/>
            <p:nvPr/>
          </p:nvSpPr>
          <p:spPr>
            <a:xfrm>
              <a:off x="3857760" y="365760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5686560" y="365760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6600960" y="5410440"/>
              <a:ext cx="121932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77080" y="42674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905880" y="41148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5686560" y="487692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820280" y="4114800"/>
              <a:ext cx="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4088880" y="3810240"/>
              <a:ext cx="72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b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5878800" y="3810240"/>
              <a:ext cx="802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ca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6507720" y="5562720"/>
              <a:ext cx="13723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oundati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5"/>
            <p:cNvSpPr/>
            <p:nvPr/>
          </p:nvSpPr>
          <p:spPr>
            <a:xfrm>
              <a:off x="7805520" y="44560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F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3"/>
          <p:cNvSpPr/>
          <p:nvPr/>
        </p:nvSpPr>
        <p:spPr>
          <a:xfrm>
            <a:off x="5715000" y="60199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792760" y="5562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3FCE-FDD3-4098-A648-D99C4DEAEBF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419040"/>
            <a:ext cx="92962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ity take-off/MEANS Estimating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i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ast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Outsid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dustry &amp;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bcontractors/manufacturers/fabricator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7D0B-F854-4E01-A24E-677B6DDF35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857960" y="685800"/>
            <a:ext cx="49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DM Network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1600200"/>
            <a:ext cx="82296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ctivities must b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pen ends or dangling activities are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ID numbers should be unique (numbers should not be duplic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loops are not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E6AC-B95B-440B-B69F-49908550400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57160" y="861480"/>
            <a:ext cx="7962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rms of 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e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g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8970-41E3-4CA6-B99A-62C61A44858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12592" t="23440" r="14202" b="3125"/>
          <a:stretch/>
        </p:blipFill>
        <p:spPr>
          <a:xfrm>
            <a:off x="152280" y="685800"/>
            <a:ext cx="8969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10CF-F2B7-4A6A-862F-DAFC6E27BCA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B602-A5E5-4BBC-9A57-7F123C10529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rcRect l="14202" t="17968" r="16546" b="2603"/>
          <a:stretch/>
        </p:blipFill>
        <p:spPr>
          <a:xfrm>
            <a:off x="133200" y="609480"/>
            <a:ext cx="90108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730-9EB2-416B-B8C7-0D37F426C23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7848720" y="76320"/>
            <a:ext cx="4521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FE55-CDEF-477F-A354-0838A49C66E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828800" y="1219320"/>
            <a:ext cx="533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DM  Home Work Assign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# 5 &amp; #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429000" y="4114800"/>
            <a:ext cx="2685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5:03:26Z</dcterms:created>
  <dc:creator>UMR UMR</dc:creator>
  <dc:description/>
  <dc:language>en-US</dc:language>
  <cp:lastModifiedBy>sultan noori</cp:lastModifiedBy>
  <dcterms:modified xsi:type="dcterms:W3CDTF">2018-11-19T08:45:26Z</dcterms:modified>
  <cp:revision>53</cp:revision>
  <dc:subject/>
  <dc:title>PowerPoint Presentation</dc:title>
</cp:coreProperties>
</file>