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18C-CEB9-48D8-803D-AA28DB04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D32-2B8A-4F2A-95B0-98C44D9B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60D-212F-4174-AD65-B838434B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E19A-502C-4251-83BA-E636074E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7FA-5FFC-44BF-93F7-5F71BD0B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153E-20ED-4ABA-BB6A-DA2B2DCC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6FA0-F8C2-413B-822D-13D0C342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AF1-497B-4D2D-8847-CD4BE511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BE8-3A97-46E3-9972-EEA851AE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E9B-D787-41FE-B018-D6DCA7C5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E04-CEFA-465F-94AB-01E0AEFA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D0DA-5387-463E-B78D-1443E0EB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354C-1409-4BD4-A8A4-B821AE14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35BC-EFED-4FC7-995B-6FB8AAFB8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EE47-E082-40D8-93C8-4BBEC9DE4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D3B1-C9B2-40DB-B0B2-A6B77F62E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FE3A-A571-4D59-824D-368447102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BCB0-ED6A-49ED-881E-5BCEEE04A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AE07B-66EC-4508-8783-F85D9ECE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95123-3E6F-4D05-92D6-8FA070F9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D116E-5DD2-43CA-8A8D-AD1A548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B24CC-BC97-4DE8-9299-D8C8F35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DD4DE-BF79-4294-8F9D-6B827CE8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C788-8E9F-49CA-86F8-6B0E9EAA0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EDC2C-1C1E-4CEF-AB59-E58571F3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EAE03-125E-4341-8EC5-DDE48F1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CC7E2-6475-4E05-9E77-15C0BF5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BDC8B-B440-41FB-8CC7-9899A036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80E6B-2CF0-4E53-969A-E9CC969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A2B39-B98F-4A05-8888-1F9DE949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35A87-BE83-4E7F-8550-961DE2E5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328D3-EE67-449C-BB68-DD6040BD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46401-841D-47A8-8C30-D512626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2BDE2-35C3-4244-9E28-D6793C7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9570-808A-445D-B3E2-94757E5221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A6092-177A-4D6D-8BA9-19F45D8D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1C826-873C-4269-89E7-B83FE4D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F49DD-C073-4DD8-9BDC-CDEEDA7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8402D-7F51-40E8-A7A4-36A572A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39D8E-7763-44C2-B8E6-7AEBCF7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8299A-86B1-4AAB-A554-886DE93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F90B1-BAFA-4186-8B3F-37A6CBE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87ADB-B4BF-45A3-88B7-5129BCF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97269-B87C-47F1-B3FD-0979BBF7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615BF-1C91-448A-8B70-47F3B973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398A-6C6A-443B-A120-05C7EDE3A9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580F6-9EE5-4F8F-8C56-DD34FC7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8CCB7-6E13-4E42-B262-3AB2AA1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400E9-A438-4E80-9147-F06CD3E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F241F-F63D-4D10-A26E-4EC2DB5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447EC-F799-453F-B4AE-68A9FB7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CFB5C-D04F-40DC-992A-2309A02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114A4-1264-4478-A892-E6B59D9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A1E38-3C6C-46D0-8728-7CD3862F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07477-BC14-4A9E-9DD9-8589EE61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8F94F-19A6-4C52-825B-54BA6B5E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4448-5ADA-40AA-A21E-EDA383B090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40D30-4C51-4E6B-AA11-E5C4CE1F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C5F8-54D0-46DD-8F1F-ABC0FEDDD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FD79-B1BD-498F-9359-BE1CC0820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C09F-B0BE-41B7-9606-8E3451BC6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4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69572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471D-48FD-443B-BA77-9970A69DDBA4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769572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980-71CD-498D-B191-4E26D695BB3D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0"/>
          </p:nvPr>
        </p:nvSpPr>
        <p:spPr>
          <a:xfrm>
            <a:off x="7695720" y="95040"/>
            <a:ext cx="646200" cy="361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B56-2A7F-4B1B-A1F9-0966525F51D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7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175" name="Footer Placeholder 3"/>
          <p:cNvSpPr/>
          <p:nvPr/>
        </p:nvSpPr>
        <p:spPr>
          <a:xfrm>
            <a:off x="622440" y="6526080"/>
            <a:ext cx="2349360" cy="331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ltan Noori AL-Ga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angle 9" descr=""/>
          <p:cNvPicPr/>
          <p:nvPr/>
        </p:nvPicPr>
        <p:blipFill>
          <a:blip r:embed="rId3"/>
          <a:stretch/>
        </p:blipFill>
        <p:spPr>
          <a:xfrm>
            <a:off x="255600" y="-23760"/>
            <a:ext cx="8132760" cy="7254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10" descr=""/>
          <p:cNvPicPr/>
          <p:nvPr/>
        </p:nvPicPr>
        <p:blipFill>
          <a:blip r:embed="rId4"/>
          <a:stretch/>
        </p:blipFill>
        <p:spPr>
          <a:xfrm>
            <a:off x="-12600" y="-12600"/>
            <a:ext cx="682560" cy="6883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769572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BD6-26B2-4398-84AD-0A4147BFF73F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57913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Compression of the Product Lif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-tech product life cycles are averaging 1.5 to 3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 years ago, life cycles were 10-1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to market is a critical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is a competitive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769608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077-D51C-4B5F-A4D5-0B0F57823D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914400" y="8380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Tools for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04920" y="2286000"/>
            <a:ext cx="7162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he project manager ass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s corrective action wh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communicate to the client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isn’t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1"/>
          <p:cNvSpPr/>
          <p:nvPr/>
        </p:nvSpPr>
        <p:spPr>
          <a:xfrm>
            <a:off x="769608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466-21A0-4BB9-8536-D946BA1CD04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’s not just pla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get overly infatuated with the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manage reality, not the computer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engineers focus too much on the tools, and not enough on the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etwork diagrams &amp; Gantt char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ools, not the end pro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ely, you need more than “seat of the pants” management.  It’s not just team dynamics and organization politics, 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1"/>
          <p:cNvSpPr/>
          <p:nvPr/>
        </p:nvSpPr>
        <p:spPr>
          <a:xfrm>
            <a:off x="769608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0DC0-0131-4F41-9E9B-7E4B38864D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wo sides to project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gra93925_0105"/>
          <p:cNvPicPr/>
          <p:nvPr/>
        </p:nvPicPr>
        <p:blipFill>
          <a:blip r:embed="rId1"/>
          <a:stretch/>
        </p:blipFill>
        <p:spPr>
          <a:xfrm>
            <a:off x="2514600" y="2057400"/>
            <a:ext cx="4356000" cy="441972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1"/>
          <p:cNvSpPr/>
          <p:nvPr/>
        </p:nvSpPr>
        <p:spPr>
          <a:xfrm>
            <a:off x="7696080" y="95400"/>
            <a:ext cx="646200" cy="361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5E8-CDB3-4531-A6ED-A77BBC091D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7696080" y="95400"/>
            <a:ext cx="646200" cy="361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FD4-C0F1-43AF-BFE4-600F5AEA59F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hapter 1 Comple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:\Users\dell\Desktop\images.jpg"/>
          <p:cNvPicPr/>
          <p:nvPr/>
        </p:nvPicPr>
        <p:blipFill>
          <a:blip r:embed="rId1"/>
          <a:srcRect l="29053" t="11222" r="22822" b="21138"/>
          <a:stretch/>
        </p:blipFill>
        <p:spPr>
          <a:xfrm>
            <a:off x="3429000" y="3505320"/>
            <a:ext cx="247644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410080" cy="838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Global 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in competition with anyone in the world who can do it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ster, cheaper,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yota, Saudi Ara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769608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307-19F4-4EB4-B99B-1CD63885FC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Image result for Toyota"/>
          <p:cNvPicPr/>
          <p:nvPr/>
        </p:nvPicPr>
        <p:blipFill>
          <a:blip r:embed="rId1"/>
          <a:stretch/>
        </p:blipFill>
        <p:spPr>
          <a:xfrm>
            <a:off x="3505320" y="45813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172200" y="47386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jects are fairly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arry just as much risk as larger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demand the resources and money of the larger projects, so are viewed as having little impact on the bottom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re are so many, they add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769608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E76-0F35-4E7B-8332-E5BA268DA6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Integration of Projects with the Strategic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437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Business strategies are often implemented through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Projects need to be prioritized so that scarce resources are allocated to the right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se are not always financially driven; there can be many reasons for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7696080" y="95400"/>
            <a:ext cx="646200" cy="350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D980-98C3-494E-B0D2-E093686082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523880" y="1000080"/>
            <a:ext cx="3687840" cy="5354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10080" y="1294920"/>
            <a:ext cx="3337200" cy="17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grated Management of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407360" y="617220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FIGURE 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7696080" y="95400"/>
            <a:ext cx="646200" cy="361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22B4-48FA-49C4-8DA9-56BD2A2F96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2"/>
          <p:cNvGrpSpPr/>
          <p:nvPr/>
        </p:nvGrpSpPr>
        <p:grpSpPr>
          <a:xfrm>
            <a:off x="1066680" y="609480"/>
            <a:ext cx="6327720" cy="1146240"/>
            <a:chOff x="1066680" y="609480"/>
            <a:chExt cx="6327720" cy="1146240"/>
          </a:xfrm>
        </p:grpSpPr>
        <p:pic>
          <p:nvPicPr>
            <p:cNvPr id="246" name="Rectangle 2" descr=""/>
            <p:cNvPicPr/>
            <p:nvPr/>
          </p:nvPicPr>
          <p:blipFill>
            <a:blip r:embed="rId1"/>
            <a:stretch/>
          </p:blipFill>
          <p:spPr>
            <a:xfrm>
              <a:off x="1066680" y="609480"/>
              <a:ext cx="63277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066680" y="609480"/>
              <a:ext cx="6324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Managing Expecta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3"/>
          <p:cNvSpPr/>
          <p:nvPr/>
        </p:nvSpPr>
        <p:spPr>
          <a:xfrm>
            <a:off x="609480" y="1981080"/>
            <a:ext cx="6400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lient’s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’s 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goals further the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impede the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s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rvive, you must me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surprising Manag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"/>
          <p:cNvSpPr/>
          <p:nvPr/>
        </p:nvSpPr>
        <p:spPr>
          <a:xfrm>
            <a:off x="769608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BF15-4DB0-466E-99DD-60BE846A60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1981080" y="762120"/>
            <a:ext cx="4194360" cy="1145880"/>
            <a:chOff x="1981080" y="762120"/>
            <a:chExt cx="4194360" cy="114588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1981080" y="762120"/>
              <a:ext cx="41943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981080" y="762120"/>
              <a:ext cx="419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Scope Cre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3"/>
          <p:cNvSpPr/>
          <p:nvPr/>
        </p:nvSpPr>
        <p:spPr>
          <a:xfrm>
            <a:off x="838080" y="2286000"/>
            <a:ext cx="6477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tart something, you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ll of the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learn as you go and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your n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ing change po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ies, but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1"/>
          <p:cNvSpPr/>
          <p:nvPr/>
        </p:nvSpPr>
        <p:spPr>
          <a:xfrm>
            <a:off x="769608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6E52-0A1C-4D63-A163-210B271FA1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C:\Users\dell\Desktop\فهرس.jpg"/>
          <p:cNvPicPr/>
          <p:nvPr/>
        </p:nvPicPr>
        <p:blipFill>
          <a:blip r:embed="rId2"/>
          <a:stretch/>
        </p:blipFill>
        <p:spPr>
          <a:xfrm>
            <a:off x="6400800" y="3886200"/>
            <a:ext cx="233352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066680" y="1908000"/>
            <a:ext cx="617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building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architect will siz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to accommod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material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inimizes labor in measu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utting, and reduces los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c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ustomer decides to ch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has begu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lead to bigger proble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the obvious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1"/>
          <p:cNvSpPr/>
          <p:nvPr/>
        </p:nvSpPr>
        <p:spPr>
          <a:xfrm>
            <a:off x="769608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B5F3-85B2-428A-A6CC-919A11A9907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Rectangle 2"/>
          <p:cNvGrpSpPr/>
          <p:nvPr/>
        </p:nvGrpSpPr>
        <p:grpSpPr>
          <a:xfrm>
            <a:off x="1981080" y="609480"/>
            <a:ext cx="4194360" cy="1146240"/>
            <a:chOff x="1981080" y="609480"/>
            <a:chExt cx="4194360" cy="1146240"/>
          </a:xfrm>
        </p:grpSpPr>
        <p:pic>
          <p:nvPicPr>
            <p:cNvPr id="259" name="Rectangle 2" descr=""/>
            <p:cNvPicPr/>
            <p:nvPr/>
          </p:nvPicPr>
          <p:blipFill>
            <a:blip r:embed="rId1"/>
            <a:stretch/>
          </p:blipFill>
          <p:spPr>
            <a:xfrm>
              <a:off x="1981080" y="609480"/>
              <a:ext cx="4194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81080" y="609480"/>
              <a:ext cx="4191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Scope Cre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6212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oject Management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609480" y="167652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the client is mak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ed cho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the hidden requirements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as code compl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pe, budget, and schedule al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knowledge of th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’s 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puzzle analogy - th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eces must al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 (and all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ie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ertwined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"/>
          <p:cNvSpPr/>
          <p:nvPr/>
        </p:nvSpPr>
        <p:spPr>
          <a:xfrm>
            <a:off x="7696080" y="76320"/>
            <a:ext cx="64476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1FB-B1A3-426C-8BD2-D5E53C213B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5:03:26Z</dcterms:created>
  <dc:creator>UMR UMR</dc:creator>
  <dc:description/>
  <dc:language>en-US</dc:language>
  <cp:lastModifiedBy>sultan noori</cp:lastModifiedBy>
  <dcterms:modified xsi:type="dcterms:W3CDTF">2018-11-19T08:34:01Z</dcterms:modified>
  <cp:revision>54</cp:revision>
  <dc:subject/>
  <dc:title>PowerPoint Presentation</dc:title>
</cp:coreProperties>
</file>