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074-1372-4D4F-9769-67EC1DBF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0BA-2EFB-4B5F-9BC3-63A5AE8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372-964D-4962-83E1-2B525004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41A-94DB-49FB-ABEA-F7C57D42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6E0-1209-469D-932E-C27EB71E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23F-DD44-443C-AB3A-DD30535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DE03-2D6A-42BE-AA30-66FF731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56D8-8131-4EC2-B3E4-CCCEC40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6DE-D7BE-4ABD-BCE6-51AB9A5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B87-1A37-4E62-9FAA-A897A4F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6C1-246D-49D5-B3E5-A6125C0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61E-5E5E-4F29-826D-7555BE2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F10D-0D4C-42B1-8E79-A456D74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951C-FF16-46FB-A764-F16F194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99A2-55E3-4FB5-B020-63BBAE3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6B1-58E3-40EF-B9A7-620F86CC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4867-8287-420F-858F-9AB9B176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99DC-AFCB-4630-A0B1-6D16E81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7A33-AE92-462E-BD70-54441B8B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3A20-8C71-417F-B3C1-EF16F691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08BE-A245-485B-87C1-A4D1A0F1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9017-E7CE-426A-B754-86B15301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CBF-1259-4D08-9C5A-11CFF46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1D91-87A9-482A-8923-DE102AE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AB31-41DB-4686-BF18-96091F2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81E8-03AD-44F6-B286-5563818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2DEC-7633-470B-AC13-4BF7B69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E719-590D-446A-8427-28DD8A9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F509-B927-4085-8AA9-B0F6FEE8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1541-ED16-4D70-ACC6-AD8F204F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00E8-EF1A-4C7C-86EE-8E2BC062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9029-EC9F-4343-9A6D-CD23C2B8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2CE5-7536-4FBC-AE3B-2BDA905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BC8-5313-43D8-8C24-4452A59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B202-DCFC-406D-BB64-A2E9367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F5C4-81E8-4BD7-AC1A-827024EA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DA8D-5F0B-4D60-A331-79695FF1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AA7C-AB3D-4DDE-81EF-77E0701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C12E-EFCC-440C-AA7B-29E4CFB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B6C6-3F9C-4815-AF5F-88F24C3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59C2-2B26-450F-80C9-F3DA7BCB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DE51-7DEE-4CB4-A00E-55C2434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BEEF-BF3C-4D92-B925-345292D5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C65-1F7A-4C62-A2D0-9DF3791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4C6-48A3-402F-9A5F-6648A03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448-4BAF-4D32-B4CE-4C0E120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89D-2663-4B69-B7BB-2D657D5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7C8-5D07-40F2-BE4D-21F1128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F5E-7045-4CD7-B062-E15AEFECBE4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7928-1124-478B-AAFF-B23DF1305837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1DF-76DF-4E01-AC6A-80D7D30AE0A7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31D-7E25-4391-9E45-287713134EF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981080" y="182880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ERODYNAM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269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762120" y="1512720"/>
                <a:ext cx="7500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Rectangle 7"/>
          <p:cNvSpPr/>
          <p:nvPr/>
        </p:nvSpPr>
        <p:spPr>
          <a:xfrm>
            <a:off x="269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776160" y="2209680"/>
                <a:ext cx="7467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Rectangle 9"/>
          <p:cNvSpPr/>
          <p:nvPr/>
        </p:nvSpPr>
        <p:spPr>
          <a:xfrm>
            <a:off x="26431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749160" y="2819520"/>
                <a:ext cx="716292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1" name="Picture 11" descr="1"/>
          <p:cNvPicPr/>
          <p:nvPr/>
        </p:nvPicPr>
        <p:blipFill>
          <a:blip r:embed="rId1"/>
          <a:stretch/>
        </p:blipFill>
        <p:spPr>
          <a:xfrm>
            <a:off x="1905120" y="4092480"/>
            <a:ext cx="5276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panwsie compon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flow from tip toward to root, the streamlines over the top surface are bent toward root. In contrast, the streamlines over bottom surface toward ti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iling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created at each win ti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Picture 6" descr="5"/>
          <p:cNvPicPr/>
          <p:nvPr/>
        </p:nvPicPr>
        <p:blipFill>
          <a:blip r:embed="rId1"/>
          <a:stretch/>
        </p:blipFill>
        <p:spPr>
          <a:xfrm>
            <a:off x="1547640" y="3716280"/>
            <a:ext cx="6553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0948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ffect of downwas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g-tip vortices downstream of the wing induce a small component of air velocity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ownwas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 is denoted by the symbol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wash causes inclining the local relative wind in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rec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Picture 6" descr="5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fective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ilting backward of the lift vector induce a drag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induced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</a:t>
            </a:r>
            <a:r>
              <a:rPr b="0" i="1" lang="en-US" sz="1600" spc="-1" strike="noStrike">
                <a:solidFill>
                  <a:srgbClr val="e2d7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type of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pressure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drag = Profile drag + Induce drag, theref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1676520" y="1982880"/>
                <a:ext cx="1828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76520" y="4038480"/>
                <a:ext cx="4732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where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Biot-Savart law and Helmholtz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theore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iot-Savart la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at point P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nduced by a small directed segmen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curved filament with str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at P by 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aight vortex fila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infinite length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00200" y="3200400"/>
                <a:ext cx="19177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523880" y="5365800"/>
                <a:ext cx="2151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20" name="Picture 8" descr="5"/>
          <p:cNvPicPr/>
          <p:nvPr/>
        </p:nvPicPr>
        <p:blipFill>
          <a:blip r:embed="rId1"/>
          <a:stretch/>
        </p:blipFill>
        <p:spPr>
          <a:xfrm>
            <a:off x="4788000" y="3141720"/>
            <a:ext cx="435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5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gnitud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at P by a semi-infinite vortex filament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1512720" y="2075040"/>
                <a:ext cx="31356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600200" y="4572000"/>
                <a:ext cx="1165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4" name="Picture 10" descr="5"/>
          <p:cNvPicPr/>
          <p:nvPr/>
        </p:nvPicPr>
        <p:blipFill>
          <a:blip r:embed="rId1"/>
          <a:stretch/>
        </p:blipFill>
        <p:spPr>
          <a:xfrm>
            <a:off x="5364000" y="2349360"/>
            <a:ext cx="35290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lmholt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vortex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ngth of a vortex filament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long it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ortex filament cannot end in a fluid; it must extend to the boundaries of the fluid (which can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r form a closed pa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airfoil sections may hav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geometric and aerodynamic twi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at results in a lift distribution along the sp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andtl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classical Lifting-line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5238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rseshoe vort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rseshoe vortex consists of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bound 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w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ree 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und vortex induces no velocity along itself, however, the tw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ree vortic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tribute to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elocity along the bound vorte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8" name="Picture 6" descr="5"/>
          <p:cNvPicPr/>
          <p:nvPr/>
        </p:nvPicPr>
        <p:blipFill>
          <a:blip r:embed="rId1"/>
          <a:stretch/>
        </p:blipFill>
        <p:spPr>
          <a:xfrm>
            <a:off x="4572000" y="2335320"/>
            <a:ext cx="45007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wnwas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wash at point y along the bound vortex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676520" y="2438280"/>
                <a:ext cx="4583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1" name="Picture 10" descr="5"/>
          <p:cNvPicPr/>
          <p:nvPr/>
        </p:nvPicPr>
        <p:blipFill>
          <a:blip r:embed="rId1"/>
          <a:stretch/>
        </p:blipFill>
        <p:spPr>
          <a:xfrm>
            <a:off x="2124000" y="3243240"/>
            <a:ext cx="4969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4000" y="17002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ting-line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a single horseshoe vortex, infinite number of horseshoe vortices with a vanishing small strength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superimposed to form the bound vortices a single line which is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lifting l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3" name="Picture 9" descr="5"/>
          <p:cNvPicPr/>
          <p:nvPr/>
        </p:nvPicPr>
        <p:blipFill>
          <a:blip r:embed="rId1"/>
          <a:stretch/>
        </p:blipFill>
        <p:spPr>
          <a:xfrm>
            <a:off x="4572000" y="2100240"/>
            <a:ext cx="4321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railing vortices become a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ontinuous vortex shee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ling downstream of the lifting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at 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the entire trailing vortex sheet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duce angle of attack i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"/>
              <p:cNvSpPr txBox="1"/>
              <p:nvPr/>
            </p:nvSpPr>
            <p:spPr>
              <a:xfrm>
                <a:off x="1447920" y="3048120"/>
                <a:ext cx="41148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Γ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1371600" y="4495680"/>
                <a:ext cx="5803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∞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Upp>
                          <m:e>
                            <m:r>
                              <m:t xml:space="preserve">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for small angle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Γ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mensionless force and moment coeffici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= reference area ( planform area for w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reference length (chord length for w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force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ial force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941640" y="2654280"/>
                <a:ext cx="1524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3962520" y="3386160"/>
                <a:ext cx="990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5324400" y="3886200"/>
                <a:ext cx="1011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6534000" y="4495680"/>
                <a:ext cx="1030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5400720" y="5181480"/>
                <a:ext cx="1011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9"/>
              <p:cNvSpPr txBox="1"/>
              <p:nvPr/>
            </p:nvSpPr>
            <p:spPr>
              <a:xfrm>
                <a:off x="4361040" y="5867280"/>
                <a:ext cx="1109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coefficient at y=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Kutta-Joukowski theorem, lift for the local airfoil section located at 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of effective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1447920" y="1981080"/>
                <a:ext cx="6248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371600" y="3156120"/>
                <a:ext cx="471636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1422360" y="5396040"/>
                <a:ext cx="3301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π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Fundamental equation of Prandtl</a:t>
            </a:r>
            <a:r>
              <a:rPr b="0" i="1" lang="en-US" sz="2400" spc="-1" strike="noStrike">
                <a:solidFill>
                  <a:srgbClr val="e2d700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s lifting-line theory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integro-differential equ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olu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ives the three main aerodynamic characteristics of a finite w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1527120" y="2381400"/>
                <a:ext cx="723600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Γ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610920" y="1479600"/>
            <a:ext cx="7846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652760" y="1905120"/>
                <a:ext cx="291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00200" y="2666880"/>
                <a:ext cx="42163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690560" y="4952880"/>
                <a:ext cx="41864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lliptical lift distrib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teristi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liptical circulation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irculation a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liptical lift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ero lift at the wing t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752480" y="2362320"/>
                <a:ext cx="251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676520" y="4006800"/>
                <a:ext cx="5032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676520" y="5442120"/>
                <a:ext cx="21319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ulting aerodynamic proper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using the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y=b/2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e obt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tates that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ownwash is consta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ver the span for an elliptical lift distrib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"/>
              <p:cNvSpPr txBox="1"/>
              <p:nvPr/>
            </p:nvSpPr>
            <p:spPr>
              <a:xfrm>
                <a:off x="1523880" y="2500200"/>
                <a:ext cx="16765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1523880" y="4503600"/>
                <a:ext cx="5029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 Aspect rati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R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22440" y="1474920"/>
            <a:ext cx="783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tates tha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D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proportional to the square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inversely proportional to 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or an elliptical lift distribu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 chord must vary elliptically along the span; that is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wing planform is ellipti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1447920" y="1836720"/>
                <a:ext cx="17319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General lift distrib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cteristic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the trans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ss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at a given lo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523880" y="2438280"/>
                <a:ext cx="1787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600200" y="3505320"/>
                <a:ext cx="34383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378080" y="4754520"/>
                <a:ext cx="753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π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may choos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spanwise stations, then we can obtai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dependent algebraic equations with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nknowns, namely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ulting aerodynamic proper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in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"/>
              <p:cNvSpPr txBox="1"/>
              <p:nvPr/>
            </p:nvSpPr>
            <p:spPr>
              <a:xfrm>
                <a:off x="1374840" y="3581280"/>
                <a:ext cx="4416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1371600" y="4802040"/>
                <a:ext cx="5842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,  where  </m:t>
                    </m:r>
                    <m:r>
                      <m:t xml:space="preserve">δ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efin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span efficiency factor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ot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0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1 for the elliptical lift distribution. Hence, the lift distribution which yield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minimum induced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is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elliptical lift distribu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1447920" y="1905120"/>
                <a:ext cx="18810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π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Center of pressure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int on the body about which the aerodynamic moment is z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tion of center of press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   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1262160" y="3189240"/>
                <a:ext cx="1654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6659640" y="3141720"/>
                <a:ext cx="1523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3" name="Picture 8" descr="1"/>
          <p:cNvPicPr/>
          <p:nvPr/>
        </p:nvPicPr>
        <p:blipFill>
          <a:blip r:embed="rId1"/>
          <a:stretch/>
        </p:blipFill>
        <p:spPr>
          <a:xfrm>
            <a:off x="830160" y="4194000"/>
            <a:ext cx="7704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Dimensional analysi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tors affecting aerodynamic force 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 stream velocity 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 stream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cosity of the flu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ize of the body (usually represented by the chord length 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mpressibility of the fluid 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=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. Dimensional analysis can reduce the number of independent parameters affecting R, such that can save the cost of wind tunnel te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Buckingham 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pi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dimension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dimension of ma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mensio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 leng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dimension of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riables and their dimen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752480" y="4248000"/>
                <a:ext cx="1428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3987720" y="4248000"/>
                <a:ext cx="1455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6251400" y="4248000"/>
                <a:ext cx="1270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828800" y="5113440"/>
                <a:ext cx="820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3962520" y="5086440"/>
                <a:ext cx="1771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6248520" y="5086440"/>
                <a:ext cx="1295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ssume th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ating the exponents sum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be zero, and similarly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 we can obtain simultaneous equations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lving these equations leads 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444680" y="2111400"/>
                <a:ext cx="228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1444680" y="2590920"/>
                <a:ext cx="2446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444680" y="3041640"/>
                <a:ext cx="2400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47920" y="3871800"/>
                <a:ext cx="17524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44680" y="4343400"/>
                <a:ext cx="36608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-2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-1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-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ults for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ilar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, Reynolds number, is a measure of the ratio of inertial forces to viscous forces in a fl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1684440" y="2287440"/>
                <a:ext cx="357336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1751040" y="4557600"/>
                <a:ext cx="2058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ach number, is the ratio of the flow velocity to the speed of sou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also for 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function of 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calle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similarity parame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1600200" y="2347920"/>
                <a:ext cx="1727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2185920" y="4495680"/>
                <a:ext cx="228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Flow similarity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finition of dynamically similar for two different flow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amline patterns are geometrically simi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stributions of V/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/p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etc. are the same when plotted against common non-dimensional coordin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orce coefficients are the sa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iteri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ies and any other solid boundaries are geometrically simi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me similarity parameters (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6037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Similar fl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2800440" y="2162160"/>
                <a:ext cx="2152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684360" y="2743200"/>
                <a:ext cx="3614760" cy="37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ρ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0" name="Picture 8" descr="1"/>
          <p:cNvPicPr/>
          <p:nvPr/>
        </p:nvPicPr>
        <p:blipFill>
          <a:blip r:embed="rId1"/>
          <a:stretch/>
        </p:blipFill>
        <p:spPr>
          <a:xfrm>
            <a:off x="5003640" y="2576520"/>
            <a:ext cx="390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s: Some Introductory Though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s: Some Fundamental Principles and Equ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damentals of Inviscid,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Flows Over Airfo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Flows Over Finite Wing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Types of flow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iscid vs. viscous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iscid: assume no friction, thermal conduction and dif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cous: consider effects of friction, thermal conduction and dif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vs. compressi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: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cons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ressible: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vari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ch number regim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onic flow: M&lt;1 every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onic flow: mixed regions where M&lt;1 and M&gt;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sonic flow: M&gt;1 every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sonic flow: very high supersonic speeds, usually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erodynamics: Some Fundamental Principles and Equat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view of vector rel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ol volumes and fluid el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mentum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thlines and stream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gular velocity, vorticity and circu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 function and velocity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view of vector rela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280" y="1690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ctor algeb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alar produ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ctor product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1619280" y="3141720"/>
            <a:ext cx="5249880" cy="34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3774960" y="2209680"/>
                <a:ext cx="2330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3795840" y="2602080"/>
                <a:ext cx="34430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≡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thogonal coordinate syst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76520" y="2666880"/>
                <a:ext cx="365760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5" name="Picture 6" descr="2"/>
          <p:cNvPicPr/>
          <p:nvPr/>
        </p:nvPicPr>
        <p:blipFill>
          <a:blip r:embed="rId1"/>
          <a:srcRect l="0" t="0" r="3715" b="0"/>
          <a:stretch/>
        </p:blipFill>
        <p:spPr>
          <a:xfrm>
            <a:off x="4932360" y="4230720"/>
            <a:ext cx="374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lindrical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701720" y="2392200"/>
                <a:ext cx="3605400" cy="29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8" name="Picture 6" descr="2"/>
          <p:cNvPicPr/>
          <p:nvPr/>
        </p:nvPicPr>
        <p:blipFill>
          <a:blip r:embed="rId1"/>
          <a:stretch/>
        </p:blipFill>
        <p:spPr>
          <a:xfrm>
            <a:off x="4716360" y="3933720"/>
            <a:ext cx="4032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herical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6" descr="2"/>
          <p:cNvPicPr/>
          <p:nvPr/>
        </p:nvPicPr>
        <p:blipFill>
          <a:blip r:embed="rId1"/>
          <a:stretch/>
        </p:blipFill>
        <p:spPr>
          <a:xfrm>
            <a:off x="4800600" y="2619360"/>
            <a:ext cx="3809880" cy="268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701720" y="2755800"/>
                <a:ext cx="3605400" cy="31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dient of a scala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 of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scala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s magnitude is the </a:t>
            </a:r>
            <a:r>
              <a:rPr b="0" lang="en-US" sz="2000" spc="-1" strike="noStrike">
                <a:solidFill>
                  <a:srgbClr val="e2d700"/>
                </a:solidFill>
                <a:latin typeface="Constantia"/>
              </a:rPr>
              <a:t>maximum rate of chan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 unit lengt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s direction is the </a:t>
            </a:r>
            <a:r>
              <a:rPr b="0" lang="en-US" sz="2000" spc="-1" strike="noStrike">
                <a:solidFill>
                  <a:srgbClr val="e2d700"/>
                </a:solidFill>
                <a:latin typeface="Constantia"/>
              </a:rPr>
              <a:t>maximum rate of chan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oline: a line of constan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alu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dient line: a line along whic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angent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ional derivativ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he unit vector in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re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4572000" y="4495680"/>
                <a:ext cx="1523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600200" y="2286000"/>
                <a:ext cx="2819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Picture 7" descr="2"/>
          <p:cNvPicPr/>
          <p:nvPr/>
        </p:nvPicPr>
        <p:blipFill>
          <a:blip r:embed="rId1"/>
          <a:stretch/>
        </p:blipFill>
        <p:spPr>
          <a:xfrm>
            <a:off x="684360" y="3429000"/>
            <a:ext cx="453708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2"/>
          <p:cNvPicPr/>
          <p:nvPr/>
        </p:nvPicPr>
        <p:blipFill>
          <a:blip r:embed="rId2"/>
          <a:stretch/>
        </p:blipFill>
        <p:spPr>
          <a:xfrm>
            <a:off x="4788000" y="3500280"/>
            <a:ext cx="4032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1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erodynamics: Some Introductory Though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vergence of a vecto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velocity of a flow, the divergenc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ll be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time rate of volume change per unit volum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divergenc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676520" y="4157640"/>
                <a:ext cx="3276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url of a vecto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gular velo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fluid element translating along a streamline is equal t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one-half of the curl of </a:t>
            </a:r>
            <a:r>
              <a:rPr b="1" lang="en-US" sz="2400" spc="-1" strike="noStrike">
                <a:solidFill>
                  <a:srgbClr val="e2d7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curl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693800" y="4038480"/>
                <a:ext cx="2878200" cy="23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s between line, surface and volume integr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vergence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dient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650960" y="2805120"/>
                <a:ext cx="3098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1674720" y="3886200"/>
                <a:ext cx="3203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97040" y="5029200"/>
                <a:ext cx="2428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p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6" name="Picture 9" descr="2"/>
          <p:cNvPicPr/>
          <p:nvPr/>
        </p:nvPicPr>
        <p:blipFill>
          <a:blip r:embed="rId1"/>
          <a:stretch/>
        </p:blipFill>
        <p:spPr>
          <a:xfrm>
            <a:off x="4932360" y="2205000"/>
            <a:ext cx="3313080" cy="1828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2"/>
          <p:cNvPicPr/>
          <p:nvPr/>
        </p:nvPicPr>
        <p:blipFill>
          <a:blip r:embed="rId2"/>
          <a:stretch/>
        </p:blipFill>
        <p:spPr>
          <a:xfrm>
            <a:off x="4932360" y="4365720"/>
            <a:ext cx="3600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rol volumes and fluid elem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00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volume 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76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uid element 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Picture 8" descr="2"/>
          <p:cNvPicPr/>
          <p:nvPr/>
        </p:nvPicPr>
        <p:blipFill>
          <a:blip r:embed="rId1"/>
          <a:stretch/>
        </p:blipFill>
        <p:spPr>
          <a:xfrm>
            <a:off x="684360" y="3068640"/>
            <a:ext cx="3997080" cy="3024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2"/>
          <p:cNvPicPr/>
          <p:nvPr/>
        </p:nvPicPr>
        <p:blipFill>
          <a:blip r:embed="rId2"/>
          <a:stretch/>
        </p:blipFill>
        <p:spPr>
          <a:xfrm>
            <a:off x="4788000" y="328608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inuity equ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xed control vol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ss flow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 in a finite spa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 at a poin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1042920" y="2387520"/>
                <a:ext cx="1440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042920" y="3716280"/>
                <a:ext cx="297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971640" y="5227560"/>
                <a:ext cx="2087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ρ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8" name="Picture 10" descr="2"/>
          <p:cNvPicPr/>
          <p:nvPr/>
        </p:nvPicPr>
        <p:blipFill>
          <a:blip r:embed="rId1"/>
          <a:stretch/>
        </p:blipFill>
        <p:spPr>
          <a:xfrm>
            <a:off x="4427640" y="2060640"/>
            <a:ext cx="408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omentum equ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xed control vol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iginal form is New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second la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mentum equation in integral for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body force;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visc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viscous force on control surfac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-component of the momentum equation in differential form (similar form for y- and z-component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971640" y="3027240"/>
                <a:ext cx="684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V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)</m:t>
                            </m:r>
                            <m:r>
                              <m:t xml:space="preserve">V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f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scou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1003320" y="5586480"/>
                <a:ext cx="493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ρ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ρu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ρ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scou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Navier-Stokes equ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omentum equations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isc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Eul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equ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omentum equations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teady invisc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258920" y="3787920"/>
                <a:ext cx="204156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u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v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w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athlines and streamlin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4094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th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h of a fluid ele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urve whose tangent at any point is in the direction of the velocity vector at that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stead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low, pathlines and streamlines are 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6" descr="2"/>
          <p:cNvPicPr/>
          <p:nvPr/>
        </p:nvPicPr>
        <p:blipFill>
          <a:blip r:embed="rId1"/>
          <a:stretch/>
        </p:blipFill>
        <p:spPr>
          <a:xfrm>
            <a:off x="4859280" y="1660680"/>
            <a:ext cx="3529080" cy="2560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2"/>
          <p:cNvPicPr/>
          <p:nvPr/>
        </p:nvPicPr>
        <p:blipFill>
          <a:blip r:embed="rId2"/>
          <a:stretch/>
        </p:blipFill>
        <p:spPr>
          <a:xfrm>
            <a:off x="4800600" y="413388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line equation for steady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definition, flow velocity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parallel to directed segment of the streamlin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wo-dimensional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1116000" y="2565360"/>
                <a:ext cx="2879640" cy="25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</m:e>
                                <m:e>
                                  <m:r>
                                    <m:t xml:space="preserve">v</m:t>
                                  </m:r>
                                </m:e>
                                <m:e>
                                  <m:r>
                                    <m:t xml:space="preserve">w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d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6156360" y="4859280"/>
                <a:ext cx="863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gular velocity, vorticity and circu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gular velocity and vorti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a fluid element translate along a streamline, it may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rot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s well a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hape distort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ular velo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Vorticity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defined to be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lso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, the flow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the flow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547640" y="3284640"/>
                <a:ext cx="5400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i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j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and practical objec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me fundamental aerodynamic varia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forces and mo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nter of press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mensio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similar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s of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22080" y="147492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irculation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ion with lift: if an airfoil is generating lift, the circulation taken around a closed curve enclosing the airfoil will b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or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476360" y="2421000"/>
                <a:ext cx="1728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≡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403280" y="5268960"/>
                <a:ext cx="3889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≡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8" name="Picture 26" descr="2"/>
          <p:cNvPicPr/>
          <p:nvPr/>
        </p:nvPicPr>
        <p:blipFill>
          <a:blip r:embed="rId1"/>
          <a:stretch/>
        </p:blipFill>
        <p:spPr>
          <a:xfrm>
            <a:off x="5364000" y="2492280"/>
            <a:ext cx="3453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flow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) everywhere with the contour of integration, then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eam function and velocity potenti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 fun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wo-dimensional steady flow, a streamline equation is given by setting the stream function equal to a con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403280" y="3141720"/>
                <a:ext cx="1438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ψ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1403280" y="4005360"/>
                <a:ext cx="2086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ψ</m:t>
                            </m:r>
                          </m:e>
                        </m:bar>
                        <m:r>
                          <m:t xml:space="preserve">ρ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locity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n irrotational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can find a scalar function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uch tha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given by the gradient of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fore called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elocity potenti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1403280" y="2565360"/>
                <a:ext cx="3309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403280" y="4149720"/>
                <a:ext cx="30956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∇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 between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quipotential lines (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constant) and streamlines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constant) are mutually prependicu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Fundamentals of Inviscid, Incompressible Flow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rnoull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equation and its appl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sure coeffi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pla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equation for irrotational, incompressible f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mentary fl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ation of elementary fl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Bernoulli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equation and its appl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rnoul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ion between pressure and velocity in an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nvisc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ncompres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ation form along a stream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flow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out th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1600200" y="3276720"/>
                <a:ext cx="2533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676520" y="4419720"/>
                <a:ext cx="2533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in a du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ity equation for quasi-one-dimensional flow in a 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676520" y="2819520"/>
                <a:ext cx="228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600200" y="3838680"/>
                <a:ext cx="1692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9" name="Picture 8" descr="3"/>
          <p:cNvPicPr/>
          <p:nvPr/>
        </p:nvPicPr>
        <p:blipFill>
          <a:blip r:embed="rId1"/>
          <a:stretch/>
        </p:blipFill>
        <p:spPr>
          <a:xfrm>
            <a:off x="3492360" y="4005360"/>
            <a:ext cx="5400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enturi and low-speed wind tunn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erodynamic application, venturi can be used to measure the velocity of inlet flow V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Bernou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1662120" y="3521160"/>
                <a:ext cx="31543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52" name="Picture 7" descr="3"/>
          <p:cNvPicPr/>
          <p:nvPr/>
        </p:nvPicPr>
        <p:blipFill>
          <a:blip r:embed="rId1"/>
          <a:stretch/>
        </p:blipFill>
        <p:spPr>
          <a:xfrm>
            <a:off x="4930920" y="3357720"/>
            <a:ext cx="388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assification and practical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inction betwee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der application of shear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d: finite de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uid: continuously increasing de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of fluid dynam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dynamics: flow of liqu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s dynamics: flow of g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erodynamics: flow of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ow-speed wind tunnel is a large venturi where the airflow is driven by a f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est section flow velocity can be derived from Bernou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7" descr="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16280" y="1484280"/>
            <a:ext cx="4264200" cy="46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1332000" y="5013360"/>
                <a:ext cx="3213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93360" y="1557360"/>
            <a:ext cx="416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itto tub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oint: a point in a flow where V = 0. (ex. Point B in the figure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ressure p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ressure at a stagnation point, also called total press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easure the flight velocity of an airpl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7" descr="p3"/>
          <p:cNvPicPr/>
          <p:nvPr/>
        </p:nvPicPr>
        <p:blipFill>
          <a:blip r:embed="rId1"/>
          <a:stretch/>
        </p:blipFill>
        <p:spPr>
          <a:xfrm>
            <a:off x="4932360" y="1658880"/>
            <a:ext cx="3887640" cy="306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800600" y="4687920"/>
                <a:ext cx="2529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Pressure coefficient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sure coefficient is defined 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re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reduced to be in terms of velocity on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1066680" y="1981080"/>
                <a:ext cx="19051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362320" y="2784600"/>
                <a:ext cx="1752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1452600" y="4406760"/>
                <a:ext cx="22017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∞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Laplace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s equation for irrotational, incompressible flow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rrotational flow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velocity potenti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tream fun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lso satisfies 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1219320" y="2048040"/>
                <a:ext cx="1600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1219320" y="3048120"/>
                <a:ext cx="1333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219320" y="3962520"/>
                <a:ext cx="313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1295280" y="5491080"/>
                <a:ext cx="1433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lution of 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s of La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 are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harmonic functi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position principle is applicable since La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licated flow pattern can be synthesized by adding together a number of elementary fl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37720" y="14479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undary con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inity boundary condi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ll boundary conditions (wall tangency condi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1676520" y="2438280"/>
                <a:ext cx="227160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676520" y="5065560"/>
                <a:ext cx="19368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4" name="Picture 11" descr="3"/>
          <p:cNvPicPr/>
          <p:nvPr/>
        </p:nvPicPr>
        <p:blipFill>
          <a:blip r:embed="rId1"/>
          <a:stretch/>
        </p:blipFill>
        <p:spPr>
          <a:xfrm>
            <a:off x="5291280" y="2535120"/>
            <a:ext cx="37447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Elementary flow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4360" y="1523520"/>
            <a:ext cx="503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form f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uniform flow is a physically possible incompressible and irrotational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undary condi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1447920" y="3581280"/>
                <a:ext cx="159228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1523880" y="5791320"/>
                <a:ext cx="129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9" name="Picture 11" descr="3"/>
          <p:cNvPicPr/>
          <p:nvPr/>
        </p:nvPicPr>
        <p:blipFill>
          <a:blip r:embed="rId1"/>
          <a:stretch/>
        </p:blipFill>
        <p:spPr>
          <a:xfrm>
            <a:off x="4930920" y="2781360"/>
            <a:ext cx="388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495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undary condi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1371600" y="1905120"/>
                <a:ext cx="1646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1447920" y="4176720"/>
                <a:ext cx="1191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464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urc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lindrical coordinate system is appl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 at every point excep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otational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ource str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defined as the volume flow rate per unit length.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2"/>
              <p:cNvSpPr txBox="1"/>
              <p:nvPr/>
            </p:nvSpPr>
            <p:spPr>
              <a:xfrm>
                <a:off x="1477800" y="4191120"/>
                <a:ext cx="21798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Picture 12" descr="3"/>
          <p:cNvPicPr/>
          <p:nvPr/>
        </p:nvPicPr>
        <p:blipFill>
          <a:blip r:embed="rId1"/>
          <a:stretch/>
        </p:blipFill>
        <p:spPr>
          <a:xfrm>
            <a:off x="5075280" y="2556000"/>
            <a:ext cx="39607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, wherea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egati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ink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523880" y="2819520"/>
                <a:ext cx="1440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actical objectives of aerodynam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ediction of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forc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mom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, an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heat transf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, bodies moving through a fluid (usually air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ation of flows moving internally through ducts. (ex. Flow properties inside rocket and air-breathing jet engi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10920" y="1628280"/>
            <a:ext cx="4537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ublet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ource-sink with the same strength, while the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ween each other tends to z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const. is the strength of the doubl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914400" y="4038480"/>
                <a:ext cx="441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e>
                        </m:eqArr>
                      </m:e>
                      <m:lim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lΛ</m:t>
                        </m:r>
                      </m:lim>
                    </m:limLow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e>
                        </m:eqArr>
                      </m:e>
                      <m:lim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lΛ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d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0" name="Picture 7" descr="3"/>
          <p:cNvPicPr/>
          <p:nvPr/>
        </p:nvPicPr>
        <p:blipFill>
          <a:blip r:embed="rId1"/>
          <a:stretch/>
        </p:blipFill>
        <p:spPr>
          <a:xfrm>
            <a:off x="5003640" y="1916280"/>
            <a:ext cx="3780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rection of a doublet is designated by an arrow draw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orm the sink to the sour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1695600" y="1905120"/>
                <a:ext cx="18856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464976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rtex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flow where all the streamlines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oncentric cir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velocity along any circular streamline is cons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otational at every point excep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8" descr="3"/>
          <p:cNvPicPr/>
          <p:nvPr/>
        </p:nvPicPr>
        <p:blipFill>
          <a:blip r:embed="rId1"/>
          <a:stretch/>
        </p:blipFill>
        <p:spPr>
          <a:xfrm>
            <a:off x="5219640" y="2421000"/>
            <a:ext cx="3529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22080" y="147492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ircu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1447920" y="1908000"/>
                <a:ext cx="234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479600" y="3657600"/>
                <a:ext cx="1492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θ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Combination of elementary flow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perposition of a uniform flow and a sour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1447920" y="2514600"/>
                <a:ext cx="2590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1" name="Picture 6" descr="3"/>
          <p:cNvPicPr/>
          <p:nvPr/>
        </p:nvPicPr>
        <p:blipFill>
          <a:blip r:embed="rId1"/>
          <a:stretch/>
        </p:blipFill>
        <p:spPr>
          <a:xfrm>
            <a:off x="1042920" y="3429000"/>
            <a:ext cx="71280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o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amline goes through the stagnation point is describ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2, shown as curv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447920" y="1828800"/>
                <a:ext cx="31240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447920" y="3657600"/>
                <a:ext cx="510372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∞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Λ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r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∞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lin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parates the fluid coming from the free stream and the fluid emanating from the sour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ntire region insid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uld be replaced with a solid body of the same sh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perposition of a uniform flow and a source-sink pai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530360" y="2743200"/>
                <a:ext cx="3498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8" name="Picture 6" descr="3"/>
          <p:cNvPicPr/>
          <p:nvPr/>
        </p:nvPicPr>
        <p:blipFill>
          <a:blip r:embed="rId1"/>
          <a:stretch/>
        </p:blipFill>
        <p:spPr>
          <a:xfrm>
            <a:off x="1763640" y="3500280"/>
            <a:ext cx="54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tagnation points A and B are found by setting V=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s given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the equation of an oval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Rankine ov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gion inside the oval can be replaced by a solid body with the same sh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1430280" y="2676600"/>
                <a:ext cx="397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nlifting flow over a circular cylin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position of a uniform flow and a doubl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1523880" y="2795760"/>
                <a:ext cx="592956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where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κ</m:t>
                    </m:r>
                    <m:r>
                      <m:t xml:space="preserve">/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π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13" name="Picture 6" descr="3"/>
          <p:cNvPicPr/>
          <p:nvPr/>
        </p:nvPicPr>
        <p:blipFill>
          <a:blip r:embed="rId1"/>
          <a:stretch/>
        </p:blipFill>
        <p:spPr>
          <a:xfrm>
            <a:off x="2268360" y="3763800"/>
            <a:ext cx="5112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Some fundamental aerodynamic variable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su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nsit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mperature, 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velocity, 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1316160" y="2320920"/>
                <a:ext cx="2997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1433520" y="3768840"/>
                <a:ext cx="2913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9" name="Picture 19" descr="1"/>
          <p:cNvPicPr/>
          <p:nvPr/>
        </p:nvPicPr>
        <p:blipFill>
          <a:blip r:embed="rId1"/>
          <a:stretch/>
        </p:blipFill>
        <p:spPr>
          <a:xfrm>
            <a:off x="4495680" y="2781360"/>
            <a:ext cx="46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s given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ncludes the circle described b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entire horizontal axis through point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370160" y="1846440"/>
                <a:ext cx="3506760" cy="18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1360440" y="4038480"/>
                <a:ext cx="33638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can replace the flow inside the circle by a solid body. Consequently, a flow over a circular cylindrical of radiu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synthesized by this superposition, 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essure distribution is symmetric about both axes. As a result, there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 net lif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s well a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 net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 makes no sense in real wor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295280" y="3008160"/>
                <a:ext cx="15303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4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218960" y="25146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compressible Flow over Airfoi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irfoil nomenclature and characterist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ortex she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Kutta cond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el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irculation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cal thin airfoil the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cambered airf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ortex panel numerical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irfoil nomenclature and characterist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5" name="Picture 7" descr="4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7" name="Picture 10" descr="4"/>
          <p:cNvPicPr/>
          <p:nvPr/>
        </p:nvPicPr>
        <p:blipFill>
          <a:blip r:embed="rId1"/>
          <a:stretch/>
        </p:blipFill>
        <p:spPr>
          <a:xfrm>
            <a:off x="5776920" y="1905120"/>
            <a:ext cx="185724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4"/>
          <p:cNvPicPr/>
          <p:nvPr/>
        </p:nvPicPr>
        <p:blipFill>
          <a:blip r:embed="rId2"/>
          <a:stretch/>
        </p:blipFill>
        <p:spPr>
          <a:xfrm>
            <a:off x="755640" y="2735280"/>
            <a:ext cx="4248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vortex shee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6765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rtex sheet with streng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a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duced by a small section of vortex sheet of str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velocity potential (to avoid vector addition as for veloc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676520" y="3505320"/>
                <a:ext cx="1600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1622520" y="5330880"/>
                <a:ext cx="1708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ϕ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3" name="Picture 8" descr="4"/>
          <p:cNvPicPr/>
          <p:nvPr/>
        </p:nvPicPr>
        <p:blipFill>
          <a:blip r:embed="rId1"/>
          <a:stretch/>
        </p:blipFill>
        <p:spPr>
          <a:xfrm>
            <a:off x="5075280" y="1428840"/>
            <a:ext cx="3960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8080" y="167616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potential at P due to entire vortex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rculation around the vortex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l jump in tangential velocity across the vortex sheet is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641600" y="2435400"/>
                <a:ext cx="216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θ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3"/>
              <p:cNvSpPr txBox="1"/>
              <p:nvPr/>
            </p:nvSpPr>
            <p:spPr>
              <a:xfrm>
                <a:off x="1752480" y="4246560"/>
                <a:ext cx="1436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5715000" y="5226120"/>
                <a:ext cx="30481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   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8" name="Picture 9" descr="4"/>
          <p:cNvPicPr/>
          <p:nvPr/>
        </p:nvPicPr>
        <p:blipFill>
          <a:blip r:embed="rId1"/>
          <a:stretch/>
        </p:blipFill>
        <p:spPr>
          <a:xfrm rot="60000">
            <a:off x="5438520" y="2488680"/>
            <a:ext cx="3097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) such that the induced velocity field when added to 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ll make the vortex sheet (hence the airfoil surface)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a streamline of the f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sulting lift is given by Kutta-Joukowski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 airfoil approxi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447920" y="358128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1" name="Picture 6" descr="4"/>
          <p:cNvPicPr/>
          <p:nvPr/>
        </p:nvPicPr>
        <p:blipFill>
          <a:blip r:embed="rId1"/>
          <a:stretch/>
        </p:blipFill>
        <p:spPr>
          <a:xfrm>
            <a:off x="1332000" y="4581360"/>
            <a:ext cx="7272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Kutta condi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ment of the Kutta cond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the airfoil is such that the flow leaves the trailing edg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mooth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trailing edge angl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n the trailing edge is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tag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trailing edg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usp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n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ving the top and bottom surface at the trailing edge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 and eq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1676520" y="5257800"/>
                <a:ext cx="1272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Aerodynamic forces and moment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forces and moments are due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ure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ear stress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sultant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r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normal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xial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5" descr="1"/>
          <p:cNvPicPr/>
          <p:nvPr/>
        </p:nvPicPr>
        <p:blipFill>
          <a:blip r:embed="rId1"/>
          <a:stretch/>
        </p:blipFill>
        <p:spPr>
          <a:xfrm>
            <a:off x="4389480" y="3247920"/>
            <a:ext cx="4227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Kelvin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circulation theor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ment of Kel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irculation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ime rate of change of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a closed curve consisting of the same fluid elements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7" name="Picture 7" descr="4"/>
          <p:cNvPicPr/>
          <p:nvPr/>
        </p:nvPicPr>
        <p:blipFill>
          <a:blip r:embed="rId1"/>
          <a:stretch/>
        </p:blipFill>
        <p:spPr>
          <a:xfrm>
            <a:off x="684360" y="3284640"/>
            <a:ext cx="4032000" cy="3227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4"/>
          <p:cNvPicPr/>
          <p:nvPr/>
        </p:nvPicPr>
        <p:blipFill>
          <a:blip r:embed="rId2"/>
          <a:stretch/>
        </p:blipFill>
        <p:spPr>
          <a:xfrm>
            <a:off x="5003640" y="3284640"/>
            <a:ext cx="3745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assical thin airfoi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a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) such that the camber line becomes a stream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tta condi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E)=0 is satisf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the airf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the lift via the Kutta-Joukowski theor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837720" y="14479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ce the vortex sheet on the chord line, whereas determ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x) to mak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amber lin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a stream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dition for camber line to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a stream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'(s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omponent of velocity normal to the camber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676520" y="4471920"/>
                <a:ext cx="2133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3" name="Picture 9" descr="4"/>
          <p:cNvPicPr/>
          <p:nvPr/>
        </p:nvPicPr>
        <p:blipFill>
          <a:blip r:embed="rId1"/>
          <a:stretch/>
        </p:blipFill>
        <p:spPr>
          <a:xfrm>
            <a:off x="5292720" y="1844640"/>
            <a:ext cx="3641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09480" y="1523880"/>
            <a:ext cx="464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,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371600" y="1925640"/>
                <a:ext cx="3809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368360" y="335268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  <m:r>
                              <m:t xml:space="preserve">≈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  {</m:t>
                            </m:r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Picture 13" descr="4"/>
          <p:cNvPicPr/>
          <p:nvPr/>
        </p:nvPicPr>
        <p:blipFill>
          <a:blip r:embed="rId1"/>
          <a:srcRect l="3708" t="0" r="0" b="0"/>
          <a:stretch/>
        </p:blipFill>
        <p:spPr>
          <a:xfrm>
            <a:off x="5292720" y="2349360"/>
            <a:ext cx="38512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449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(x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of thin airfoil the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409760" y="3581280"/>
                <a:ext cx="3618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14" descr="4"/>
          <p:cNvPicPr/>
          <p:nvPr/>
        </p:nvPicPr>
        <p:blipFill>
          <a:blip r:embed="rId1"/>
          <a:stretch/>
        </p:blipFill>
        <p:spPr>
          <a:xfrm>
            <a:off x="1332000" y="4437000"/>
            <a:ext cx="5545080" cy="21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371600" y="1828800"/>
                <a:ext cx="2895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symmetric airfoil (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z/dx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form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1371600" y="2438280"/>
                <a:ext cx="2692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1447920" y="3780000"/>
                <a:ext cx="4682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1403280" y="5029200"/>
                <a:ext cx="3168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ck on Kutta condition by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s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ru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circulation around the airfo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per unit sp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1563840" y="3359160"/>
                <a:ext cx="346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1547640" y="2027160"/>
                <a:ext cx="3252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1522440" y="4848120"/>
                <a:ext cx="3622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sSub>
                      <m:e>
                        <m:r>
                          <m:t xml:space="preserve">c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611280" y="1628280"/>
            <a:ext cx="81518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 and lift sl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about leading edge and momen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"/>
              <p:cNvSpPr txBox="1"/>
              <p:nvPr/>
            </p:nvSpPr>
            <p:spPr>
              <a:xfrm>
                <a:off x="1395360" y="1987560"/>
                <a:ext cx="40147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r>
                      <m:rPr>
                        <m:lit/>
                        <m:nor/>
                      </m:rPr>
                      <m:t xml:space="preserve"> , 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1460520" y="3300480"/>
                <a:ext cx="425448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ξd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 about quarter-ch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symmetric airfoil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quarter-chord poi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both the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enter of pressu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aerodynamic cen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2"/>
              <p:cNvSpPr txBox="1"/>
              <p:nvPr/>
            </p:nvSpPr>
            <p:spPr>
              <a:xfrm>
                <a:off x="1600200" y="1719360"/>
                <a:ext cx="26463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cambered airfoi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efficient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1378080" y="2438280"/>
                <a:ext cx="4787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1523880" y="3657600"/>
                <a:ext cx="5216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θ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1447920" y="5051520"/>
                <a:ext cx="6629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 between L,D and N,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resentation of N´, A´and M´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terms of pressur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hear str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es denote force per unit sp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crip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note upper surface wh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note lower surf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676520" y="2438280"/>
                <a:ext cx="2438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22440" y="147492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coeffic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 and sl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 thin airfoil theory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lift slo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lway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e2d7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ny shape airf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 airfoil theory also provides a means to predict the angle of zero lif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601640" y="4865760"/>
                <a:ext cx="47214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1379520" y="2322360"/>
                <a:ext cx="68500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, 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cambered airfoil, the quarter-chord point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enter of pressu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still is the theoretical location of the aerodynamic cen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"/>
              <p:cNvSpPr txBox="1"/>
              <p:nvPr/>
            </p:nvSpPr>
            <p:spPr>
              <a:xfrm>
                <a:off x="1523880" y="1981080"/>
                <a:ext cx="371016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tion of the center of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nter of pressur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nient for drawing the force system. Rather, the aerodynamic center is more conven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tion of aerodynamic cen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447920" y="1828800"/>
                <a:ext cx="3124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371600" y="3200400"/>
                <a:ext cx="2516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as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371600" y="5257800"/>
                <a:ext cx="65530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,  where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vortex panel numerical metho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5184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to use this metho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irfoil thickness larger than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12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high angle of attac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esults from thin airfoil theory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ood enough to agree with the experimental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roximate th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irfoil surface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eries of stra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nels with streng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to 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1403280" y="5410080"/>
                <a:ext cx="425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2" name="Picture 14" descr="3"/>
          <p:cNvPicPr/>
          <p:nvPr/>
        </p:nvPicPr>
        <p:blipFill>
          <a:blip r:embed="rId1"/>
          <a:stretch/>
        </p:blipFill>
        <p:spPr>
          <a:xfrm>
            <a:off x="4249800" y="3213000"/>
            <a:ext cx="48592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potential induced at P due to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 panel 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otal potential at 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t P at the control point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 pan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1523880" y="2075040"/>
                <a:ext cx="61722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ϕ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1600200" y="3476520"/>
                <a:ext cx="50166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1600200" y="4800600"/>
                <a:ext cx="3983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684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ormal component of the velocity is zero at the control points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then hav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linear algebraic equation with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nknow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1523880" y="2319480"/>
                <a:ext cx="664056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tta cond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impose the Kutta condition, we choose to ignore one of the control poi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eed to ignore one of the control points introduces some arbitrariness in the numerical so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1523880" y="218448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1" name="Picture 7" descr="4"/>
          <p:cNvPicPr/>
          <p:nvPr/>
        </p:nvPicPr>
        <p:blipFill>
          <a:blip r:embed="rId1"/>
          <a:stretch/>
        </p:blipFill>
        <p:spPr>
          <a:xfrm>
            <a:off x="5580000" y="2852640"/>
            <a:ext cx="3313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5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371240" y="25146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compressible Flow over Finite Wing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77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wnwash and induced dra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Biot-Savart law and Helmholt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theor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and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lassical Lifting-line the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lliptical 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ral 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wash and induced dra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7720" y="16761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difference between finite wing and airf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inite wing, the flow near wing tips tends t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url around the ti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eing forced from the high- pressure just underneath the tips to the low- pressure region on to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7" descr="5"/>
          <p:cNvPicPr/>
          <p:nvPr/>
        </p:nvPicPr>
        <p:blipFill>
          <a:blip r:embed="rId1"/>
          <a:stretch/>
        </p:blipFill>
        <p:spPr>
          <a:xfrm>
            <a:off x="5076720" y="184320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06:29:38Z</dcterms:created>
  <dc:creator>fan</dc:creator>
  <dc:description/>
  <dc:language>en-US</dc:language>
  <cp:lastModifiedBy>mohammed- 1</cp:lastModifiedBy>
  <dcterms:modified xsi:type="dcterms:W3CDTF">2019-02-05T19:16:37Z</dcterms:modified>
  <cp:revision>41</cp:revision>
  <dc:subject/>
  <dc:title>PowerPoint 簡報</dc:title>
</cp:coreProperties>
</file>