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1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40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61D4-3952-463B-9617-0919B062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C9EA-CFDF-40B7-8AFF-25D25067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129-F821-4793-8FAA-A02AC2AA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E9D0-275B-4AE8-88B2-B7D5A1C3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F097-F003-4682-8AD2-055702CC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F275-0FB4-4716-AFCC-72977311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6188-3DE8-4433-AF60-4D3CC1EC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2255-0908-4035-93DD-69DACF60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6BA3-8727-4D3B-8610-3B48E654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91F7-A754-4B7A-B928-80BF4B0E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3B42-FE7C-43CA-B5AE-D6CE7D70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2D3F-A23A-43D3-A65B-00F378F6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AEA8-5006-4FD9-9CF7-73AA3958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52EE-DFB8-454D-BDBE-5015FBEB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C9E5-3879-40C6-8FB9-D5F7D0F0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A270-BC2E-4DDA-9041-D80D2CBB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3A33-4B0B-454F-9B59-173387A3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5356F-8B9A-4E05-B2C9-C77A9345D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2D4A8-00EE-4ECE-AA2D-779D9B5C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410E2-4BA4-44CC-AA57-F2A64275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3D796-0B02-4B94-878E-F12892E7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D116C-7354-4D4E-86FD-BE97682C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BB8A-BF50-4178-9FEB-1C760D83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0118A-50BC-48CB-AEF1-3FDECCDE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C4775-F458-474E-AE0B-F155E75E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F519D-A478-42FC-AE21-7A2764C3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4D30A-8187-42E8-AB87-B097CCF6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64107-A0A8-4D9D-8EF0-6CA010B4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762E6-4BD7-40C0-A8A7-05E54C74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4D727-6389-4896-899C-953202E8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A04D6-233F-40E8-AC3D-702F0BFD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1C201-519A-4ABF-A331-8E06AEC1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46CD0-A35D-4D32-88A6-5800B51C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F878-55E8-4623-B6BF-6731339B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B92D1-3EE6-4927-9E30-A1EF66ED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8A29C-AF64-492E-A76F-D1873E97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649B1-B4B4-4CB0-8E14-72118E81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7E178-0C6D-4577-83B7-7386ABD7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39915-FAA6-4A17-A9BA-3F0ECF0D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8199D-A397-4F66-B8DD-555BF616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6BAB5-66BF-485E-A71E-D554D4A1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DDB38-B579-4A0C-B598-654F0CC7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B2D52-ADA7-42BD-BD30-379CEFC8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1C3-4136-4E22-86F0-839398F1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F5FA-17B2-4D76-A75A-1D9AFDF5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D181-F4EC-4BA1-8025-06045050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4F80-C663-48DA-9607-24FE0CAC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DF89-C0F2-409A-A521-FA9FFE4C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DC14-3183-4875-815B-BA9236571239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C6F5-F25C-4D9B-9FB5-4C714D4F0274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5F6C-C8E1-48A5-9DBD-1C43C0144681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0990-DD6F-4549-A2F9-7AB3BA56E72F}" type="slidenum">
              <a:rPr b="0" lang="en-US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1981080" y="1828800"/>
            <a:ext cx="495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ERODYNAMI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269064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762120" y="1512720"/>
                <a:ext cx="7500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7" name="Rectangle 7"/>
          <p:cNvSpPr/>
          <p:nvPr/>
        </p:nvSpPr>
        <p:spPr>
          <a:xfrm>
            <a:off x="269064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6"/>
              <p:cNvSpPr txBox="1"/>
              <p:nvPr/>
            </p:nvSpPr>
            <p:spPr>
              <a:xfrm>
                <a:off x="776160" y="2209680"/>
                <a:ext cx="74678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9" name="Rectangle 9"/>
          <p:cNvSpPr/>
          <p:nvPr/>
        </p:nvSpPr>
        <p:spPr>
          <a:xfrm>
            <a:off x="264312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8"/>
              <p:cNvSpPr txBox="1"/>
              <p:nvPr/>
            </p:nvSpPr>
            <p:spPr>
              <a:xfrm>
                <a:off x="749160" y="2819520"/>
                <a:ext cx="716292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y</m:t>
                            </m:r>
                            <m:r>
                              <m:t xml:space="preserve">]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y</m:t>
                            </m:r>
                            <m:r>
                              <m:t xml:space="preserve">]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21" name="Picture 11" descr="1"/>
          <p:cNvPicPr/>
          <p:nvPr/>
        </p:nvPicPr>
        <p:blipFill>
          <a:blip r:embed="rId1"/>
          <a:stretch/>
        </p:blipFill>
        <p:spPr>
          <a:xfrm>
            <a:off x="1905120" y="4092480"/>
            <a:ext cx="52768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ue to th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spanwsie componen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flow from tip toward to root, the streamlines over the top surface are bent toward root. In contrast, the streamlines over bottom surface toward ti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trailing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vortex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created at each win ti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0" name="Picture 6" descr="5"/>
          <p:cNvPicPr/>
          <p:nvPr/>
        </p:nvPicPr>
        <p:blipFill>
          <a:blip r:embed="rId1"/>
          <a:stretch/>
        </p:blipFill>
        <p:spPr>
          <a:xfrm>
            <a:off x="1547640" y="3716280"/>
            <a:ext cx="65534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609480" y="152388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ffect of downwas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ng-tip vortices downstream of the wing induce a small component of air velocity, called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downwash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which is denoted by the symbol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wnwash causes inclining the local relative wind in th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downwar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irec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2" name="Picture 6" descr="5"/>
          <p:cNvPicPr/>
          <p:nvPr/>
        </p:nvPicPr>
        <p:blipFill>
          <a:blip r:embed="rId1"/>
          <a:stretch/>
        </p:blipFill>
        <p:spPr>
          <a:xfrm>
            <a:off x="4932360" y="2133720"/>
            <a:ext cx="40323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ffective angle of atta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tilting backward of the lift vector induce a drag, called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induced dra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D</a:t>
            </a:r>
            <a:r>
              <a:rPr b="0" i="1" lang="en-US" sz="1600" spc="-1" strike="noStrike">
                <a:solidFill>
                  <a:srgbClr val="e2d7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ch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a type of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pressure dra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tal drag = Profile drag + Induce drag, therefo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2"/>
              <p:cNvSpPr txBox="1"/>
              <p:nvPr/>
            </p:nvSpPr>
            <p:spPr>
              <a:xfrm>
                <a:off x="1676520" y="1982880"/>
                <a:ext cx="18288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3"/>
              <p:cNvSpPr txBox="1"/>
              <p:nvPr/>
            </p:nvSpPr>
            <p:spPr>
              <a:xfrm>
                <a:off x="1676520" y="4038480"/>
                <a:ext cx="47322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where 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e Biot-Savart law and Helmholtz</a:t>
            </a:r>
            <a:r>
              <a:rPr b="0" lang="en-US" sz="3200" spc="-1" strike="noStrike">
                <a:solidFill>
                  <a:srgbClr val="04617b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 theorem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iot-Savart law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velocity at point P,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V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induced by a small directed segment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a curved filament with streng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velocity at P by a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raight vortex fila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f infinite length 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2"/>
              <p:cNvSpPr txBox="1"/>
              <p:nvPr/>
            </p:nvSpPr>
            <p:spPr>
              <a:xfrm>
                <a:off x="1600200" y="3200400"/>
                <a:ext cx="191772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1523880" y="5365800"/>
                <a:ext cx="215136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×</m:t>
                            </m:r>
                            <m:r>
                              <m:t xml:space="preserve">r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r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520" name="Picture 8" descr="5"/>
          <p:cNvPicPr/>
          <p:nvPr/>
        </p:nvPicPr>
        <p:blipFill>
          <a:blip r:embed="rId1"/>
          <a:stretch/>
        </p:blipFill>
        <p:spPr>
          <a:xfrm>
            <a:off x="4788000" y="3141720"/>
            <a:ext cx="4356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685440" y="16002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magnitude of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locity at P by a semi-infinite vortex filament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2"/>
              <p:cNvSpPr txBox="1"/>
              <p:nvPr/>
            </p:nvSpPr>
            <p:spPr>
              <a:xfrm>
                <a:off x="1512720" y="2075040"/>
                <a:ext cx="313560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h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3"/>
              <p:cNvSpPr txBox="1"/>
              <p:nvPr/>
            </p:nvSpPr>
            <p:spPr>
              <a:xfrm>
                <a:off x="1600200" y="4572000"/>
                <a:ext cx="11653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24" name="Picture 10" descr="5"/>
          <p:cNvPicPr/>
          <p:nvPr/>
        </p:nvPicPr>
        <p:blipFill>
          <a:blip r:embed="rId1"/>
          <a:stretch/>
        </p:blipFill>
        <p:spPr>
          <a:xfrm>
            <a:off x="5364000" y="2349360"/>
            <a:ext cx="352908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olmholt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 vortex theore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trength of a vortex filament is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long its lengt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vortex filament cannot end in a fluid; it must extend to the boundaries of the fluid (which can b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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or form a closed path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ft distribu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fferent airfoil sections may hav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geometric and aerodynamic twis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that results in a lift distribution along the spa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Prandtl</a:t>
            </a:r>
            <a:r>
              <a:rPr b="0" lang="en-US" sz="3200" spc="-1" strike="noStrike">
                <a:solidFill>
                  <a:srgbClr val="04617b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 classical Lifting-line theor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838080" y="15238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orseshoe vortex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rseshoe vortex consists of a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bound vortex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two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free vortex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ound vortex induces no velocity along itself, however, the two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free vortic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ontribute to th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downwar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velocity along the bound vortex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8" name="Picture 6" descr="5"/>
          <p:cNvPicPr/>
          <p:nvPr/>
        </p:nvPicPr>
        <p:blipFill>
          <a:blip r:embed="rId1"/>
          <a:stretch/>
        </p:blipFill>
        <p:spPr>
          <a:xfrm>
            <a:off x="4572000" y="2335320"/>
            <a:ext cx="450072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wnwas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wnwash at point y along the bound vortex 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2"/>
              <p:cNvSpPr txBox="1"/>
              <p:nvPr/>
            </p:nvSpPr>
            <p:spPr>
              <a:xfrm>
                <a:off x="1676520" y="2438280"/>
                <a:ext cx="45831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31" name="Picture 10" descr="5"/>
          <p:cNvPicPr/>
          <p:nvPr/>
        </p:nvPicPr>
        <p:blipFill>
          <a:blip r:embed="rId1"/>
          <a:stretch/>
        </p:blipFill>
        <p:spPr>
          <a:xfrm>
            <a:off x="2124000" y="3243240"/>
            <a:ext cx="496908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684000" y="17002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fting-line the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stead of a single horseshoe vortex, infinite number of horseshoe vortices with a vanishing small strength 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re superimposed to form the bound vortices a single line which is called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lifting lin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3" name="Picture 9" descr="5"/>
          <p:cNvPicPr/>
          <p:nvPr/>
        </p:nvPicPr>
        <p:blipFill>
          <a:blip r:embed="rId1"/>
          <a:stretch/>
        </p:blipFill>
        <p:spPr>
          <a:xfrm>
            <a:off x="4572000" y="2100240"/>
            <a:ext cx="43210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8075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trailing vortices become a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continuous vortex shee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railing downstream of the lifting li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velocity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duced at y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by the entire trailing vortex sheet 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induce angle of attack is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Object 2"/>
              <p:cNvSpPr txBox="1"/>
              <p:nvPr/>
            </p:nvSpPr>
            <p:spPr>
              <a:xfrm>
                <a:off x="1447920" y="3048120"/>
                <a:ext cx="411480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dΓ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3"/>
              <p:cNvSpPr txBox="1"/>
              <p:nvPr/>
            </p:nvSpPr>
            <p:spPr>
              <a:xfrm>
                <a:off x="1371600" y="4495680"/>
                <a:ext cx="5803920" cy="18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∞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limUpp>
                          <m:e>
                            <m:r>
                              <m:t xml:space="preserve">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for small angle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πV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dΓ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80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imensionless force and moment coeffici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 = reference area ( planform area for w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 reference length (chord length for w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ynamic press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ft co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g co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rmal force co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xial force co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ment co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3941640" y="2654280"/>
                <a:ext cx="1524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5"/>
              <p:cNvSpPr txBox="1"/>
              <p:nvPr/>
            </p:nvSpPr>
            <p:spPr>
              <a:xfrm>
                <a:off x="3962520" y="3386160"/>
                <a:ext cx="990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6"/>
              <p:cNvSpPr txBox="1"/>
              <p:nvPr/>
            </p:nvSpPr>
            <p:spPr>
              <a:xfrm>
                <a:off x="5324400" y="3886200"/>
                <a:ext cx="10112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7"/>
              <p:cNvSpPr txBox="1"/>
              <p:nvPr/>
            </p:nvSpPr>
            <p:spPr>
              <a:xfrm>
                <a:off x="6534000" y="4495680"/>
                <a:ext cx="10303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8"/>
              <p:cNvSpPr txBox="1"/>
              <p:nvPr/>
            </p:nvSpPr>
            <p:spPr>
              <a:xfrm>
                <a:off x="5400720" y="5181480"/>
                <a:ext cx="10112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9"/>
              <p:cNvSpPr txBox="1"/>
              <p:nvPr/>
            </p:nvSpPr>
            <p:spPr>
              <a:xfrm>
                <a:off x="4361040" y="5867280"/>
                <a:ext cx="1109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lift coefficient at y=y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om the Kutta-Joukowski theorem, lift for the local airfoil section located at y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ression of effective angle of atta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2"/>
              <p:cNvSpPr txBox="1"/>
              <p:nvPr/>
            </p:nvSpPr>
            <p:spPr>
              <a:xfrm>
                <a:off x="1447920" y="1981080"/>
                <a:ext cx="62481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3"/>
              <p:cNvSpPr txBox="1"/>
              <p:nvPr/>
            </p:nvSpPr>
            <p:spPr>
              <a:xfrm>
                <a:off x="1371600" y="3156120"/>
                <a:ext cx="471636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4"/>
              <p:cNvSpPr txBox="1"/>
              <p:nvPr/>
            </p:nvSpPr>
            <p:spPr>
              <a:xfrm>
                <a:off x="1422360" y="5396040"/>
                <a:ext cx="33019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π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7704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Fundamental equation of Prandtl</a:t>
            </a:r>
            <a:r>
              <a:rPr b="0" i="1" lang="en-US" sz="2400" spc="-1" strike="noStrike">
                <a:solidFill>
                  <a:srgbClr val="e2d700"/>
                </a:solidFill>
                <a:latin typeface="Times New Roman"/>
              </a:rPr>
              <a:t>’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s lifting-line theory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integro-differential equation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olu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gives the three main aerodynamic characteristics of a finite w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2"/>
              <p:cNvSpPr txBox="1"/>
              <p:nvPr/>
            </p:nvSpPr>
            <p:spPr>
              <a:xfrm>
                <a:off x="1527120" y="2381400"/>
                <a:ext cx="723600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πV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πV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dΓ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610920" y="1479600"/>
            <a:ext cx="78469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lift distribu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lift co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induced drag co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2"/>
              <p:cNvSpPr txBox="1"/>
              <p:nvPr/>
            </p:nvSpPr>
            <p:spPr>
              <a:xfrm>
                <a:off x="1652760" y="1905120"/>
                <a:ext cx="29192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Γ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3"/>
              <p:cNvSpPr txBox="1"/>
              <p:nvPr/>
            </p:nvSpPr>
            <p:spPr>
              <a:xfrm>
                <a:off x="1600200" y="2666880"/>
                <a:ext cx="421632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4"/>
              <p:cNvSpPr txBox="1"/>
              <p:nvPr/>
            </p:nvSpPr>
            <p:spPr>
              <a:xfrm>
                <a:off x="1690560" y="4952880"/>
                <a:ext cx="4186440" cy="15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≈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Elliptical lift distribu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7720" y="1484280"/>
            <a:ext cx="75502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harateristic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liptical circulation distribu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the circulation at the origi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lliptical lift distribu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Zero lift at the wing ti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2"/>
              <p:cNvSpPr txBox="1"/>
              <p:nvPr/>
            </p:nvSpPr>
            <p:spPr>
              <a:xfrm>
                <a:off x="1752480" y="2362320"/>
                <a:ext cx="25146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1676520" y="4006800"/>
                <a:ext cx="50320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4"/>
              <p:cNvSpPr txBox="1"/>
              <p:nvPr/>
            </p:nvSpPr>
            <p:spPr>
              <a:xfrm>
                <a:off x="1676520" y="5442120"/>
                <a:ext cx="213192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98192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sulting aerodynamic properti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using the transformation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y=b/2 co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we obta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ch states that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downwash is constan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ver the span for an elliptical lift distribu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duced angle of atta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2"/>
              <p:cNvSpPr txBox="1"/>
              <p:nvPr/>
            </p:nvSpPr>
            <p:spPr>
              <a:xfrm>
                <a:off x="1523880" y="2500200"/>
                <a:ext cx="16765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3"/>
              <p:cNvSpPr txBox="1"/>
              <p:nvPr/>
            </p:nvSpPr>
            <p:spPr>
              <a:xfrm>
                <a:off x="1523880" y="4503600"/>
                <a:ext cx="50292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,  Aspect rati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AR</m:t>
                    </m:r>
                    <m:r>
                      <m:t xml:space="preserve">≡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622440" y="1474920"/>
            <a:ext cx="783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duced drag co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ch states that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D,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proportional to the square of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inversely proportional to 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For an elliptical lift distribu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the chord must vary elliptically along the span; that is, th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wing planform is elliptic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2"/>
              <p:cNvSpPr txBox="1"/>
              <p:nvPr/>
            </p:nvSpPr>
            <p:spPr>
              <a:xfrm>
                <a:off x="1447920" y="1836720"/>
                <a:ext cx="17319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General lift distribu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haracteristic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sider the trans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assu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undamental equation at a given loc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2"/>
              <p:cNvSpPr txBox="1"/>
              <p:nvPr/>
            </p:nvSpPr>
            <p:spPr>
              <a:xfrm>
                <a:off x="1523880" y="2438280"/>
                <a:ext cx="17877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3"/>
              <p:cNvSpPr txBox="1"/>
              <p:nvPr/>
            </p:nvSpPr>
            <p:spPr>
              <a:xfrm>
                <a:off x="1600200" y="3505320"/>
                <a:ext cx="34383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θ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Object 4"/>
              <p:cNvSpPr txBox="1"/>
              <p:nvPr/>
            </p:nvSpPr>
            <p:spPr>
              <a:xfrm>
                <a:off x="1378080" y="4754520"/>
                <a:ext cx="75373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π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n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nθ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539280" y="1484280"/>
            <a:ext cx="76215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e may choos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fferent spanwise stations, then we can obtain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dependent algebraic equations with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unknowns, namely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sulting aerodynamic properti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fting co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duced drag co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2"/>
              <p:cNvSpPr txBox="1"/>
              <p:nvPr/>
            </p:nvSpPr>
            <p:spPr>
              <a:xfrm>
                <a:off x="1374840" y="3581280"/>
                <a:ext cx="44164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1371600" y="4802040"/>
                <a:ext cx="584208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,  where  </m:t>
                    </m:r>
                    <m:r>
                      <m:t xml:space="preserve">δ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n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610920" y="155736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Defin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  <a:ea typeface="Times New Roman"/>
              </a:rPr>
              <a:t>span efficiency factor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Note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0 and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1 for the elliptical lift distribution. Hence, the lift distribution which yields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  <a:ea typeface="Times New Roman"/>
              </a:rPr>
              <a:t>minimum induced dra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is th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  <a:ea typeface="Times New Roman"/>
              </a:rPr>
              <a:t>elliptical lift distribu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2"/>
              <p:cNvSpPr txBox="1"/>
              <p:nvPr/>
            </p:nvSpPr>
            <p:spPr>
              <a:xfrm>
                <a:off x="1447920" y="1905120"/>
                <a:ext cx="188100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π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Center of pressure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oint on the body about which the aerodynamic moment is zer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cation of center of pressur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    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smal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5"/>
              <p:cNvSpPr txBox="1"/>
              <p:nvPr/>
            </p:nvSpPr>
            <p:spPr>
              <a:xfrm>
                <a:off x="1262160" y="3189240"/>
                <a:ext cx="16542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6"/>
              <p:cNvSpPr txBox="1"/>
              <p:nvPr/>
            </p:nvSpPr>
            <p:spPr>
              <a:xfrm>
                <a:off x="6659640" y="3141720"/>
                <a:ext cx="1523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3" name="Picture 8" descr="1"/>
          <p:cNvPicPr/>
          <p:nvPr/>
        </p:nvPicPr>
        <p:blipFill>
          <a:blip r:embed="rId1"/>
          <a:stretch/>
        </p:blipFill>
        <p:spPr>
          <a:xfrm>
            <a:off x="830160" y="4194000"/>
            <a:ext cx="77043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Dimensional analysi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6212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ctors affecting aerodynamic force 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ee stream velocity V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ee stream dens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iscosity of the flui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ize of the body (usually represented by the chord length c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ompressibility of the fluid a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=f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 V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 c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,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). Dimensional analysis can reduce the number of independent parameters affecting R, such that can save the cost of wind tunnel tes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Buckingham </a:t>
            </a:r>
            <a:r>
              <a:rPr b="0" lang="en-US" sz="2800" spc="-1" strike="noStrike">
                <a:solidFill>
                  <a:srgbClr val="0070c0"/>
                </a:solidFill>
                <a:latin typeface="Constantia"/>
              </a:rPr>
              <a:t>pi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theore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undamental dimensions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= dimension of ma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imension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f  lengt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= dimension of ti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ariables and their dimens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1752480" y="4248000"/>
                <a:ext cx="14288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l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5"/>
              <p:cNvSpPr txBox="1"/>
              <p:nvPr/>
            </p:nvSpPr>
            <p:spPr>
              <a:xfrm>
                <a:off x="3987720" y="4248000"/>
                <a:ext cx="14558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6"/>
              <p:cNvSpPr txBox="1"/>
              <p:nvPr/>
            </p:nvSpPr>
            <p:spPr>
              <a:xfrm>
                <a:off x="6251400" y="4248000"/>
                <a:ext cx="1270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1828800" y="5113440"/>
                <a:ext cx="8208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8"/>
              <p:cNvSpPr txBox="1"/>
              <p:nvPr/>
            </p:nvSpPr>
            <p:spPr>
              <a:xfrm>
                <a:off x="3962520" y="5086440"/>
                <a:ext cx="17715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6248520" y="5086440"/>
                <a:ext cx="12952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68544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-240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ssume th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quating the exponents sum of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o be zero, and similarly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 we can obtain simultaneous equations of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solving these equations leads 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1444680" y="2111400"/>
                <a:ext cx="2286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5"/>
              <p:cNvSpPr txBox="1"/>
              <p:nvPr/>
            </p:nvSpPr>
            <p:spPr>
              <a:xfrm>
                <a:off x="1444680" y="2590920"/>
                <a:ext cx="244620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6"/>
              <p:cNvSpPr txBox="1"/>
              <p:nvPr/>
            </p:nvSpPr>
            <p:spPr>
              <a:xfrm>
                <a:off x="1444680" y="3041640"/>
                <a:ext cx="24001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1447920" y="3871800"/>
                <a:ext cx="175248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∞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8"/>
              <p:cNvSpPr txBox="1"/>
              <p:nvPr/>
            </p:nvSpPr>
            <p:spPr>
              <a:xfrm>
                <a:off x="1444680" y="4343400"/>
                <a:ext cx="36608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l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 -2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= -1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= -2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ults for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milarly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, Reynolds number, is a measure of the ratio of inertial forces to viscous forces in a flow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1684440" y="2287440"/>
                <a:ext cx="3573360" cy="17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Rρ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6"/>
              <p:cNvSpPr txBox="1"/>
              <p:nvPr/>
            </p:nvSpPr>
            <p:spPr>
              <a:xfrm>
                <a:off x="1751040" y="4557600"/>
                <a:ext cx="205884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Mach number, is the ratio of the flow velocity to the speed of soun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also for C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,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D,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is function of Re and M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 and M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e called </a:t>
            </a:r>
            <a:r>
              <a:rPr b="0" lang="en-US" sz="2400" spc="-1" strike="noStrike">
                <a:solidFill>
                  <a:srgbClr val="6699ff"/>
                </a:solidFill>
                <a:latin typeface="Constantia"/>
              </a:rPr>
              <a:t>similarity parameter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4"/>
              <p:cNvSpPr txBox="1"/>
              <p:nvPr/>
            </p:nvSpPr>
            <p:spPr>
              <a:xfrm>
                <a:off x="1600200" y="2347920"/>
                <a:ext cx="17272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5"/>
              <p:cNvSpPr txBox="1"/>
              <p:nvPr/>
            </p:nvSpPr>
            <p:spPr>
              <a:xfrm>
                <a:off x="2185920" y="4495680"/>
                <a:ext cx="22827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e,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Flow similarity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380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efinition of dynamically similar for two different flow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treamline patterns are geometrically simil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distributions of V/V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p/p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etc. are the same when plotted against common non-dimensional coordina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force coefficients are the sa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riteri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odies and any other solid boundaries are geometrically simil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me similarity parameters (Re and M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.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7720" y="1676160"/>
            <a:ext cx="6037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su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6699ff"/>
                </a:solidFill>
                <a:latin typeface="Constantia"/>
              </a:rPr>
              <a:t>Similar flow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6"/>
              <p:cNvSpPr txBox="1"/>
              <p:nvPr/>
            </p:nvSpPr>
            <p:spPr>
              <a:xfrm>
                <a:off x="2800440" y="2162160"/>
                <a:ext cx="21524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∝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∝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7"/>
              <p:cNvSpPr txBox="1"/>
              <p:nvPr/>
            </p:nvSpPr>
            <p:spPr>
              <a:xfrm>
                <a:off x="684360" y="2743200"/>
                <a:ext cx="3614760" cy="37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ρ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60" name="Picture 8" descr="1"/>
          <p:cNvPicPr/>
          <p:nvPr/>
        </p:nvPicPr>
        <p:blipFill>
          <a:blip r:embed="rId1"/>
          <a:stretch/>
        </p:blipFill>
        <p:spPr>
          <a:xfrm>
            <a:off x="5003640" y="2576520"/>
            <a:ext cx="39038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erodynamics: Some Introductory Though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erodynamics: Some Fundamental Principles and Equa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undamentals of Inviscid, Incompressible Flow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compressible Flows Over Airfoi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compressible Flows Over Finite Wing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Types of flow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viscid vs. viscous flow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iscid: assume no friction, thermal conduction and diffu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iscous: consider effects of friction, thermal conduction and diffu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compressible vs. compressibl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ompressible: dens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consta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ressible: dens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variab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ch number regim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sonic flow: M&lt;1 everywhe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onic flow: mixed regions where M&lt;1 and M&gt;1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personic flow: M&gt;1 everywhe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ypersonic flow: very high supersonic speeds, usually M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&gt;5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hap.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3808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erodynamics: Some Fundamental Principles and Equation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OUTLI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view of vector rela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trol volumes and fluid elem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tinuity equ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omentum equ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athlines and streamli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gular velocity, vorticity and circul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ream function and velocity potenti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eview of vector rela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55280" y="1690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Vector algebr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alar produc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ctor product: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Picture 7" descr="2"/>
          <p:cNvPicPr/>
          <p:nvPr/>
        </p:nvPicPr>
        <p:blipFill>
          <a:blip r:embed="rId1"/>
          <a:stretch/>
        </p:blipFill>
        <p:spPr>
          <a:xfrm>
            <a:off x="1619280" y="3141720"/>
            <a:ext cx="5249880" cy="348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3774960" y="2209680"/>
                <a:ext cx="2330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≡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3795840" y="2602080"/>
                <a:ext cx="34430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B</m:t>
                    </m:r>
                    <m:r>
                      <m:t xml:space="preserve">≡</m:t>
                    </m:r>
                    <m:r>
                      <m:t xml:space="preserve">(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rthogonal coordinate system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rtesian coordinate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1676520" y="2666880"/>
                <a:ext cx="3657600" cy="31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j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k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j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k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  <m:e>
                                  <m:r>
                                    <m:t xml:space="preserve">j</m:t>
                                  </m:r>
                                </m:e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75" name="Picture 6" descr="2"/>
          <p:cNvPicPr/>
          <p:nvPr/>
        </p:nvPicPr>
        <p:blipFill>
          <a:blip r:embed="rId1"/>
          <a:srcRect l="0" t="0" r="3715" b="0"/>
          <a:stretch/>
        </p:blipFill>
        <p:spPr>
          <a:xfrm>
            <a:off x="4932360" y="4230720"/>
            <a:ext cx="37432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ylindrical coordinate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1701720" y="2392200"/>
                <a:ext cx="3605400" cy="29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78" name="Picture 6" descr="2"/>
          <p:cNvPicPr/>
          <p:nvPr/>
        </p:nvPicPr>
        <p:blipFill>
          <a:blip r:embed="rId1"/>
          <a:stretch/>
        </p:blipFill>
        <p:spPr>
          <a:xfrm>
            <a:off x="4716360" y="3933720"/>
            <a:ext cx="4032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pherical coordinate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0" name="Picture 6" descr="2"/>
          <p:cNvPicPr/>
          <p:nvPr/>
        </p:nvPicPr>
        <p:blipFill>
          <a:blip r:embed="rId1"/>
          <a:stretch/>
        </p:blipFill>
        <p:spPr>
          <a:xfrm>
            <a:off x="4800600" y="2619360"/>
            <a:ext cx="3809880" cy="2685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1701720" y="2755800"/>
                <a:ext cx="3605400" cy="312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φ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φ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φ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θ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φ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radient of a scalar fiel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finition of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gradien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a scalar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s magnitude is the </a:t>
            </a:r>
            <a:r>
              <a:rPr b="0" lang="en-US" sz="2000" spc="-1" strike="noStrike">
                <a:solidFill>
                  <a:srgbClr val="e2d700"/>
                </a:solidFill>
                <a:latin typeface="Constantia"/>
              </a:rPr>
              <a:t>maximum rate of chang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r unit length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ts direction is the </a:t>
            </a:r>
            <a:r>
              <a:rPr b="0" lang="en-US" sz="2000" spc="-1" strike="noStrike">
                <a:solidFill>
                  <a:srgbClr val="e2d700"/>
                </a:solidFill>
                <a:latin typeface="Constantia"/>
              </a:rPr>
              <a:t>maximum rate of chang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oline: a line of constant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values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radient line: a line along whic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tangent at every poi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rectional derivativ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the unit vector in th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irec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"/>
              <p:cNvSpPr txBox="1"/>
              <p:nvPr/>
            </p:nvSpPr>
            <p:spPr>
              <a:xfrm>
                <a:off x="4572000" y="4495680"/>
                <a:ext cx="15238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∇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ression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Cartesian coordinate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1600200" y="2286000"/>
                <a:ext cx="28195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i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j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6" name="Picture 7" descr="2"/>
          <p:cNvPicPr/>
          <p:nvPr/>
        </p:nvPicPr>
        <p:blipFill>
          <a:blip r:embed="rId1"/>
          <a:stretch/>
        </p:blipFill>
        <p:spPr>
          <a:xfrm>
            <a:off x="684360" y="3429000"/>
            <a:ext cx="4537080" cy="2286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2"/>
          <p:cNvPicPr/>
          <p:nvPr/>
        </p:nvPicPr>
        <p:blipFill>
          <a:blip r:embed="rId2"/>
          <a:stretch/>
        </p:blipFill>
        <p:spPr>
          <a:xfrm>
            <a:off x="4788000" y="3500280"/>
            <a:ext cx="40320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hap.1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38080" y="2514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erodynamics: Some Introductory Thought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ivergence of a vector fiel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the velocity of a flow, the divergence of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will be th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time rate of volume change per unit volum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ression for divergence of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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in Cartesian coordinate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1676520" y="4157640"/>
                <a:ext cx="327636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j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k</m:t>
                        </m:r>
                      </m:e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url of a vector fiel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angular velocit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a fluid element translating along a streamline is equal to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one-half of the curl of </a:t>
            </a:r>
            <a:r>
              <a:rPr b="1" lang="en-US" sz="2400" spc="-1" strike="noStrike">
                <a:solidFill>
                  <a:srgbClr val="e2d700"/>
                </a:solidFill>
                <a:latin typeface="Constanti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denot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ression for curl of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 Cartesian coordinate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2"/>
              <p:cNvSpPr txBox="1"/>
              <p:nvPr/>
            </p:nvSpPr>
            <p:spPr>
              <a:xfrm>
                <a:off x="1693800" y="4038480"/>
                <a:ext cx="2878200" cy="23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j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k</m:t>
                        </m:r>
                      </m:e>
                      <m:e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  <m:e>
                                  <m:r>
                                    <m:t xml:space="preserve">j</m:t>
                                  </m:r>
                                </m:e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r>
                                        <m:t xml:space="preserve">x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r>
                                        <m:t xml:space="preserve">y</m:t>
                                      </m:r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r>
                                        <m:t xml:space="preserve">z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lations between line, surface and volume integra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o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eor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2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vergence theor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2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radient theor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1650960" y="2805120"/>
                <a:ext cx="30988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=</m:t>
                        </m:r>
                        <m:nary>
                          <m:naryPr>
                            <m:chr m:val="∬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∇</m:t>
                            </m:r>
                            <m:r>
                              <m:t xml:space="preserve">×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3"/>
              <p:cNvSpPr txBox="1"/>
              <p:nvPr/>
            </p:nvSpPr>
            <p:spPr>
              <a:xfrm>
                <a:off x="1674720" y="3886200"/>
                <a:ext cx="32036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∯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∇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4"/>
              <p:cNvSpPr txBox="1"/>
              <p:nvPr/>
            </p:nvSpPr>
            <p:spPr>
              <a:xfrm>
                <a:off x="1697040" y="5029200"/>
                <a:ext cx="242892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∯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∇</m:t>
                        </m:r>
                        <m:r>
                          <m:rPr>
                            <m:lit/>
                            <m:nor/>
                          </m:rPr>
                          <m:t xml:space="preserve">p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96" name="Picture 9" descr="2"/>
          <p:cNvPicPr/>
          <p:nvPr/>
        </p:nvPicPr>
        <p:blipFill>
          <a:blip r:embed="rId1"/>
          <a:stretch/>
        </p:blipFill>
        <p:spPr>
          <a:xfrm>
            <a:off x="4932360" y="2205000"/>
            <a:ext cx="3313080" cy="1828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2" descr="2"/>
          <p:cNvPicPr/>
          <p:nvPr/>
        </p:nvPicPr>
        <p:blipFill>
          <a:blip r:embed="rId2"/>
          <a:stretch/>
        </p:blipFill>
        <p:spPr>
          <a:xfrm>
            <a:off x="4932360" y="4365720"/>
            <a:ext cx="360036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ontrol volumes and fluid elemen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4000" y="1700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rol volume approa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787640" y="1700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luid element approa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1" name="Picture 8" descr="2"/>
          <p:cNvPicPr/>
          <p:nvPr/>
        </p:nvPicPr>
        <p:blipFill>
          <a:blip r:embed="rId1"/>
          <a:stretch/>
        </p:blipFill>
        <p:spPr>
          <a:xfrm>
            <a:off x="684360" y="3068640"/>
            <a:ext cx="3997080" cy="3024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2"/>
          <p:cNvPicPr/>
          <p:nvPr/>
        </p:nvPicPr>
        <p:blipFill>
          <a:blip r:embed="rId2"/>
          <a:stretch/>
        </p:blipFill>
        <p:spPr>
          <a:xfrm>
            <a:off x="4788000" y="3286080"/>
            <a:ext cx="395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ontinuity equ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xed control volum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ass flow equ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tinuity equation in a finite spa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tinuity equation at a point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2"/>
              <p:cNvSpPr txBox="1"/>
              <p:nvPr/>
            </p:nvSpPr>
            <p:spPr>
              <a:xfrm>
                <a:off x="1042920" y="2387520"/>
                <a:ext cx="14400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ρ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3"/>
              <p:cNvSpPr txBox="1"/>
              <p:nvPr/>
            </p:nvSpPr>
            <p:spPr>
              <a:xfrm>
                <a:off x="1042920" y="3716280"/>
                <a:ext cx="2970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+</m:t>
                        </m:r>
                        <m:nary>
                          <m:naryPr>
                            <m:chr m:val="∯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ρV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971640" y="5227560"/>
                <a:ext cx="20876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∇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ρ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8" name="Picture 10" descr="2"/>
          <p:cNvPicPr/>
          <p:nvPr/>
        </p:nvPicPr>
        <p:blipFill>
          <a:blip r:embed="rId1"/>
          <a:stretch/>
        </p:blipFill>
        <p:spPr>
          <a:xfrm>
            <a:off x="4427640" y="2060640"/>
            <a:ext cx="4086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Momentum equ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xed control volum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riginal form is Newt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 second law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omentum equation in integral for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is body force;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viscou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is viscous force on control surfac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-component of the momentum equation in differential form (similar form for y- and z-component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2"/>
              <p:cNvSpPr txBox="1"/>
              <p:nvPr/>
            </p:nvSpPr>
            <p:spPr>
              <a:xfrm>
                <a:off x="971640" y="3027240"/>
                <a:ext cx="6840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ρV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+</m:t>
                        </m:r>
                        <m:nary>
                          <m:naryPr>
                            <m:chr m:val="∯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ρV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)</m:t>
                            </m:r>
                            <m:r>
                              <m:t xml:space="preserve">V</m:t>
                            </m:r>
                          </m:e>
                        </m:nary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∯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ρf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scou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1003320" y="5586480"/>
                <a:ext cx="49370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ρu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∇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ρu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ρ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scou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7704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2d700"/>
                </a:solidFill>
                <a:latin typeface="Constantia"/>
              </a:rPr>
              <a:t>Navier-Stokes equation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momentum equations for a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viscou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l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2d700"/>
                </a:solidFill>
                <a:latin typeface="Constantia"/>
              </a:rPr>
              <a:t>Eule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800" spc="-1" strike="noStrike">
                <a:solidFill>
                  <a:srgbClr val="e2d700"/>
                </a:solidFill>
                <a:latin typeface="Constantia"/>
              </a:rPr>
              <a:t>equation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momentum equations for a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steady invisci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l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1258920" y="3787920"/>
                <a:ext cx="2041560" cy="23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ρu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ρv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ρw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Pathlines and streamlin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4094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athlin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th of a fluid elemen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reamlin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curve whose tangent at any point is in the direction of the velocity vector at that poi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r </a:t>
            </a:r>
            <a:r>
              <a:rPr b="0" lang="en-US" sz="2800" spc="-1" strike="noStrike">
                <a:solidFill>
                  <a:srgbClr val="e2d700"/>
                </a:solidFill>
                <a:latin typeface="Constantia"/>
              </a:rPr>
              <a:t>steady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flow, pathlines and streamlines are </a:t>
            </a:r>
            <a:r>
              <a:rPr b="0" lang="en-US" sz="2800" spc="-1" strike="noStrike">
                <a:solidFill>
                  <a:srgbClr val="e2d700"/>
                </a:solidFill>
                <a:latin typeface="Constantia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7" name="Picture 6" descr="2"/>
          <p:cNvPicPr/>
          <p:nvPr/>
        </p:nvPicPr>
        <p:blipFill>
          <a:blip r:embed="rId1"/>
          <a:stretch/>
        </p:blipFill>
        <p:spPr>
          <a:xfrm>
            <a:off x="4859280" y="1660680"/>
            <a:ext cx="3529080" cy="25603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2"/>
          <p:cNvPicPr/>
          <p:nvPr/>
        </p:nvPicPr>
        <p:blipFill>
          <a:blip r:embed="rId2"/>
          <a:stretch/>
        </p:blipFill>
        <p:spPr>
          <a:xfrm>
            <a:off x="4800600" y="4133880"/>
            <a:ext cx="38098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837720" y="1484280"/>
            <a:ext cx="75502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reamline equation for steady flow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definition, flow velocity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parallel to directed segment of the streamlin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so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two-dimensional flo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1116000" y="2565360"/>
                <a:ext cx="2879640" cy="25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  <m:e>
                                  <m:r>
                                    <m:t xml:space="preserve">j</m:t>
                                  </m:r>
                                </m:e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x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y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z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u</m:t>
                                  </m:r>
                                </m:e>
                                <m:e>
                                  <m:r>
                                    <m:t xml:space="preserve">v</m:t>
                                  </m:r>
                                </m:e>
                                <m:e>
                                  <m:r>
                                    <m:t xml:space="preserve">w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d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d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d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wd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d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d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3"/>
              <p:cNvSpPr txBox="1"/>
              <p:nvPr/>
            </p:nvSpPr>
            <p:spPr>
              <a:xfrm>
                <a:off x="6156360" y="4859280"/>
                <a:ext cx="8636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Angular velocity, vorticity and circul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98192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gular velocity and vorticit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 a fluid element translate along a streamline, it may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rotat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s well as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shape distort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gular velocit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Vorticity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defined to be 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lso equal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0, the flow is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rotation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0, the flow is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irrotation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0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2"/>
              <p:cNvSpPr txBox="1"/>
              <p:nvPr/>
            </p:nvSpPr>
            <p:spPr>
              <a:xfrm>
                <a:off x="1547640" y="3284640"/>
                <a:ext cx="54007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i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j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OUTLI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assification and practical objectiv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ome fundamental aerodynamic variab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erodynamic forces and mom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enter of press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imensional analys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low similarit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ypes of flow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22080" y="1474920"/>
            <a:ext cx="467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irculation </a:t>
            </a:r>
            <a:r>
              <a:rPr b="0" lang="el-GR" sz="2800" spc="-1" strike="noStrike">
                <a:solidFill>
                  <a:srgbClr val="000000"/>
                </a:solidFill>
                <a:latin typeface="Constantia"/>
              </a:rPr>
              <a:t>Γ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lation with lift: if an airfoil is generating lift, the circulation taken around a closed curve enclosing the airfoil will b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finit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y Sto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eorem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1476360" y="2421000"/>
                <a:ext cx="1728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≡</m:t>
                    </m:r>
                    <m:r>
                      <m:t xml:space="preserve">−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3"/>
              <p:cNvSpPr txBox="1"/>
              <p:nvPr/>
            </p:nvSpPr>
            <p:spPr>
              <a:xfrm>
                <a:off x="1403280" y="5268960"/>
                <a:ext cx="38894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≡</m:t>
                    </m:r>
                    <m:r>
                      <m:t xml:space="preserve">−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328" name="Picture 26" descr="2"/>
          <p:cNvPicPr/>
          <p:nvPr/>
        </p:nvPicPr>
        <p:blipFill>
          <a:blip r:embed="rId1"/>
          <a:stretch/>
        </p:blipFill>
        <p:spPr>
          <a:xfrm>
            <a:off x="5364000" y="2492280"/>
            <a:ext cx="34531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the flow is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irrotation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0) everywhere with the contour of integration, then 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 0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tream function and velocity potentia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ream fun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two-dimensional steady flow, a streamline equation is given by setting the stream function equal to a conta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incompressible flo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1403280" y="3141720"/>
                <a:ext cx="14382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ψ</m:t>
                        </m:r>
                      </m:e>
                    </m:ba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3"/>
              <p:cNvSpPr txBox="1"/>
              <p:nvPr/>
            </p:nvSpPr>
            <p:spPr>
              <a:xfrm>
                <a:off x="1403280" y="4005360"/>
                <a:ext cx="20862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ψ</m:t>
                        </m:r>
                        <m:r>
                          <m:t xml:space="preserve">≡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ψ</m:t>
                            </m:r>
                          </m:e>
                        </m:bar>
                        <m:r>
                          <m:t xml:space="preserve">ρ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Velocity potentia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an irrotational flo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e can find a scalar function 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uch that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given by the gradient of 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which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fore called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velocity potenti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2"/>
              <p:cNvSpPr txBox="1"/>
              <p:nvPr/>
            </p:nvSpPr>
            <p:spPr>
              <a:xfrm>
                <a:off x="1403280" y="2565360"/>
                <a:ext cx="33098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∇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1403280" y="4149720"/>
                <a:ext cx="309564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∇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lation between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Equipotential lines (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= constant) and streamlines (</a:t>
            </a: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l-G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 constant) are mutually prependicul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hap.3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3808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Fundamentals of Inviscid, Incompressible Flow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OUTLI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rnoull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 equation and its appli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ssure coeffici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pla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 equation for irrotational, incompressible flo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ementary flo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bination of elementary flo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Bernoulli</a:t>
            </a:r>
            <a:r>
              <a:rPr b="0" lang="en-US" sz="3200" spc="-1" strike="noStrike">
                <a:solidFill>
                  <a:srgbClr val="04617b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 equation and its applic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ernoul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 equ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lation between pressure and velocity in an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invisci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incompressibl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l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quation form along a stream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the flow is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irrotation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roughout the flo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2"/>
              <p:cNvSpPr txBox="1"/>
              <p:nvPr/>
            </p:nvSpPr>
            <p:spPr>
              <a:xfrm>
                <a:off x="1600200" y="3276720"/>
                <a:ext cx="25336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ρ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1676520" y="4419720"/>
                <a:ext cx="25336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ρ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low in a duc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inuity equation for quasi-one-dimensional flow in a du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incompressible flo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2"/>
              <p:cNvSpPr txBox="1"/>
              <p:nvPr/>
            </p:nvSpPr>
            <p:spPr>
              <a:xfrm>
                <a:off x="1676520" y="2819520"/>
                <a:ext cx="2286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3"/>
              <p:cNvSpPr txBox="1"/>
              <p:nvPr/>
            </p:nvSpPr>
            <p:spPr>
              <a:xfrm>
                <a:off x="1600200" y="3838680"/>
                <a:ext cx="1692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49" name="Picture 8" descr="3"/>
          <p:cNvPicPr/>
          <p:nvPr/>
        </p:nvPicPr>
        <p:blipFill>
          <a:blip r:embed="rId1"/>
          <a:stretch/>
        </p:blipFill>
        <p:spPr>
          <a:xfrm>
            <a:off x="3492360" y="4005360"/>
            <a:ext cx="540072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venturi and low-speed wind tunne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aerodynamic application, venturi can be used to measure the velocity of inlet flow V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om Bernoul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 equati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2"/>
              <p:cNvSpPr txBox="1"/>
              <p:nvPr/>
            </p:nvSpPr>
            <p:spPr>
              <a:xfrm>
                <a:off x="1662120" y="3521160"/>
                <a:ext cx="315432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ρ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352" name="Picture 7" descr="3"/>
          <p:cNvPicPr/>
          <p:nvPr/>
        </p:nvPicPr>
        <p:blipFill>
          <a:blip r:embed="rId1"/>
          <a:stretch/>
        </p:blipFill>
        <p:spPr>
          <a:xfrm>
            <a:off x="4930920" y="3357720"/>
            <a:ext cx="388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assification and practical objectiv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istinction between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Solid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Flui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der application of shear for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lid: finite de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uid: continuously increasing de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assification of fluid dynamic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ydrodynamics: flow of liqui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as dynamics: flow of g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erodynamics: flow of ai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low-speed wind tunnel is a large venturi where the airflow is driven by a fa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test section flow velocity can be derived from Bernoul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 equ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4" name="Picture 7" descr="3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16280" y="1484280"/>
            <a:ext cx="4264200" cy="46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1332000" y="5013360"/>
                <a:ext cx="321300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ρ</m:t>
                            </m:r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93360" y="1557360"/>
            <a:ext cx="416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itto tub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agnation point: a point in a flow where V = 0. (ex. Point B in the figure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agnation pressure p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pressure at a stagnation point, also called total pressu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measure the flight velocity of an airpla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7" name="Picture 7" descr="p3"/>
          <p:cNvPicPr/>
          <p:nvPr/>
        </p:nvPicPr>
        <p:blipFill>
          <a:blip r:embed="rId1"/>
          <a:stretch/>
        </p:blipFill>
        <p:spPr>
          <a:xfrm>
            <a:off x="4932360" y="1658880"/>
            <a:ext cx="3887640" cy="3065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8" name="Object 2"/>
              <p:cNvSpPr txBox="1"/>
              <p:nvPr/>
            </p:nvSpPr>
            <p:spPr>
              <a:xfrm>
                <a:off x="4800600" y="4687920"/>
                <a:ext cx="25290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Pressure coefficient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essure coefficient is defined a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re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r incompressible flow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an be reduced to be in terms of velocity onl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2"/>
              <p:cNvSpPr txBox="1"/>
              <p:nvPr/>
            </p:nvSpPr>
            <p:spPr>
              <a:xfrm>
                <a:off x="1066680" y="1981080"/>
                <a:ext cx="19051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2362320" y="2784600"/>
                <a:ext cx="17524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1452600" y="4406760"/>
                <a:ext cx="220176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∞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Laplace</a:t>
            </a:r>
            <a:r>
              <a:rPr b="0" lang="en-US" sz="2900" spc="-1" strike="noStrike">
                <a:solidFill>
                  <a:srgbClr val="04617b"/>
                </a:solidFill>
                <a:latin typeface="Times New Roman"/>
              </a:rPr>
              <a:t>’</a:t>
            </a: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s equation for irrotational, incompressible flow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r incompressible flow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r irrotational flow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is velocity potential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apl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 equ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stream func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also satisfies Lapl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 equa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"/>
              <p:cNvSpPr txBox="1"/>
              <p:nvPr/>
            </p:nvSpPr>
            <p:spPr>
              <a:xfrm>
                <a:off x="1219320" y="2048040"/>
                <a:ext cx="16002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3"/>
              <p:cNvSpPr txBox="1"/>
              <p:nvPr/>
            </p:nvSpPr>
            <p:spPr>
              <a:xfrm>
                <a:off x="1219320" y="3048120"/>
                <a:ext cx="13334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∇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4"/>
              <p:cNvSpPr txBox="1"/>
              <p:nvPr/>
            </p:nvSpPr>
            <p:spPr>
              <a:xfrm>
                <a:off x="1219320" y="3962520"/>
                <a:ext cx="313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∇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5"/>
              <p:cNvSpPr txBox="1"/>
              <p:nvPr/>
            </p:nvSpPr>
            <p:spPr>
              <a:xfrm>
                <a:off x="1295280" y="5491080"/>
                <a:ext cx="1433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ψ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olution of Lapl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 equ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lutions of Lapl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 equation are called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harmonic function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perposition principle is applicable since Lapl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 equation is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complicated flow pattern can be synthesized by adding together a number of elementary flow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837720" y="14479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oundary con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finity boundary condi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all boundary conditions (wall tangency condition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2"/>
              <p:cNvSpPr txBox="1"/>
              <p:nvPr/>
            </p:nvSpPr>
            <p:spPr>
              <a:xfrm>
                <a:off x="1676520" y="2438280"/>
                <a:ext cx="2271600" cy="17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3"/>
              <p:cNvSpPr txBox="1"/>
              <p:nvPr/>
            </p:nvSpPr>
            <p:spPr>
              <a:xfrm>
                <a:off x="1676520" y="5065560"/>
                <a:ext cx="19368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74" name="Picture 11" descr="3"/>
          <p:cNvPicPr/>
          <p:nvPr/>
        </p:nvPicPr>
        <p:blipFill>
          <a:blip r:embed="rId1"/>
          <a:stretch/>
        </p:blipFill>
        <p:spPr>
          <a:xfrm>
            <a:off x="5291280" y="2535120"/>
            <a:ext cx="374472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Elementary flow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4360" y="1523520"/>
            <a:ext cx="503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form flo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uniform flow is a physically possible incompressible and irrotational fl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undary condition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lution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2"/>
              <p:cNvSpPr txBox="1"/>
              <p:nvPr/>
            </p:nvSpPr>
            <p:spPr>
              <a:xfrm>
                <a:off x="1447920" y="3581280"/>
                <a:ext cx="159228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3"/>
              <p:cNvSpPr txBox="1"/>
              <p:nvPr/>
            </p:nvSpPr>
            <p:spPr>
              <a:xfrm>
                <a:off x="1523880" y="5791320"/>
                <a:ext cx="1295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79" name="Picture 11" descr="3"/>
          <p:cNvPicPr/>
          <p:nvPr/>
        </p:nvPicPr>
        <p:blipFill>
          <a:blip r:embed="rId1"/>
          <a:stretch/>
        </p:blipFill>
        <p:spPr>
          <a:xfrm>
            <a:off x="4930920" y="2781360"/>
            <a:ext cx="388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495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undary condition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lution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2"/>
              <p:cNvSpPr txBox="1"/>
              <p:nvPr/>
            </p:nvSpPr>
            <p:spPr>
              <a:xfrm>
                <a:off x="1371600" y="1905120"/>
                <a:ext cx="164628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3"/>
              <p:cNvSpPr txBox="1"/>
              <p:nvPr/>
            </p:nvSpPr>
            <p:spPr>
              <a:xfrm>
                <a:off x="1447920" y="4176720"/>
                <a:ext cx="11919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4646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ource flow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ylindrical coordinate system is appli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ompressible at every point except the origi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rrotational at every poi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locity fiel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th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source strength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defined as the volume flow rate per unit length.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2"/>
              <p:cNvSpPr txBox="1"/>
              <p:nvPr/>
            </p:nvSpPr>
            <p:spPr>
              <a:xfrm>
                <a:off x="1477800" y="4191120"/>
                <a:ext cx="21798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r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5" name="Picture 12" descr="3"/>
          <p:cNvPicPr/>
          <p:nvPr/>
        </p:nvPicPr>
        <p:blipFill>
          <a:blip r:embed="rId1"/>
          <a:stretch/>
        </p:blipFill>
        <p:spPr>
          <a:xfrm>
            <a:off x="5075280" y="2556000"/>
            <a:ext cx="3960720" cy="20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7704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or a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low, whereas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negativ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a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sink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lution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1523880" y="2819520"/>
                <a:ext cx="14400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actical objectives of aerodynamic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rediction of </a:t>
            </a:r>
            <a:r>
              <a:rPr b="0" lang="en-US" sz="2400" spc="-1" strike="noStrike">
                <a:solidFill>
                  <a:srgbClr val="6699ff"/>
                </a:solidFill>
                <a:latin typeface="Constantia"/>
              </a:rPr>
              <a:t>forc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6699ff"/>
                </a:solidFill>
                <a:latin typeface="Constantia"/>
              </a:rPr>
              <a:t>moment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n, and </a:t>
            </a:r>
            <a:r>
              <a:rPr b="0" lang="en-US" sz="2400" spc="-1" strike="noStrike">
                <a:solidFill>
                  <a:srgbClr val="6699ff"/>
                </a:solidFill>
                <a:latin typeface="Constantia"/>
              </a:rPr>
              <a:t>heat transfe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o, bodies moving through a fluid (usually air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ermination of flows moving internally through ducts. (ex. Flow properties inside rocket and air-breathing jet engin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610920" y="1628280"/>
            <a:ext cx="4537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ublet flow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pair of source-sink with the same strength, while the dista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tween each other tends to zer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ream func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const. is the strength of the double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2"/>
              <p:cNvSpPr txBox="1"/>
              <p:nvPr/>
            </p:nvSpPr>
            <p:spPr>
              <a:xfrm>
                <a:off x="914400" y="4038480"/>
                <a:ext cx="44179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l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e>
                        </m:eqArr>
                      </m:e>
                      <m:lim>
                        <m:r>
                          <m:t xml:space="preserve">κ</m:t>
                        </m:r>
                        <m:r>
                          <m:t xml:space="preserve">=</m:t>
                        </m:r>
                        <m:r>
                          <m:t xml:space="preserve">lΛ</m:t>
                        </m:r>
                      </m:lim>
                    </m:limLow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l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e>
                        </m:eqArr>
                      </m:e>
                      <m:lim>
                        <m:r>
                          <m:t xml:space="preserve">κ</m:t>
                        </m:r>
                        <m:r>
                          <m:t xml:space="preserve">=</m:t>
                        </m:r>
                        <m:r>
                          <m:t xml:space="preserve">lΛ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d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90" name="Picture 7" descr="3"/>
          <p:cNvPicPr/>
          <p:nvPr/>
        </p:nvPicPr>
        <p:blipFill>
          <a:blip r:embed="rId1"/>
          <a:stretch/>
        </p:blipFill>
        <p:spPr>
          <a:xfrm>
            <a:off x="5003640" y="1916280"/>
            <a:ext cx="37800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837720" y="1484280"/>
            <a:ext cx="75502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lution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direction of a doublet is designated by an arrow draw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form the sink to the sour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2"/>
              <p:cNvSpPr txBox="1"/>
              <p:nvPr/>
            </p:nvSpPr>
            <p:spPr>
              <a:xfrm>
                <a:off x="1695600" y="1905120"/>
                <a:ext cx="188568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κ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κ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464976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Vortex flow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flow where all the streamlines ar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concentric circl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the velocity along any circular streamline is consta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ompressible at every poi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rrotational at every point except the origi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4" name="Picture 8" descr="3"/>
          <p:cNvPicPr/>
          <p:nvPr/>
        </p:nvPicPr>
        <p:blipFill>
          <a:blip r:embed="rId1"/>
          <a:stretch/>
        </p:blipFill>
        <p:spPr>
          <a:xfrm>
            <a:off x="5219640" y="2421000"/>
            <a:ext cx="35290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622080" y="1474920"/>
            <a:ext cx="467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locity fiel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the circul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lution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2"/>
              <p:cNvSpPr txBox="1"/>
              <p:nvPr/>
            </p:nvSpPr>
            <p:spPr>
              <a:xfrm>
                <a:off x="1447920" y="1908000"/>
                <a:ext cx="23400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1479600" y="3657600"/>
                <a:ext cx="14922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θ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Combination of elementary flow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uperposition of a uniform flow and a sour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ream func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2"/>
              <p:cNvSpPr txBox="1"/>
              <p:nvPr/>
            </p:nvSpPr>
            <p:spPr>
              <a:xfrm>
                <a:off x="1447920" y="2514600"/>
                <a:ext cx="25905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01" name="Picture 6" descr="3"/>
          <p:cNvPicPr/>
          <p:nvPr/>
        </p:nvPicPr>
        <p:blipFill>
          <a:blip r:embed="rId1"/>
          <a:stretch/>
        </p:blipFill>
        <p:spPr>
          <a:xfrm>
            <a:off x="1042920" y="3429000"/>
            <a:ext cx="712800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76215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locity fiel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agnation poi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treamline goes through the stagnation point is describ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/2, shown as curv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BC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1447920" y="1828800"/>
                <a:ext cx="312408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1447920" y="3657600"/>
                <a:ext cx="510372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∞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Λ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πr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∞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54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reamlin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separates the fluid coming from the free stream and the fluid emanating from the sour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entire region insid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ould be replaced with a solid body of the same shap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uperposition of a uniform flow and a source-sink pai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ream func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2"/>
              <p:cNvSpPr txBox="1"/>
              <p:nvPr/>
            </p:nvSpPr>
            <p:spPr>
              <a:xfrm>
                <a:off x="1530360" y="2743200"/>
                <a:ext cx="34988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08" name="Picture 6" descr="3"/>
          <p:cNvPicPr/>
          <p:nvPr/>
        </p:nvPicPr>
        <p:blipFill>
          <a:blip r:embed="rId1"/>
          <a:stretch/>
        </p:blipFill>
        <p:spPr>
          <a:xfrm>
            <a:off x="1763640" y="3500280"/>
            <a:ext cx="5400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76215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wo stagnation points A and B are found by setting V=0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tagnation streamline is given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0, i.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ch is the equation of an oval, called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Rankine ov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region inside the oval can be replaced by a solid body with the same shap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2"/>
              <p:cNvSpPr txBox="1"/>
              <p:nvPr/>
            </p:nvSpPr>
            <p:spPr>
              <a:xfrm>
                <a:off x="1430280" y="2676600"/>
                <a:ext cx="39798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nlifting flow over a circular cylind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perposition of a uniform flow and a double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ream func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2"/>
              <p:cNvSpPr txBox="1"/>
              <p:nvPr/>
            </p:nvSpPr>
            <p:spPr>
              <a:xfrm>
                <a:off x="1523880" y="2795760"/>
                <a:ext cx="592956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where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≡</m:t>
                    </m:r>
                    <m:r>
                      <m:t xml:space="preserve">κ</m:t>
                    </m:r>
                    <m:r>
                      <m:t xml:space="preserve">/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π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13" name="Picture 6" descr="3"/>
          <p:cNvPicPr/>
          <p:nvPr/>
        </p:nvPicPr>
        <p:blipFill>
          <a:blip r:embed="rId1"/>
          <a:stretch/>
        </p:blipFill>
        <p:spPr>
          <a:xfrm>
            <a:off x="2268360" y="3763800"/>
            <a:ext cx="5112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Some fundamental aerodynamic variable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838080" y="19051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essur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ensity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emperature, 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low velocity, V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9"/>
              <p:cNvSpPr txBox="1"/>
              <p:nvPr/>
            </p:nvSpPr>
            <p:spPr>
              <a:xfrm>
                <a:off x="1316160" y="2320920"/>
                <a:ext cx="299700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0"/>
              <p:cNvSpPr txBox="1"/>
              <p:nvPr/>
            </p:nvSpPr>
            <p:spPr>
              <a:xfrm>
                <a:off x="1433520" y="3768840"/>
                <a:ext cx="29131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9" name="Picture 19" descr="1"/>
          <p:cNvPicPr/>
          <p:nvPr/>
        </p:nvPicPr>
        <p:blipFill>
          <a:blip r:embed="rId1"/>
          <a:stretch/>
        </p:blipFill>
        <p:spPr>
          <a:xfrm>
            <a:off x="4495680" y="2781360"/>
            <a:ext cx="46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76215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locity fiel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tagnation streamline is given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0, i.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tagnation streamline includes the circle described by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nd the entire horizontal axis through points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1370160" y="1846440"/>
                <a:ext cx="3506760" cy="18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1360440" y="4038480"/>
                <a:ext cx="33638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76215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e can replace the flow inside the circle by a solid body. Consequently, a flow over a circular cylindrical of radius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an be synthesized by this superposition, whe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ressure distribution is symmetric about both axes. As a result, there is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no net lif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as well as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no net dra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which makes no sense in real worl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2"/>
              <p:cNvSpPr txBox="1"/>
              <p:nvPr/>
            </p:nvSpPr>
            <p:spPr>
              <a:xfrm>
                <a:off x="1295280" y="3008160"/>
                <a:ext cx="153036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κ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V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hap.4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218960" y="2514600"/>
            <a:ext cx="7010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ncompressible Flow over Airfoil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OUTLI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irfoil nomenclature and characteristic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vortex shee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Kutta condi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Kelv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 circulation theore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lassical thin airfoil theor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cambered airfoi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vortex panel numerical metho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Airfoil nomenclature and characteristic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menclat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5" name="Picture 7" descr="4"/>
          <p:cNvPicPr/>
          <p:nvPr/>
        </p:nvPicPr>
        <p:blipFill>
          <a:blip r:embed="rId1"/>
          <a:stretch/>
        </p:blipFill>
        <p:spPr>
          <a:xfrm>
            <a:off x="971640" y="2637000"/>
            <a:ext cx="734544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7" name="Picture 10" descr="4"/>
          <p:cNvPicPr/>
          <p:nvPr/>
        </p:nvPicPr>
        <p:blipFill>
          <a:blip r:embed="rId1"/>
          <a:stretch/>
        </p:blipFill>
        <p:spPr>
          <a:xfrm>
            <a:off x="5776920" y="1905120"/>
            <a:ext cx="1857240" cy="1981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3" descr="4"/>
          <p:cNvPicPr/>
          <p:nvPr/>
        </p:nvPicPr>
        <p:blipFill>
          <a:blip r:embed="rId2"/>
          <a:stretch/>
        </p:blipFill>
        <p:spPr>
          <a:xfrm>
            <a:off x="755640" y="2735280"/>
            <a:ext cx="42480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e vortex shee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838080" y="16765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Vortex sheet with streng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locity at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duced by a small section of vortex sheet of streng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d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velocity potential (to avoid vector addition as for velocit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2"/>
              <p:cNvSpPr txBox="1"/>
              <p:nvPr/>
            </p:nvSpPr>
            <p:spPr>
              <a:xfrm>
                <a:off x="1676520" y="3505320"/>
                <a:ext cx="16002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1622520" y="5330880"/>
                <a:ext cx="17082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ϕ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33" name="Picture 8" descr="4"/>
          <p:cNvPicPr/>
          <p:nvPr/>
        </p:nvPicPr>
        <p:blipFill>
          <a:blip r:embed="rId1"/>
          <a:stretch/>
        </p:blipFill>
        <p:spPr>
          <a:xfrm>
            <a:off x="5075280" y="1428840"/>
            <a:ext cx="39607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838080" y="1676160"/>
            <a:ext cx="4724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velocity potential at P due to entire vortex shee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irculation around the vortex shee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local jump in tangential velocity across the vortex sheet is equal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2"/>
              <p:cNvSpPr txBox="1"/>
              <p:nvPr/>
            </p:nvSpPr>
            <p:spPr>
              <a:xfrm>
                <a:off x="1641600" y="2435400"/>
                <a:ext cx="21682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θγ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3"/>
              <p:cNvSpPr txBox="1"/>
              <p:nvPr/>
            </p:nvSpPr>
            <p:spPr>
              <a:xfrm>
                <a:off x="1752480" y="4246560"/>
                <a:ext cx="14367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4"/>
              <p:cNvSpPr txBox="1"/>
              <p:nvPr/>
            </p:nvSpPr>
            <p:spPr>
              <a:xfrm>
                <a:off x="5715000" y="5226120"/>
                <a:ext cx="30481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,     </m:t>
                    </m:r>
                    <m:r>
                      <m:rPr>
                        <m:lit/>
                        <m:nor/>
                      </m:rPr>
                      <m:t xml:space="preserve">dn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38" name="Picture 9" descr="4"/>
          <p:cNvPicPr/>
          <p:nvPr/>
        </p:nvPicPr>
        <p:blipFill>
          <a:blip r:embed="rId1"/>
          <a:stretch/>
        </p:blipFill>
        <p:spPr>
          <a:xfrm rot="60000">
            <a:off x="5438520" y="2488680"/>
            <a:ext cx="309708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lcul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s) such that the induced velocity field when added to V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will make the vortex sheet (hence the airfoil surface)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a streamline of the flow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resulting lift is given by Kutta-Joukowski theor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n airfoil approxi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2"/>
              <p:cNvSpPr txBox="1"/>
              <p:nvPr/>
            </p:nvSpPr>
            <p:spPr>
              <a:xfrm>
                <a:off x="1447920" y="3581280"/>
                <a:ext cx="1523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1" name="Picture 6" descr="4"/>
          <p:cNvPicPr/>
          <p:nvPr/>
        </p:nvPicPr>
        <p:blipFill>
          <a:blip r:embed="rId1"/>
          <a:stretch/>
        </p:blipFill>
        <p:spPr>
          <a:xfrm>
            <a:off x="1332000" y="4581360"/>
            <a:ext cx="727236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e Kutta condi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atement of the Kutta condi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value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round the airfoil is such that the flow leaves the trailing edg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smoothl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the trailing edge angle is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finit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then the trailing edge is a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stagna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oi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the trailing edge is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cuspe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then th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eaving the top and bottom surface at the trailing edge ar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finite and equ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ression in term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2"/>
              <p:cNvSpPr txBox="1"/>
              <p:nvPr/>
            </p:nvSpPr>
            <p:spPr>
              <a:xfrm>
                <a:off x="1676520" y="5257800"/>
                <a:ext cx="12729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2900" spc="-1" strike="noStrike">
                <a:solidFill>
                  <a:srgbClr val="04617b"/>
                </a:solidFill>
                <a:latin typeface="Calibri"/>
              </a:rPr>
              <a:t>Aerodynamic forces and moments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erodynamic forces and moments are due t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sure distribu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ear stress distribu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menclat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resultant for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if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ra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normal for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xial for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5" descr="1"/>
          <p:cNvPicPr/>
          <p:nvPr/>
        </p:nvPicPr>
        <p:blipFill>
          <a:blip r:embed="rId1"/>
          <a:stretch/>
        </p:blipFill>
        <p:spPr>
          <a:xfrm>
            <a:off x="4389480" y="3247920"/>
            <a:ext cx="422748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Kelvin</a:t>
            </a:r>
            <a:r>
              <a:rPr b="0" lang="en-US" sz="3200" spc="-1" strike="noStrike">
                <a:solidFill>
                  <a:srgbClr val="04617b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 circulation theore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atement of Kelv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 circulation theore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time rate of change of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circula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round a closed curve consisting of the same fluid elements is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zero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7" name="Picture 7" descr="4"/>
          <p:cNvPicPr/>
          <p:nvPr/>
        </p:nvPicPr>
        <p:blipFill>
          <a:blip r:embed="rId1"/>
          <a:stretch/>
        </p:blipFill>
        <p:spPr>
          <a:xfrm>
            <a:off x="684360" y="3284640"/>
            <a:ext cx="4032000" cy="32274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9" descr="4"/>
          <p:cNvPicPr/>
          <p:nvPr/>
        </p:nvPicPr>
        <p:blipFill>
          <a:blip r:embed="rId2"/>
          <a:stretch/>
        </p:blipFill>
        <p:spPr>
          <a:xfrm>
            <a:off x="5003640" y="3284640"/>
            <a:ext cx="374508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assical thin airfoil theor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oal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calcul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s) such that the camber line becomes a streamli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utta condi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TE)=0 is satisfi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lcul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round the airfoi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lculate the lift via the Kutta-Joukowski theor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837720" y="1447920"/>
            <a:ext cx="4496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pproach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ce the vortex sheet on the chord line, whereas determin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x) to mak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camber lin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 a streamli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dition for camber line to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 a stream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w'(s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the component of velocity normal to the camber li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2"/>
              <p:cNvSpPr txBox="1"/>
              <p:nvPr/>
            </p:nvSpPr>
            <p:spPr>
              <a:xfrm>
                <a:off x="1676520" y="4471920"/>
                <a:ext cx="21333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53" name="Picture 9" descr="4"/>
          <p:cNvPicPr/>
          <p:nvPr/>
        </p:nvPicPr>
        <p:blipFill>
          <a:blip r:embed="rId1"/>
          <a:stretch/>
        </p:blipFill>
        <p:spPr>
          <a:xfrm>
            <a:off x="5292720" y="1844640"/>
            <a:ext cx="36417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609480" y="1523880"/>
            <a:ext cx="464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ression of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,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smal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1371600" y="1925640"/>
                <a:ext cx="38098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3"/>
              <p:cNvSpPr txBox="1"/>
              <p:nvPr/>
            </p:nvSpPr>
            <p:spPr>
              <a:xfrm>
                <a:off x="1368360" y="3352680"/>
                <a:ext cx="3889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θ</m:t>
                            </m:r>
                            <m:r>
                              <m:t xml:space="preserve">≈</m:t>
                            </m:r>
                            <m:r>
                              <m:t xml:space="preserve">θ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,   {</m:t>
                            </m:r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57" name="Picture 13" descr="4"/>
          <p:cNvPicPr/>
          <p:nvPr/>
        </p:nvPicPr>
        <p:blipFill>
          <a:blip r:embed="rId1"/>
          <a:srcRect l="3708" t="0" r="0" b="0"/>
          <a:stretch/>
        </p:blipFill>
        <p:spPr>
          <a:xfrm>
            <a:off x="5292720" y="2349360"/>
            <a:ext cx="385128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4494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ression for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w(x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undamental equation of thin airfoil theo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1409760" y="3581280"/>
                <a:ext cx="36180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dξ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0" name="Picture 14" descr="4"/>
          <p:cNvPicPr/>
          <p:nvPr/>
        </p:nvPicPr>
        <p:blipFill>
          <a:blip r:embed="rId1"/>
          <a:stretch/>
        </p:blipFill>
        <p:spPr>
          <a:xfrm>
            <a:off x="1332000" y="4437000"/>
            <a:ext cx="5545080" cy="2158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1371600" y="1828800"/>
                <a:ext cx="28954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dξ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r symmetric airfoil (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dz/dx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=0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undamental equation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formation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lu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2"/>
              <p:cNvSpPr txBox="1"/>
              <p:nvPr/>
            </p:nvSpPr>
            <p:spPr>
              <a:xfrm>
                <a:off x="1371600" y="2438280"/>
                <a:ext cx="26924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dξ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3"/>
              <p:cNvSpPr txBox="1"/>
              <p:nvPr/>
            </p:nvSpPr>
            <p:spPr>
              <a:xfrm>
                <a:off x="1447920" y="3780000"/>
                <a:ext cx="4682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4"/>
              <p:cNvSpPr txBox="1"/>
              <p:nvPr/>
            </p:nvSpPr>
            <p:spPr>
              <a:xfrm>
                <a:off x="1403280" y="5029200"/>
                <a:ext cx="3168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α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628640"/>
            <a:ext cx="7704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eck on Kutta condition by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spi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 ru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tal circulation around the airfoi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ft per unit sp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3"/>
              <p:cNvSpPr txBox="1"/>
              <p:nvPr/>
            </p:nvSpPr>
            <p:spPr>
              <a:xfrm>
                <a:off x="1563840" y="3359160"/>
                <a:ext cx="346392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dξ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πα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2"/>
              <p:cNvSpPr txBox="1"/>
              <p:nvPr/>
            </p:nvSpPr>
            <p:spPr>
              <a:xfrm>
                <a:off x="1547640" y="2027160"/>
                <a:ext cx="32529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α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4"/>
              <p:cNvSpPr txBox="1"/>
              <p:nvPr/>
            </p:nvSpPr>
            <p:spPr>
              <a:xfrm>
                <a:off x="1522440" y="4848120"/>
                <a:ext cx="36226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Γ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πα</m:t>
                    </m:r>
                    <m:sSub>
                      <m:e>
                        <m:r>
                          <m:t xml:space="preserve">cρ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611280" y="1628280"/>
            <a:ext cx="81518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ft coefficient and lift slo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ment about leading edge and moment coeffic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2"/>
              <p:cNvSpPr txBox="1"/>
              <p:nvPr/>
            </p:nvSpPr>
            <p:spPr>
              <a:xfrm>
                <a:off x="1395360" y="1987560"/>
                <a:ext cx="401472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α</m:t>
                    </m:r>
                    <m:r>
                      <m:rPr>
                        <m:lit/>
                        <m:nor/>
                      </m:rPr>
                      <m:t xml:space="preserve"> ,  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dα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3"/>
              <p:cNvSpPr txBox="1"/>
              <p:nvPr/>
            </p:nvSpPr>
            <p:spPr>
              <a:xfrm>
                <a:off x="1460520" y="3300480"/>
                <a:ext cx="4254480" cy="20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ξd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π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E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π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837720" y="1484280"/>
            <a:ext cx="75502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ment coefficient about quarter-chor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symmetric airfoil, th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quarter-chord poin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both the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center of pressur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aerodynamic cente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2"/>
              <p:cNvSpPr txBox="1"/>
              <p:nvPr/>
            </p:nvSpPr>
            <p:spPr>
              <a:xfrm>
                <a:off x="1600200" y="1719360"/>
                <a:ext cx="264636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e cambered airfoi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98192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pproach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undamental equ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lu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efficients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2"/>
              <p:cNvSpPr txBox="1"/>
              <p:nvPr/>
            </p:nvSpPr>
            <p:spPr>
              <a:xfrm>
                <a:off x="1378080" y="2438280"/>
                <a:ext cx="47876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γ</m:t>
                            </m:r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dθ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3"/>
              <p:cNvSpPr txBox="1"/>
              <p:nvPr/>
            </p:nvSpPr>
            <p:spPr>
              <a:xfrm>
                <a:off x="1523880" y="3657600"/>
                <a:ext cx="5216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nθ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4"/>
              <p:cNvSpPr txBox="1"/>
              <p:nvPr/>
            </p:nvSpPr>
            <p:spPr>
              <a:xfrm>
                <a:off x="1447920" y="5051520"/>
                <a:ext cx="6629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sSub>
                          <m:e>
                            <m:r>
                              <m:t xml:space="preserve">d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,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n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d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lation between L,D and N,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presentation of N´, A´and M´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LE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terms of pressure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d shear stres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imes denote force per unit sp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scrip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enote upper surface whi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denote lower surfa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1676520" y="2438280"/>
                <a:ext cx="2438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622440" y="1474920"/>
            <a:ext cx="775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erodynamic coeffici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ft coefficient and slop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m thin airfoil theory, th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lift slop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always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2</a:t>
            </a:r>
            <a:r>
              <a:rPr b="0" lang="en-US" sz="2400" spc="-1" strike="noStrike">
                <a:solidFill>
                  <a:srgbClr val="e2d7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any shape airfoi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n airfoil theory also provides a means to predict the angle of zero lif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Object 3"/>
              <p:cNvSpPr txBox="1"/>
              <p:nvPr/>
            </p:nvSpPr>
            <p:spPr>
              <a:xfrm>
                <a:off x="1601640" y="4865760"/>
                <a:ext cx="472140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nary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2"/>
              <p:cNvSpPr txBox="1"/>
              <p:nvPr/>
            </p:nvSpPr>
            <p:spPr>
              <a:xfrm>
                <a:off x="1379520" y="2322360"/>
                <a:ext cx="68500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dθ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,  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dα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ment coeffici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cambered airfoil, the quarter-chord point is </a:t>
            </a:r>
            <a:r>
              <a:rPr b="0" i="1" lang="en-US" sz="2400" spc="-1" strike="noStrike">
                <a:solidFill>
                  <a:srgbClr val="e2d700"/>
                </a:solidFill>
                <a:latin typeface="Constanti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center of pressur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but still is the theoretical location of the aerodynamic cente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2"/>
              <p:cNvSpPr txBox="1"/>
              <p:nvPr/>
            </p:nvSpPr>
            <p:spPr>
              <a:xfrm>
                <a:off x="1523880" y="1981080"/>
                <a:ext cx="3710160" cy="19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539280" y="148428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location of the center of press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nc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enter of pressure is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venient for drawing the force system. Rather, the aerodynamic center is more conveni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location of aerodynamic cen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2"/>
              <p:cNvSpPr txBox="1"/>
              <p:nvPr/>
            </p:nvSpPr>
            <p:spPr>
              <a:xfrm>
                <a:off x="1447920" y="1828800"/>
                <a:ext cx="3124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1371600" y="3200400"/>
                <a:ext cx="2516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  as 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4"/>
              <p:cNvSpPr txBox="1"/>
              <p:nvPr/>
            </p:nvSpPr>
            <p:spPr>
              <a:xfrm>
                <a:off x="1371600" y="5257800"/>
                <a:ext cx="655308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 ,  where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dα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, 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,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b>
                        </m:sSub>
                      </m:num>
                      <m:den>
                        <m:r>
                          <m:t xml:space="preserve">dα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e vortex panel numerical method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15184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y to use this method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airfoil thickness larger than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12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or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high angle of attack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results from thin airfoil theory are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good enough to agree with the experimental da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pproximate th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irfoil surface b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series of stra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anels with streng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ch is to b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ermin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"/>
              <p:cNvSpPr txBox="1"/>
              <p:nvPr/>
            </p:nvSpPr>
            <p:spPr>
              <a:xfrm>
                <a:off x="1403280" y="5410080"/>
                <a:ext cx="4255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92" name="Picture 14" descr="3"/>
          <p:cNvPicPr/>
          <p:nvPr/>
        </p:nvPicPr>
        <p:blipFill>
          <a:blip r:embed="rId1"/>
          <a:stretch/>
        </p:blipFill>
        <p:spPr>
          <a:xfrm>
            <a:off x="4249800" y="3213000"/>
            <a:ext cx="48592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velocity potential induced at P due to th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 panel 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total potential at 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ut P at the control point of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 pan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2"/>
              <p:cNvSpPr txBox="1"/>
              <p:nvPr/>
            </p:nvSpPr>
            <p:spPr>
              <a:xfrm>
                <a:off x="1523880" y="2075040"/>
                <a:ext cx="617220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ϕ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, 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3"/>
              <p:cNvSpPr txBox="1"/>
              <p:nvPr/>
            </p:nvSpPr>
            <p:spPr>
              <a:xfrm>
                <a:off x="1600200" y="3476520"/>
                <a:ext cx="501660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ϕ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4"/>
              <p:cNvSpPr txBox="1"/>
              <p:nvPr/>
            </p:nvSpPr>
            <p:spPr>
              <a:xfrm>
                <a:off x="1600200" y="4800600"/>
                <a:ext cx="39830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68436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normal component of the velocity is zero at the control points, i.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e then have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linear algebraic equation with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unknow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2"/>
              <p:cNvSpPr txBox="1"/>
              <p:nvPr/>
            </p:nvSpPr>
            <p:spPr>
              <a:xfrm>
                <a:off x="1523880" y="2319480"/>
                <a:ext cx="664056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nary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nary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,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6002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utta condi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impose the Kutta condition, we choose to ignore one of the control poin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need to ignore one of the control points introduces some arbitrariness in the numerical solu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2"/>
              <p:cNvSpPr txBox="1"/>
              <p:nvPr/>
            </p:nvSpPr>
            <p:spPr>
              <a:xfrm>
                <a:off x="1523880" y="2184480"/>
                <a:ext cx="29718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01" name="Picture 7" descr="4"/>
          <p:cNvPicPr/>
          <p:nvPr/>
        </p:nvPicPr>
        <p:blipFill>
          <a:blip r:embed="rId1"/>
          <a:stretch/>
        </p:blipFill>
        <p:spPr>
          <a:xfrm>
            <a:off x="5580000" y="2852640"/>
            <a:ext cx="331308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hap.5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371240" y="2514600"/>
            <a:ext cx="6705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ncompressible Flow over Finite Wings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OUTLI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8377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wnwash and induced dra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Biot-Savart law and Helmholt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 theorem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andt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 classical Lifting-line theor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lliptical lift distribu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eneral lift distribu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Downwash and induced drag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837720" y="167616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erodynamic difference between finite wing and airfoi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 finite wing, the flow near wing tips tends to </a:t>
            </a:r>
            <a:r>
              <a:rPr b="0" lang="en-US" sz="2400" spc="-1" strike="noStrike">
                <a:solidFill>
                  <a:srgbClr val="e2d700"/>
                </a:solidFill>
                <a:latin typeface="Constantia"/>
              </a:rPr>
              <a:t>curl around the ti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being forced from the high- pressure just underneath the tips to the low- pressure region on to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8" name="Picture 7" descr="5"/>
          <p:cNvPicPr/>
          <p:nvPr/>
        </p:nvPicPr>
        <p:blipFill>
          <a:blip r:embed="rId1"/>
          <a:stretch/>
        </p:blipFill>
        <p:spPr>
          <a:xfrm>
            <a:off x="5076720" y="1843200"/>
            <a:ext cx="38750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3T06:29:38Z</dcterms:created>
  <dc:creator>fan</dc:creator>
  <dc:description/>
  <dc:language>en-US</dc:language>
  <cp:lastModifiedBy>mohammed- 1</cp:lastModifiedBy>
  <dcterms:modified xsi:type="dcterms:W3CDTF">2019-02-05T19:16:37Z</dcterms:modified>
  <cp:revision>41</cp:revision>
  <dc:subject/>
  <dc:title>PowerPoint 簡報</dc:title>
</cp:coreProperties>
</file>