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7556500" cy="10699750"/>
  <p:notesSz cx="7556500" cy="10699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E63E-8F6D-4142-8A55-8F7D209ED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78000" y="2460240"/>
            <a:ext cx="6806880" cy="33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78000" y="6149520"/>
            <a:ext cx="6806880" cy="33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DE42-2FDD-4B9C-9903-0AA852C73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78000" y="2460240"/>
            <a:ext cx="3321720" cy="33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6040" y="2460240"/>
            <a:ext cx="3321720" cy="33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78000" y="6149520"/>
            <a:ext cx="3321720" cy="33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66040" y="6149520"/>
            <a:ext cx="3321720" cy="33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B009-08D3-496B-9679-4259F9ADD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78000" y="2460240"/>
            <a:ext cx="2191680" cy="33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79480" y="2460240"/>
            <a:ext cx="2191680" cy="33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81320" y="2460240"/>
            <a:ext cx="2191680" cy="33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78000" y="6149520"/>
            <a:ext cx="2191680" cy="33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79480" y="6149520"/>
            <a:ext cx="2191680" cy="33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981320" y="6149520"/>
            <a:ext cx="2191680" cy="33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C5C7-8E0E-4C19-9070-A9E38C508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78000" y="2460240"/>
            <a:ext cx="6806880" cy="70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E3B1-835B-481B-8AD8-FDD97589B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78000" y="2460240"/>
            <a:ext cx="6806880" cy="70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BE18-90A7-4FA1-91C4-F42316658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78000" y="2460240"/>
            <a:ext cx="3321720" cy="70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66040" y="2460240"/>
            <a:ext cx="3321720" cy="70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D481-D30A-4E40-92A6-76A390503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E1A2-73A7-4493-9602-F7A24F2F1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78000" y="428400"/>
            <a:ext cx="6806880" cy="79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7519-2BD9-47F7-980C-8581225E2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78000" y="2460240"/>
            <a:ext cx="3321720" cy="33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66040" y="2460240"/>
            <a:ext cx="3321720" cy="70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78000" y="6149520"/>
            <a:ext cx="3321720" cy="33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A104-B7BD-40B9-95EC-083E71960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78000" y="2460240"/>
            <a:ext cx="3321720" cy="70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66040" y="2460240"/>
            <a:ext cx="3321720" cy="33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66040" y="6149520"/>
            <a:ext cx="3321720" cy="33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60DE-B0AA-47D7-A297-91876ACDB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78000" y="2460240"/>
            <a:ext cx="3321720" cy="33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66040" y="2460240"/>
            <a:ext cx="3321720" cy="33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78000" y="6149520"/>
            <a:ext cx="6806880" cy="33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5D9B-6382-4F57-9A00-06CA37AAF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78000" y="2460240"/>
            <a:ext cx="6806880" cy="70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571840" y="9950400"/>
            <a:ext cx="2419200" cy="5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2"/>
          </p:nvPr>
        </p:nvSpPr>
        <p:spPr>
          <a:xfrm>
            <a:off x="377640" y="9950400"/>
            <a:ext cx="1739880" cy="5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44640" y="9950400"/>
            <a:ext cx="1739880" cy="5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E8EF6-EB45-4CA2-B62B-033E9B419F80}" type="slidenum">
              <a:rPr b="0" lang="de-DE" sz="1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object 2"/>
          <p:cNvSpPr/>
          <p:nvPr/>
        </p:nvSpPr>
        <p:spPr>
          <a:xfrm>
            <a:off x="0" y="0"/>
            <a:ext cx="7562880" cy="106934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object 2"/>
          <p:cNvSpPr/>
          <p:nvPr/>
        </p:nvSpPr>
        <p:spPr>
          <a:xfrm>
            <a:off x="0" y="0"/>
            <a:ext cx="7562880" cy="106934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bject 2"/>
          <p:cNvSpPr/>
          <p:nvPr/>
        </p:nvSpPr>
        <p:spPr>
          <a:xfrm>
            <a:off x="0" y="0"/>
            <a:ext cx="7562880" cy="106934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object 2"/>
          <p:cNvSpPr/>
          <p:nvPr/>
        </p:nvSpPr>
        <p:spPr>
          <a:xfrm>
            <a:off x="0" y="0"/>
            <a:ext cx="7562880" cy="106934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object 2"/>
          <p:cNvSpPr/>
          <p:nvPr/>
        </p:nvSpPr>
        <p:spPr>
          <a:xfrm>
            <a:off x="0" y="0"/>
            <a:ext cx="7562880" cy="106934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object 2"/>
          <p:cNvSpPr/>
          <p:nvPr/>
        </p:nvSpPr>
        <p:spPr>
          <a:xfrm>
            <a:off x="0" y="0"/>
            <a:ext cx="7562880" cy="106934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object 2"/>
          <p:cNvSpPr/>
          <p:nvPr/>
        </p:nvSpPr>
        <p:spPr>
          <a:xfrm>
            <a:off x="0" y="0"/>
            <a:ext cx="7562880" cy="106934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object 2"/>
          <p:cNvSpPr/>
          <p:nvPr/>
        </p:nvSpPr>
        <p:spPr>
          <a:xfrm>
            <a:off x="0" y="0"/>
            <a:ext cx="7562880" cy="106934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1-17T20:38:00Z</dcterms:created>
  <dc:creator>Online2PDF.com</dc:creator>
  <dc:description/>
  <dc:language>en-US</dc:language>
  <cp:lastModifiedBy>Online2PDF.com</cp:lastModifiedBy>
  <dcterms:modified xsi:type="dcterms:W3CDTF">2018-11-17T19:38:03Z</dcterms:modified>
  <cp:revision>1</cp:revision>
  <dc:subject/>
  <dc:title>PowerPoint-Prä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reated">
    <vt:filetime>2018-11-17T00:00:00Z</vt:filetime>
  </property>
  <property fmtid="{D5CDD505-2E9C-101B-9397-08002B2CF9AE}" pid="3" name="LastSaved">
    <vt:filetime>2018-11-17T00:00:00Z</vt:filetime>
  </property>
</Properties>
</file>