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7C0-004E-4E4D-B6F8-1E2F2C36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023-41E1-4E18-B8F1-5C4D0D10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D08-1041-4DE5-80C1-2FEB9258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E7A-9D34-4BC1-A269-6F10E7FE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AE6-30FD-4F76-AB97-732070AE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363-E227-4DDD-ACA8-75C46A40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F9E-68BA-4F3D-958E-40A419A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110-F787-4DC3-A3F3-286A85D3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E16-40FE-422B-BFD4-E770D5BD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5B0-94EE-4CBF-BF63-3646E65B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8CC-AE8D-4F97-8755-3D187CE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E52-FFDD-4E76-B875-14A3BD57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5AFB-3642-4F57-B4D4-2EF3EADE4093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8:00Z</dcterms:created>
  <dc:creator>Online2PDF.com</dc:creator>
  <dc:description/>
  <dc:language>en-US</dc:language>
  <cp:lastModifiedBy>Online2PDF.com</cp:lastModifiedBy>
  <dcterms:modified xsi:type="dcterms:W3CDTF">2018-11-17T19:38:03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