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7556500" cy="10699750"/>
  <p:notesSz cx="7556500" cy="10699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B5C2-7810-41D0-9E1F-D9E44B25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68068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49520"/>
            <a:ext cx="68068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1CE1-FEEB-4733-9606-0D3BD811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D63C-2721-4C34-BC39-1D20BCB6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6024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6024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4952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4952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4952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EE3E-A65D-4771-866A-61C6D96C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60240"/>
            <a:ext cx="680688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5C40-3C77-4DB2-BE48-D585FD50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680688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6D4E-90B4-4A32-B59C-AE4EC800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75FA-3D78-45DB-AC07-F5CD7578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13AB-8FC0-47FB-814A-97B5DABE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79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BC9F-0252-42C4-B34F-A2A1221A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47B5-2A42-4A12-A63F-1D812AD0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37D8-B6D2-480B-8445-D07B5324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49520"/>
            <a:ext cx="68068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A49A-651D-4C87-8B81-412F8CD6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60240"/>
            <a:ext cx="680688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71840" y="9950400"/>
            <a:ext cx="24192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77640" y="9950400"/>
            <a:ext cx="173988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44640" y="9950400"/>
            <a:ext cx="173988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2B1A-022C-4455-B96E-A982B3D32521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7T20:30:25Z</dcterms:created>
  <dc:creator>Online2PDF.com</dc:creator>
  <dc:description/>
  <dc:language>en-US</dc:language>
  <cp:lastModifiedBy>Online2PDF.com</cp:lastModifiedBy>
  <dcterms:modified xsi:type="dcterms:W3CDTF">2018-11-17T19:30:28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8-11-17T00:00:00Z</vt:filetime>
  </property>
  <property fmtid="{D5CDD505-2E9C-101B-9397-08002B2CF9AE}" pid="3" name="LastSaved">
    <vt:filetime>2018-11-17T00:00:00Z</vt:filetime>
  </property>
</Properties>
</file>