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7556500" cy="10699750"/>
  <p:notesSz cx="7556500" cy="10699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A88D-5A27-417A-AB35-2A9DD85F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4952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F77-B280-4ABA-BB5D-E423A0DA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071E-BB35-45B0-A238-D1106F0F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A0EC-DAA0-4421-A03D-C46E40E5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D86D-F435-4B56-B4E0-799B259E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910-E715-4C90-93D6-0D2B07F1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7862-E08A-4903-A240-948BCED0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2CC-A33C-4D00-98FF-4C77F3ED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79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A3B-841F-4603-9E4F-DE8701BD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77A1-E62D-43AC-9218-45E4E216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51D4-A9D3-4959-B2FB-6FEB23E6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980-A939-451A-A3EF-97C45E91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71840" y="9950400"/>
            <a:ext cx="24192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77640" y="995040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44640" y="995040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5D2F-DDC4-47FD-BBC4-0E8A998D2EED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7T20:32:09Z</dcterms:created>
  <dc:creator>Online2PDF.com</dc:creator>
  <dc:description/>
  <dc:language>en-US</dc:language>
  <cp:lastModifiedBy>Online2PDF.com</cp:lastModifiedBy>
  <dcterms:modified xsi:type="dcterms:W3CDTF">2018-11-17T19:32:12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8-11-17T00:00:00Z</vt:filetime>
  </property>
  <property fmtid="{D5CDD505-2E9C-101B-9397-08002B2CF9AE}" pid="3" name="LastSaved">
    <vt:filetime>2018-11-17T00:00:00Z</vt:filetime>
  </property>
</Properties>
</file>