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556500" cy="1069975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D339-48DE-44D1-B4A4-B8B71E70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60C9-F397-431A-BB52-25F75CF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61A2-EEC3-477F-921F-CB922249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6024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49520"/>
            <a:ext cx="21916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3EC-FDB0-425C-9ECC-DF6D2CE4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593-DC8E-4306-83F2-F8336A99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E590-CBCB-401E-A78D-C816FB36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984-CCA3-44CA-80CB-72A540B3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DAF8-0E2C-4F5A-BF43-A4265621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79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AE16-FE9D-4BCB-BCEA-FDCE7F58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BA4-3588-4535-AD00-33D1E4F7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4952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C21-3C6E-4C3B-A9E0-049EC01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60240"/>
            <a:ext cx="332172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9520"/>
            <a:ext cx="6806880" cy="33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1B52-593F-4F2F-B697-AE60574C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60240"/>
            <a:ext cx="6806880" cy="70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71840" y="9950400"/>
            <a:ext cx="24192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7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44640" y="9950400"/>
            <a:ext cx="173988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2512-8B4E-4FF9-9FC3-FF3B989CA406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bject 2"/>
          <p:cNvSpPr/>
          <p:nvPr/>
        </p:nvSpPr>
        <p:spPr>
          <a:xfrm>
            <a:off x="0" y="0"/>
            <a:ext cx="7562880" cy="1069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0:33:31Z</dcterms:created>
  <dc:creator>Online2PDF.com</dc:creator>
  <dc:description/>
  <dc:language>en-US</dc:language>
  <cp:lastModifiedBy>Online2PDF.com</cp:lastModifiedBy>
  <dcterms:modified xsi:type="dcterms:W3CDTF">2018-11-17T19:33:3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8-11-17T00:00:00Z</vt:filetime>
  </property>
  <property fmtid="{D5CDD505-2E9C-101B-9397-08002B2CF9AE}" pid="3" name="LastSaved">
    <vt:filetime>2018-11-17T00:00:00Z</vt:filetime>
  </property>
</Properties>
</file>