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7556500" cy="10699750"/>
  <p:notesSz cx="7556500" cy="10699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DD1-7A64-429F-A5DB-77FB85C0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4952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BFC3-0DD6-45A1-9D59-D0F7A8F7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5D09-558A-4BDB-9EBC-B2A98D91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711A-A29A-45AF-8132-51C08BF4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E5F-03D7-4C7C-8A1A-9AB47CD4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D290-DC51-4344-949E-72973066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87E-0A6D-48A1-8E3F-42F82292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2CBE-FB00-433A-A718-92BA73B2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79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62C-DFBD-41A4-AEAA-FC798E49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D2A-DE78-40CF-94D4-77719566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1471-2261-4D41-B68C-F67665DB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660-B09E-4F0E-BC8D-4981E5E0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71840" y="9950400"/>
            <a:ext cx="24192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77640" y="995040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44640" y="995040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95B9-D3C9-4DDF-8FA1-E3E5B0CD2AB3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7T20:33:31Z</dcterms:created>
  <dc:creator>Online2PDF.com</dc:creator>
  <dc:description/>
  <dc:language>en-US</dc:language>
  <cp:lastModifiedBy>Online2PDF.com</cp:lastModifiedBy>
  <dcterms:modified xsi:type="dcterms:W3CDTF">2018-11-17T19:33:34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8-11-17T00:00:00Z</vt:filetime>
  </property>
  <property fmtid="{D5CDD505-2E9C-101B-9397-08002B2CF9AE}" pid="3" name="LastSaved">
    <vt:filetime>2018-11-17T00:00:00Z</vt:filetime>
  </property>
</Properties>
</file>