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736-0B5B-495D-9C09-AFEAD481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60D-C262-4DA0-A704-C3984024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E3B-47E2-42DF-9329-3936996E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864-B8E1-4AAF-ADD2-F5A9997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6A9-A2F7-4B42-9901-177DF13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88B-0B0A-4DF5-8A41-9FFA388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F02-AB12-4A60-82AC-FC94FAEC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FAB-F076-4378-9A40-699CB56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79A-9871-47B9-B9F5-0436A04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F57-4449-4FD4-9E20-3BFD6D59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8A9-274B-4143-A9FE-CACB6B0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9E6-2C2D-4FB9-BA9A-7ECD523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069-4352-4154-B88F-381201A8D57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4:37Z</dcterms:created>
  <dc:creator>Online2PDF.com</dc:creator>
  <dc:description/>
  <dc:language>en-US</dc:language>
  <cp:lastModifiedBy>Online2PDF.com</cp:lastModifiedBy>
  <dcterms:modified xsi:type="dcterms:W3CDTF">2018-11-17T19:34:4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