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7556500" cy="10699750"/>
  <p:notesSz cx="7556500" cy="10699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904F-D167-412B-81A4-3E03DDB0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68068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49520"/>
            <a:ext cx="68068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AC62-C350-4A7F-8661-4DD281D4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4952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6040" y="614952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C805-C9BE-4000-98CD-60DFFBED5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9480" y="246024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81320" y="246024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4952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9480" y="614952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81320" y="614952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4084-8A1E-40D5-8DFE-AF995187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60240"/>
            <a:ext cx="680688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7B14-05C6-4CC1-BD51-2C55F342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680688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8448-6DD0-4B6B-9368-7F5CF0D6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FFF3-7B0E-430E-9F6F-31A9FA6E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1D47-985F-4183-869D-683509F0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6880" cy="79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8299-68F3-4ECF-9CCE-4FBD1730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4952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2182-F5B5-4C14-B9CE-93F2B0C9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6040" y="614952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45C0-D5EC-4392-BE33-41F618FD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49520"/>
            <a:ext cx="68068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D438-C65C-41D3-AD88-EF9BFB0A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60240"/>
            <a:ext cx="680688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71840" y="9950400"/>
            <a:ext cx="24192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77640" y="9950400"/>
            <a:ext cx="173988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44640" y="9950400"/>
            <a:ext cx="173988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05C3-A564-4BEE-A8B5-BCAE7A67C605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7T20:34:37Z</dcterms:created>
  <dc:creator>Online2PDF.com</dc:creator>
  <dc:description/>
  <dc:language>en-US</dc:language>
  <cp:lastModifiedBy>Online2PDF.com</cp:lastModifiedBy>
  <dcterms:modified xsi:type="dcterms:W3CDTF">2018-11-17T19:34:40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8-11-17T00:00:00Z</vt:filetime>
  </property>
  <property fmtid="{D5CDD505-2E9C-101B-9397-08002B2CF9AE}" pid="3" name="LastSaved">
    <vt:filetime>2018-11-17T00:00:00Z</vt:filetime>
  </property>
</Properties>
</file>