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925-4590-40C5-93E9-1515F48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7E1-2BA3-4A70-BD43-4919677A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8C8-56FF-4D3B-8123-9E7B0A0D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B3A-6A1C-4F66-810E-8AEF60CF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C4C-5334-48E9-8396-3788E7C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69F-D0CB-4E13-9016-50EE9562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CD4-FA53-49AD-AAE3-CEB0BED5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F97-0F3F-4515-9438-022DAE40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A49-DBE4-4112-8D3F-972F60E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320-192D-4171-8BB5-9008987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4D1-7F87-406A-958D-6D195EEE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EC4-C57F-4796-8B0C-F42CC39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D9B-128C-4212-AC1D-070AEDE8FFF9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5:29Z</dcterms:created>
  <dc:creator>Online2PDF.com</dc:creator>
  <dc:description/>
  <dc:language>en-US</dc:language>
  <cp:lastModifiedBy>SitePc</cp:lastModifiedBy>
  <dcterms:modified xsi:type="dcterms:W3CDTF">2018-11-18T07:20:49Z</dcterms:modified>
  <cp:revision>2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