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4A3-DA8D-4903-8F3A-66473812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DA8-1A46-4C45-B32F-C316AE50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FA6-FDDA-4D8D-969A-99FE65CA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753-9C49-403F-9975-16110D51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AF5-539F-452A-8D37-AD0A0BB0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CBD-8808-4704-9296-3C73BE96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A51-DB06-4ACC-BFE2-5E5108AC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878-9EA9-4BD2-A6E8-C96D3F2A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26E-22A1-4A4E-A498-21A5F4A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6B3-E0FC-4C78-834D-49E56EC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BA0-834B-4550-9CE0-E3056C1E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7D6-29E6-49CB-86DB-5E5590DE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F20F-C23C-4964-BBBD-C1D7D3DF2CE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7:19Z</dcterms:created>
  <dc:creator>Online2PDF.com</dc:creator>
  <dc:description/>
  <dc:language>en-US</dc:language>
  <cp:lastModifiedBy>Online2PDF.com</cp:lastModifiedBy>
  <dcterms:modified xsi:type="dcterms:W3CDTF">2018-11-17T19:37:21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