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B8A-DB23-4CDF-9757-2FBA79E1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E35-1879-4EA3-A17F-DFE2DF7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70D-D8AE-4248-952A-09F1BBC1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BAE-209B-46D8-B247-9DF86F04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26A-A2A9-42ED-890A-EAF085F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34A-ED9E-4505-95E0-F0BBF22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9C5-439C-4EB6-B2EF-03B8978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A83-0278-4BA7-B06B-426FF09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A2D-7742-4245-8A7F-9AB7BDCE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EDD-E78F-492E-8096-AA234EF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4AB-9328-4D1F-9984-C97EF29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2D4-4FDE-41E5-999A-B05D6D6B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6C6E-53D2-44D1-B902-AC977CA2DDB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1T17:48:54Z</dcterms:created>
  <dc:creator>Maher</dc:creator>
  <dc:description/>
  <dc:language>en-US</dc:language>
  <cp:lastModifiedBy>Maher</cp:lastModifiedBy>
  <dcterms:modified xsi:type="dcterms:W3CDTF">2018-11-11T18:35:33Z</dcterms:modified>
  <cp:revision>2</cp:revision>
  <dc:subject/>
  <dc:title>PowerPoint Presentation</dc:title>
</cp:coreProperties>
</file>