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7AAF-0DCC-471E-814A-E542E4B2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504B-B73B-40EE-A64D-AC210C09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4263-212D-4336-8BD7-9485B7F02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0676-C3D2-4A57-9D8E-13DB492A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7B53-0D81-4EE1-8C75-CDD1F090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19E1-93DC-4B13-A6AD-4B8BE203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CC45-E727-40FE-9D54-ABF47148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9C56-AE4A-44B3-9046-A20116E4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5845-3A22-4F97-A4E8-558F5470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DAF3-8F87-410A-8ACC-167F5F4E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07C0-FA24-4454-8310-F4E4380D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55F8-FD46-4E29-9F43-4767151C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5D50-22D3-48E7-A61F-B9837E90DBB4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3670200" y="0"/>
            <a:ext cx="4853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3670200" y="0"/>
            <a:ext cx="4853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3670200" y="0"/>
            <a:ext cx="4853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3670200" y="0"/>
            <a:ext cx="4853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2"/>
          <p:cNvSpPr/>
          <p:nvPr/>
        </p:nvSpPr>
        <p:spPr>
          <a:xfrm>
            <a:off x="3670200" y="0"/>
            <a:ext cx="4853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bject 2"/>
          <p:cNvSpPr/>
          <p:nvPr/>
        </p:nvSpPr>
        <p:spPr>
          <a:xfrm>
            <a:off x="3670200" y="0"/>
            <a:ext cx="4853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1T17:48:54Z</dcterms:created>
  <dc:creator>Maher</dc:creator>
  <dc:description/>
  <dc:language>en-US</dc:language>
  <cp:lastModifiedBy>Maher</cp:lastModifiedBy>
  <dcterms:modified xsi:type="dcterms:W3CDTF">2018-11-11T18:35:56Z</dcterms:modified>
  <cp:revision>2</cp:revision>
  <dc:subject/>
  <dc:title>PowerPoint Presentation</dc:title>
</cp:coreProperties>
</file>