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B93F-B3F9-474C-8A00-301A9271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4E1-DC6E-4580-8A96-0174209A2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3DE4-9B8C-412F-8340-E2F7FC0C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06E2-A040-43E0-A00D-C631C418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9EDA-B21D-4E41-BC96-239A96BF1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0C95-EB1A-45D9-A6F8-CBD1579FF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0B65-E764-4860-98D5-5B76B044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F96C-0BBF-429E-9941-CB675ED2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1FD9-5429-478C-B58E-164731FF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5CAD-08B3-4F00-B386-CF8452F5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C790-0599-4C1F-9D0E-8E1B909D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F63A-1C7C-4FE6-91A1-2F701D05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IQ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IQ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46828-BE90-4097-8F85-D2A8AAAF268D}" type="slidenum">
              <a:rPr b="0" lang="ar-IQ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object 2"/>
          <p:cNvSpPr/>
          <p:nvPr/>
        </p:nvSpPr>
        <p:spPr>
          <a:xfrm>
            <a:off x="3670200" y="0"/>
            <a:ext cx="48531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11T17:48:54Z</dcterms:created>
  <dc:creator>Maher</dc:creator>
  <dc:description/>
  <dc:language>en-US</dc:language>
  <cp:lastModifiedBy>Maher</cp:lastModifiedBy>
  <dcterms:modified xsi:type="dcterms:W3CDTF">2018-11-11T18:35:56Z</dcterms:modified>
  <cp:revision>2</cp:revision>
  <dc:subject/>
  <dc:title>PowerPoint Presentation</dc:title>
</cp:coreProperties>
</file>