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5DAA-33B5-4D00-A569-9AB167342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C186-8288-4D25-A109-9194FF79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5EE0-857E-4C18-8B5A-1FABC6B81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300A-1301-4D18-B584-36CFC072F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7F97-3EED-4236-8983-8612CBC4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C629-26F8-4B01-BE81-1AA98CAC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6460-2F87-4A8D-90D7-20E13246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E1B3-9146-413B-9B31-B59C2D25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AAAF-EE2C-48BC-BA01-44CAB56B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A9E7-5388-4F19-B67F-3E689B27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C1F4-6D86-4F47-A132-171E2B58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0198-EC84-4FF6-9845-95C4A61C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1FF3-4482-42C1-9465-0318E7A383B4}" type="slidenum">
              <a:rPr b="0" lang="ar-IQ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3670200" y="0"/>
            <a:ext cx="48531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3670200" y="0"/>
            <a:ext cx="48531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3670200" y="0"/>
            <a:ext cx="48531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2"/>
          <p:cNvSpPr/>
          <p:nvPr/>
        </p:nvSpPr>
        <p:spPr>
          <a:xfrm>
            <a:off x="3670200" y="0"/>
            <a:ext cx="48531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bject 2"/>
          <p:cNvSpPr/>
          <p:nvPr/>
        </p:nvSpPr>
        <p:spPr>
          <a:xfrm>
            <a:off x="3670200" y="0"/>
            <a:ext cx="48531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bject 2"/>
          <p:cNvSpPr/>
          <p:nvPr/>
        </p:nvSpPr>
        <p:spPr>
          <a:xfrm>
            <a:off x="3670200" y="0"/>
            <a:ext cx="48531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ject 2"/>
          <p:cNvSpPr/>
          <p:nvPr/>
        </p:nvSpPr>
        <p:spPr>
          <a:xfrm>
            <a:off x="3670200" y="0"/>
            <a:ext cx="48531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11T17:48:54Z</dcterms:created>
  <dc:creator>Maher</dc:creator>
  <dc:description/>
  <dc:language>en-US</dc:language>
  <cp:lastModifiedBy>Maher</cp:lastModifiedBy>
  <dcterms:modified xsi:type="dcterms:W3CDTF">2018-11-11T18:36:29Z</dcterms:modified>
  <cp:revision>2</cp:revision>
  <dc:subject/>
  <dc:title>PowerPoint Presentation</dc:title>
</cp:coreProperties>
</file>